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2C8-7F8F-43CA-AC7C-764CAB90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D50-F945-43D0-BF11-DF150260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ECA-2927-48F9-8A0D-3AA5E57A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634-96DE-4E99-8774-C8C80F28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F63-A524-4E36-8E5D-C6AC1E05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C00-47D1-4522-A36F-A726A6A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1F5-3F60-4DAE-A2A3-142B0D9F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66E-0EC8-4698-A99C-6470C6F3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CF0-D3E6-419A-A7DD-4E1E9436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A47-85A4-42E6-A6F4-FE7CBB88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CFA-5B06-43AE-8338-BB0A8E0A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409-604B-4885-AF2F-1E47E177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D28-1D6E-4474-AF84-91614FF4C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hruvd@huawei.com" TargetMode="External"/><Relationship Id="rId2" Type="http://schemas.openxmlformats.org/officeDocument/2006/relationships/hyperlink" Target="mailto:dhruvd@huawei.com" TargetMode="External"/><Relationship Id="rId3" Type="http://schemas.openxmlformats.org/officeDocument/2006/relationships/hyperlink" Target="mailto:zali@cisco.com" TargetMode="External"/><Relationship Id="rId4" Type="http://schemas.openxmlformats.org/officeDocument/2006/relationships/hyperlink" Target="mailto:tsaad@cisco.com" TargetMode="External"/><Relationship Id="rId5" Type="http://schemas.openxmlformats.org/officeDocument/2006/relationships/hyperlink" Target="mailto:msiva@cisco.com" TargetMode="External"/><Relationship Id="rId6" Type="http://schemas.openxmlformats.org/officeDocument/2006/relationships/hyperlink" Target="mailto:daniel@olddog.co.uk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PCE-based Computation Procedure To Compute Shortest Constrained P2MP Inter-domain TE LS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ietf-pce-pcep-inter-domain-p2mp-procedures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914400" y="3733920"/>
            <a:ext cx="7696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Quintin Zhao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quintin.zhao@huawei.com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Dhruv Dhody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dhruv.dhody@huawei.com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Zafar Ali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3"/>
              </a:rPr>
              <a:t>zali@cisco.com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Tarek Saad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4"/>
              </a:rPr>
              <a:t>tsaad@cisco.com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iva Sivabalan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5"/>
              </a:rPr>
              <a:t>msiva@cisco.com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Daniel King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6"/>
              </a:rPr>
              <a:t>daniel@olddog.co.uk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Ramon Casellas (ramon.casellas@cttc.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ew author Dhruv Dhody has joined thi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Also provided implementation feedba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Clarification of Core-Tree, Domain-Tree technique have been added along with updated fig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Updates  on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Core-tree procedure for OF as SP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omain-Sequence and PCE-Sequ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Protec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Editorial changes and rea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Demo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Computation of Cor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Grafting of Leaf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Path Key for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Current mechanism computes inter-domain P2MP LSPs as described in th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dentified for further discu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omain Tree Representation as suggested in [DOMAIN-SEQ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omain Sequence encoding Per Destination [PER-D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authors request WG experts to review and com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authors would like to see if other vendors have or are considering to imp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authors will stabilize the document and look to complete the work by IETF 8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daniel.king</cp:lastModifiedBy>
  <dcterms:modified xsi:type="dcterms:W3CDTF">2011-11-17T03:27:56Z</dcterms:modified>
  <cp:revision>74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aYeIXwpyUD9m8/VzLYpDNf/Hds++k0v9cgoJEkhOPNu9FkRtrhCXx/AX2yiQ/werM2ygV80T
Rr86bbaZZadSeh+0z06JFYhvKuNwhaOpEGhg80LvjwctQkNoHZzOh4YKx0AErU1cr/8eB/A1
9HQY5yV/rp0wI2F245QYiA8FOnJU8aSPwhNOq6Lsh1yB2EO0CLKbA3AUUA4M4cV9gyOjXYLR
XOIYoNOv93lYqJMcXEb+0</vt:lpwstr>
  </property>
  <property fmtid="{D5CDD505-2E9C-101B-9397-08002B2CF9AE}" pid="3" name="_ms_pID_7253431">
    <vt:lpwstr>WFiKumpqowEq+aPicrfrHgN572ZvAhENF+1ndEd2XpGEeShQG8B
uWPgISeRggSIcpaKCyTcpz0pmaw6l3a5CZDFqiyBwaNCkJ+AmKO8GI6eEYEUwYlxXmp6O33i
0o5ugWXnxdeavhqZfE+2ThLX/RVUlICsxVF1RQOF9/fRWzdLONkctPl8HRsmz29Ut6k=</vt:lpwstr>
  </property>
  <property fmtid="{D5CDD505-2E9C-101B-9397-08002B2CF9AE}" pid="4" name="sflag">
    <vt:lpwstr>1320057468</vt:lpwstr>
  </property>
</Properties>
</file>