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DA4-E1F8-4949-847A-650DEFCC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A0C-0AD3-4AB4-94C9-336F106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27C-C702-463C-931B-429C876F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99-CBE9-4B88-98B1-3BE0819E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9A0-ABAF-42A1-A4F5-695DEB3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12B-72C4-464D-B5E1-D6397F2B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FBE-93E7-4E20-BA7B-5FFC8B56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911-D9EA-4AC8-A742-5AEC846F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A28-EDC0-4A0A-BC57-B9BC8B5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79E-8A4A-457B-9351-208959A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521-38AF-4829-B97D-A4A705C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786-8568-435F-A32E-6283D47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7438-40D7-4885-8AFF-4F06FB0D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dhruvd@huawei.com" TargetMode="External"/><Relationship Id="rId3" Type="http://schemas.openxmlformats.org/officeDocument/2006/relationships/hyperlink" Target="mailto:zali@cisco.com" TargetMode="External"/><Relationship Id="rId4" Type="http://schemas.openxmlformats.org/officeDocument/2006/relationships/hyperlink" Target="mailto:tsaad@cisco.com" TargetMode="External"/><Relationship Id="rId5" Type="http://schemas.openxmlformats.org/officeDocument/2006/relationships/hyperlink" Target="mailto:msiva@cisco.com" TargetMode="External"/><Relationship Id="rId6" Type="http://schemas.openxmlformats.org/officeDocument/2006/relationships/hyperlink" Target="mailto:daniel@olddog.co.uk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-based Computation Procedure To Compute Shortest Constrained P2MP Inter-domain TE LS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ietf-pce-pcep-inter-domain-p2mp-procedures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733920"/>
            <a:ext cx="7696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Quintin Zhao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quintin.zhao@huawei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dhruv.dhody@huawei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Zafar Ali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3"/>
              </a:rPr>
              <a:t>zali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arek Saad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4"/>
              </a:rPr>
              <a:t>tsaad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iva Sivabala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5"/>
              </a:rPr>
              <a:t>msiva@cisco.com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Daniel King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ndara"/>
                <a:hlinkClick r:id="rId6"/>
              </a:rPr>
              <a:t>daniel@olddog.co.uk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amon Casellas (ramon.casellas@cttc.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ew author Dhruv Dhody has joined thi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Also provided implementation feedb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larification of Core-Tree, Domain-Tree technique have been added along with updated fig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Updates  on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re-tree procedure for OF as S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-Sequence and PCE-Sequ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rotec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Editorial changes and 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Demo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mputation of Cor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Grafting of Lea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ath Key for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urrent mechanism computes inter-domain P2MP LSPs as described i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dentified for further 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 Tree Representation as suggested in [DOMAIN-SEQ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omain Sequence encoding Per Destination [PER-D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request WG experts to review and com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ould like to see if other vendors have or are considering to imp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ill stabilize the document and look to complete the work by IETF 8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aniel.king</cp:lastModifiedBy>
  <dcterms:modified xsi:type="dcterms:W3CDTF">2011-11-17T03:27:56Z</dcterms:modified>
  <cp:revision>74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aYeIXwpyUD9m8/VzLYpDNf/Hds++k0v9cgoJEkhOPNu9FkRtrhCXx/AX2yiQ/werM2ygV80T
Rr86bbaZZadSeh+0z06JFYhvKuNwhaOpEGhg80LvjwctQkNoHZzOh4YKx0AErU1cr/8eB/A1
9HQY5yV/rp0wI2F245QYiA8FOnJU8aSPwhNOq6Lsh1yB2EO0CLKbA3AUUA4M4cV9gyOjXYLR
XOIYoNOv93lYqJMcXEb+0</vt:lpwstr>
  </property>
  <property fmtid="{D5CDD505-2E9C-101B-9397-08002B2CF9AE}" pid="3" name="_ms_pID_7253431">
    <vt:lpwstr>WFiKumpqowEq+aPicrfrHgN572ZvAhENF+1ndEd2XpGEeShQG8B
uWPgISeRggSIcpaKCyTcpz0pmaw6l3a5CZDFqiyBwaNCkJ+AmKO8GI6eEYEUwYlxXmp6O33i
0o5ugWXnxdeavhqZfE+2ThLX/RVUlICsxVF1RQOF9/fRWzdLONkctPl8HRsmz29Ut6k=</vt:lpwstr>
  </property>
  <property fmtid="{D5CDD505-2E9C-101B-9397-08002B2CF9AE}" pid="4" name="sflag">
    <vt:lpwstr>1320057468</vt:lpwstr>
  </property>
</Properties>
</file>