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1CE-6E3D-422F-8BFA-54A8249C80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330F-F3CF-4542-BCCA-884B71A086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945-A50F-436D-88A8-08E6CBED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1A2-2021-4E5B-B8E5-292A600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459-7C37-4027-8DFB-1D4C3D58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35D-D631-44C6-B5F7-85A0CED2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310-DACC-42CE-9AF3-B06CA37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34A-8B1A-45DC-8C61-C9A998D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148-9AEC-40E7-84E2-6DB65430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718-5CE6-4FB7-9C85-34F8566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034-C320-48DD-B043-9568982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155-2868-4613-B40C-2791E76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7BD-0DEF-4D46-85EA-C495404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040-063B-40BF-9D0B-1372717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340C-C4CA-411F-8B9C-F8A96D215D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Application of the Path Computation Element Architecture to the Determination of a Sequence of Domains in MPLS &amp; GMPLS</a:t>
            </a:r>
            <a:br>
              <a:rPr sz="2800"/>
            </a:br>
            <a:br>
              <a:rPr sz="2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ietf-pce-hierarchy-fwk-00.tx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07152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iel King, Old Dog Consu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rian Farrel, Old Dog Consu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Quintin Zhao, Huawei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atai Zhang, Huawei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ical PCE (Reca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rent PCE maintains a topology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odes are the Child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p contains the inter-domain li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E capabilities of the links are also 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ent PCE knows the identify and location of the child PCEs responsible for the Child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cally configu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main confidentia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ent PCE is aware of the topology and connections between domains, but is not aware of the contents of the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domains are completely confident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e child cannot know the topology of another Chi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ild domains do not know the general domain mesh connec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-domain Path Comp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Domain Path is Not 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ON architecture (G-7715-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-PCE mechanism fits well within the ASON routing archite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ple Routing Are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-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P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h computation across multi-area networks consisting of a backbone area and various peripher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-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 over Optic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tus /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vely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orough reviews always welc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ution draft now ex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raft-zhang-pce-hierarchy-exten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CE TE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Re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h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it resolution of relevant open issues in the solution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 “Use Case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 to develop a scalability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IETF 82 -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13:23Z</dcterms:created>
  <dc:creator>DK</dc:creator>
  <dc:description/>
  <dc:language>en-US</dc:language>
  <cp:lastModifiedBy>daniel.king</cp:lastModifiedBy>
  <dcterms:modified xsi:type="dcterms:W3CDTF">2011-11-16T03:13:05Z</dcterms:modified>
  <cp:revision>289</cp:revision>
  <dc:subject/>
  <dc:title>Extensions to the Path Computation Element Communication Protocol (PCEP) for Point-to-Multipoint Traffic Engineering Label Switched Paths    draft-ietf-pce-pcep-p2mp-extensions-04.t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8449132</vt:lpwstr>
  </property>
</Properties>
</file>