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C266-6626-4862-943F-A8BFCD4FB6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FF4A-7D3F-42B0-932B-1762C15C21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912-A399-4FB5-888A-C9F76AEF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821-E226-47BD-90A5-1F29D5E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ABC-952B-46AB-AE0B-279BA667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9F5-38A6-4AD7-9A64-F86CF049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190-D6E7-4142-940B-B89E89B0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C93-DC50-42AD-8967-419669C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54D-5466-45A3-9968-7190FEE8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01A-BEA4-4EE0-8971-9D0C189C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4E6-7B8C-42A9-BA96-B7F0DA39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B5A-B6A9-4E34-BA0A-8661AB1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055-AABE-409F-A9D0-EF2910A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67B-554A-4915-B501-8BEDC08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BC27-9F32-47C8-B5E5-CF6A189C27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Application of the Path Computation Element Architecture to the Determination of a Sequence of Domains in MPLS &amp; GMPLS</a:t>
            </a:r>
            <a:br>
              <a:rPr sz="2800"/>
            </a:br>
            <a:br>
              <a:rPr sz="2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-ietf-pce-hierarchy-fwk-00.tx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07152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iel King, Old Dog Consu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rian Farrel, Old Dog Consu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Quintin Zhao, Huawei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atai Zhang, Huawei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ical PCE (Reca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rent PCE maintains a topology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odes are the Child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p contains the inter-domain li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E capabilities of the links are also kn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ent PCE knows the identify and location of the child PCEs responsible for the Child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cally configu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main confidentia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ent PCE is aware of the topology and connections between domains, but is not aware of the contents of the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domains are completely confident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e child cannot know the topology of another Chi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ild domains do not know the general domain mesh connec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-domain Path Comp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Domain Path is Not Kn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ON architecture (G-7715-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-PCE mechanism fits well within the ASON routing archite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ple Routing Are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-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P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h computation across multi-area networks consisting of a backbone area and various peripher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-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 over Optic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atus /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vely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orough reviews always welc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ution draft now ex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raft-zhang-pce-hierarchy-exten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CE TE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 Re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h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it resolution of relevant open issues in the solution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 “Use Cases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k to develop a scalability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13:23Z</dcterms:created>
  <dc:creator>DK</dc:creator>
  <dc:description/>
  <dc:language>en-US</dc:language>
  <cp:lastModifiedBy>daniel.king</cp:lastModifiedBy>
  <dcterms:modified xsi:type="dcterms:W3CDTF">2011-11-16T03:13:05Z</dcterms:modified>
  <cp:revision>289</cp:revision>
  <dc:subject/>
  <dc:title>Extensions to the Path Computation Element Communication Protocol (PCEP) for Point-to-Multipoint Traffic Engineering Label Switched Paths    draft-ietf-pce-pcep-p2mp-extensions-04.t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8449132</vt:lpwstr>
  </property>
</Properties>
</file>