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D44-45B6-4B17-BC0C-F154863B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80D-CDBD-418C-AF2E-1D0F9B44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3AD-A015-4564-B611-5786904F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21B-04FB-4DE0-B263-1659B66D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D46-334A-4928-84D7-8FBBA2EE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91A-3908-4994-BB58-C4214097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3BE-9523-4D54-A1E9-1E131902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09D-E106-4D77-AAD3-840C0EE4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89B-99BC-4675-8980-2917E74A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BAA-88AD-487D-8727-07457056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E16-1643-46EF-94AA-8F9A8DB7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B8D-030B-4DFB-B6C2-D96FA065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46C0-5F50-46B0-BF58-01076C14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hruvd@huawei.com" TargetMode="External"/><Relationship Id="rId2" Type="http://schemas.openxmlformats.org/officeDocument/2006/relationships/hyperlink" Target="mailto:udayasreepalle@huawei.com" TargetMode="External"/><Relationship Id="rId3" Type="http://schemas.openxmlformats.org/officeDocument/2006/relationships/hyperlink" Target="mailto:ramon.casellas@cttc.es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ndara"/>
              </a:rPr>
              <a:t>Standard Representation Of Domain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dhody-pce-pcep-domain-sequence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85800" y="45720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hruv Dhod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dhruv.dhody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Udayasree Palle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udayasreepalle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Ramon Casellas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3"/>
              </a:rPr>
              <a:t>ramon.casellas@cttc.e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from -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Support for 4-Byte A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33520" y="2895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Updates in OSPF/ISIS Sub-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131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579132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3"/>
          <a:stretch/>
        </p:blipFill>
        <p:spPr>
          <a:xfrm>
            <a:off x="1752480" y="4648320"/>
            <a:ext cx="57834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Open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1447920"/>
            <a:ext cx="74674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Encoding of Doma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(1) Keep the RFC5440 IRO object (Object class 10, object type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Current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(2) New IRO object (Object class 10, object type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Better Application of Rules w.r.t domain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Sub-Object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Different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Mode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Strict v/s Lo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(3) New DOMAIN-SEQUENC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** Authors feel Option-2 is the way to go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Open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762120" y="1447920"/>
            <a:ext cx="7467480" cy="43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Boundary Nodes &amp; Links a part of Domain-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Should additional constraints/restrictions be part of Domain-Sequenc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ABR and AS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Inter-AS TE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Formal RBNF specification for Domain-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Draft currently mentions multiple deployment scenarios and how the sub-objects (AS/Area) will be encoded in the IR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RBNF is generally used to define Messages and not Ob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Does WG has a comment on using RBNF to define Domain-Sequ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Resolve Open Issues and update new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Request all authors of inter-domain (P2P / P2MP / HPCE) IDs to give com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d70584</cp:lastModifiedBy>
  <dcterms:modified xsi:type="dcterms:W3CDTF">2011-11-04T09:59:38Z</dcterms:modified>
  <cp:revision>52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XlC1lJAosGePCSVXMMATg69g/78MlZI4NODRWSs68NczDZJLDmKTrqX+tgU0YjewNHbFatiI
kj6gbqOMgIO/4t+mFoKIR4qzLCHGumwLBkEhXdMEKFBRIYSUqtgEqsb622Rhr0Fde+V5kstI
oUTAZxB+dR8rwnkaF2l8Y5uWX2CJ8KdfPpHj6Yym86TBp/rTIkYlHxtiEbs4DE3MP8waP01K
WbeZchTmfDjLZJHPNUiKQ</vt:lpwstr>
  </property>
  <property fmtid="{D5CDD505-2E9C-101B-9397-08002B2CF9AE}" pid="3" name="_ms_pID_7253431">
    <vt:lpwstr>2arFejsYwYbPYvYt4SYEXbFuTha6ubgLSOf+gzKK2FTCv1hx5hs
C4ICnzgsKIPl9405rfg0MMYnkFzLctNef25yUJF3ywR7li+gSUW8dE006rQaOUCBrQsl6rPf
AraYxZsGC2u7/i78MOsx8rbYWPGRk0Q98y+C7ImiwuCFiiHdajVd8wXQtaFkoLd+S8E=</vt:lpwstr>
  </property>
  <property fmtid="{D5CDD505-2E9C-101B-9397-08002B2CF9AE}" pid="4" name="sflag">
    <vt:lpwstr>1320380797</vt:lpwstr>
  </property>
</Properties>
</file>