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350-DC37-4A10-A10D-1C34E451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559-603A-4980-9195-284718AC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401-7877-4897-A6FA-EF9890C9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92E-7A27-4E1C-AF8C-64B1203C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0F7-CF75-4FB0-A66D-50604CA7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9DF-EC02-4476-9B73-EF3866D1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E31-2E17-4F28-BDE5-F0031D7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C31-9F35-4D3F-9661-D67A92D2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41B-9A91-4697-B3B3-D5459E0F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12E-3898-4B58-9348-6FB9660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BAB-5B72-439C-8383-9B1FEA3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75C-02F2-4F9C-A528-02CAA5B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DAD-AD57-4C3A-AC53-1CA07DE9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udayasreepalle@huawei.com" TargetMode="External"/><Relationship Id="rId3" Type="http://schemas.openxmlformats.org/officeDocument/2006/relationships/hyperlink" Target="mailto:ramon.casellas@cttc.es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ndara"/>
              </a:rPr>
              <a:t>Standard Representation Of Domai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domain-sequence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85800" y="45720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.dhody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ayasree Palle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udayasreepalle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Ramon Casella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3"/>
              </a:rPr>
              <a:t>ramon.casellas@cttc.e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from -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upport for 4-Byte A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33520" y="2895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Updates in OSPF/ISIS Sub-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131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79132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57834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Ope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1447920"/>
            <a:ext cx="74674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Encoding of Doma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(1) Keep the RFC5440 IRO object (Object class 10, object typ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Current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(2) New IRO object (Object class 10, object type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Better Application of Rules w.r.t doma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Sub-Object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Different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Mode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Strict v/s Lo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(3) New DOMAIN-SEQUENC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** Authors feel Option-2 is the way to go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Ope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762120" y="1447920"/>
            <a:ext cx="7467480" cy="43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Boundary Nodes &amp; Links a part of Domain-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Should additional constraints/restrictions be part of Domain-Sequen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ABR and AS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Inter-AS TE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Formal RBNF specification for Domain-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Draft currently mentions multiple deployment scenarios and how the sub-objects (AS/Area) will be encoded in the IR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RBNF is generally used to define Messages and not Ob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宋体"/>
              </a:rPr>
              <a:t>Does WG has a comment on using RBNF to define Domain-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esolve Open Issues and update new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equest all authors of inter-domain (P2P / P2MP / HPCE) IDs to give com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11-04T09:59:38Z</dcterms:modified>
  <cp:revision>52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XlC1lJAosGePCSVXMMATg69g/78MlZI4NODRWSs68NczDZJLDmKTrqX+tgU0YjewNHbFatiI
kj6gbqOMgIO/4t+mFoKIR4qzLCHGumwLBkEhXdMEKFBRIYSUqtgEqsb622Rhr0Fde+V5kstI
oUTAZxB+dR8rwnkaF2l8Y5uWX2CJ8KdfPpHj6Yym86TBp/rTIkYlHxtiEbs4DE3MP8waP01K
WbeZchTmfDjLZJHPNUiKQ</vt:lpwstr>
  </property>
  <property fmtid="{D5CDD505-2E9C-101B-9397-08002B2CF9AE}" pid="3" name="_ms_pID_7253431">
    <vt:lpwstr>2arFejsYwYbPYvYt4SYEXbFuTha6ubgLSOf+gzKK2FTCv1hx5hs
C4ICnzgsKIPl9405rfg0MMYnkFzLctNef25yUJF3ywR7li+gSUW8dE006rQaOUCBrQsl6rPf
AraYxZsGC2u7/i78MOsx8rbYWPGRk0Q98y+C7ImiwuCFiiHdajVd8wXQtaFkoLd+S8E=</vt:lpwstr>
  </property>
  <property fmtid="{D5CDD505-2E9C-101B-9397-08002B2CF9AE}" pid="4" name="sflag">
    <vt:lpwstr>1320380797</vt:lpwstr>
  </property>
</Properties>
</file>