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EA93-CEF4-474E-95DB-65B620A85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2D6A-1AFF-4DBE-A24B-D69B35DF4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203B-A8AF-42EF-B7C3-EEA065CEE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B64B-1DFD-487E-A57A-FAE703DBD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C396-EA97-427A-99CA-FE95C74F9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C63E-F871-4659-9092-D101A643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7665-C330-4340-87BD-CFD9BBBEE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CAA-DE30-4465-AB3D-BF5F433F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64C-AA6F-45D4-BFA9-F4FFE410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512-51A0-4259-8BF2-E7C5CE0A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14A-8005-4A21-BF07-60FA4CA9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4214-39A8-4DCC-8CF4-AAE6F3CD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3AA7-E26C-4613-B6A4-000D7597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5B65-2D47-4C8E-942E-963A5618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55AF-B171-4153-B6B5-3380C11D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FEEE-EED8-4505-961E-FB502BCC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664D-EDDB-4227-90C1-B1BF99A5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DF19-9C5D-4A0E-A9B8-7A5757FF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32B-1E3C-45EB-BA42-76A34228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5103-CC07-4E06-B43E-50B8E629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B9AF-7268-450E-A0AC-464D88C1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F3FB-4B56-4F30-A659-80F2C429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140F-A3E0-4B99-82FA-92867BA8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C8E0-7C6C-40BB-8F3F-E51C115D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FD96-5A17-4DB9-B0A2-E06B3BC6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B0B5-EF90-47F0-A891-453708B3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7694-B392-4625-9407-5A127C28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A68F-3A79-458C-837F-61039BA3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55CC-D48A-4699-B424-E3A4938D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003-D3ED-425E-9958-00C046DF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FF9E-1B65-4F80-8EB6-2DFC9E17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22C8-3443-4A18-8715-CE6CA74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69CE4-CC99-452C-AEC0-E02F987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D2DB-F659-4228-B75C-AEC60787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9925D-8813-4E03-8A9B-285AAAF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3D20-9DAB-4D62-A836-590F1487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99A9-A7CA-4E65-813F-2EB9E2F6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5918C-BD9B-4EFA-B554-B170243A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ED539-1CD8-4EC9-AB56-9BBC20ED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B75A2-1F67-4E82-91C8-9B206E94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BB8-ECD4-47F6-BE61-0CAF6B0F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69FA-78F7-4A81-AFBB-25D463E0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245CC-4ABD-4DBB-BF79-F52A278C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E771-9686-4C4C-8946-3B999BFC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D8DC-D572-408F-9AAB-151C6C6F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8CF03-9614-41EA-B0FD-D7ACAF7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0777-EED0-43D6-9D68-5893DFF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0562-8391-456B-A1E8-580892A5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58C5-18E9-469F-81B0-95E25BE2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D6C1-7D5C-47EE-AE94-79F26B99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337-531B-4CFC-A0E1-D434B141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288-3B84-40DF-AEA6-F020DF17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177-FC83-4A7F-9682-85C268D1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14B-E7D8-4648-BF01-CE64BDA1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920-9880-4E95-BC3A-4D707DCF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F17E-B4DE-4C16-8188-23FC7E314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02BC-728E-4A0B-B947-B67701E3E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61BA-7DF4-4D17-80B2-D3CAB33C8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B839-A086-40AF-A674-C76003817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Redirec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 82, Taip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hange Log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presented to IETF in IETF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ed as WG document after IETF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d name to ECMP Redirect (many thanks to Jeffrey from Junip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401E-41FA-48D1-AE06-C1CC22C1B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Redirec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ECMP RPF selection is downstream driven using address 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es not consider load, cannot handle sticky RPF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mechanism in PIM to “Assert” between different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MP Redirect message is proposed to improve control of RPF path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 by upstream routers to “recommend” a different path based on load, administrative preference or other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downstream routers to use information such as available bandwidth to choose an RPF neighb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944C-1306-49D3-99EB-8AE93CCF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Redirec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iggered by PIM 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 in a different subnet (used to choose a path, instead of an RPF neighbo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“non-routing” metric (uptime, bandwidth etc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PIM Hello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EC1C-2906-47BF-9754-BD204C792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Going forward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A numbers requested (not granted y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CM Redirect Hello Option: 32 (0x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CMP Message Type: 11 (0x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siting IANA PIM registry requir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s would like to request WG Last 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DCE-FEC4-4928-9C99-8AC870E34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8:58:40Z</dcterms:created>
  <dc:creator>hou</dc:creator>
  <dc:description/>
  <cp:keywords/>
  <dc:language>en-US</dc:language>
  <cp:lastModifiedBy>Yiqun Cai</cp:lastModifiedBy>
  <cp:lastPrinted>2003-01-09T21:51:38Z</cp:lastPrinted>
  <dcterms:modified xsi:type="dcterms:W3CDTF">2011-11-09T18:25:13Z</dcterms:modified>
  <cp:revision>137</cp:revision>
  <dc:subject/>
  <dc:title>IETF 80 PI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isco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