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0577-4703-454C-AEBD-1D6E9E2A8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158F-FC29-41AD-B190-F89B8741E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13B5-E817-42AF-B1A0-B40AB1DE3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DC1D-89EE-4018-868D-6742A5E8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F42C-B897-4E01-810B-377934B9C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1AB0-061F-4BE8-938E-EDA487AFE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6303-1945-49C5-9E8D-EBBEB46B7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802-4E50-4C44-B748-9C32AE82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53F-487A-490A-B0A1-BEADDE67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2F6-BCEB-4B0F-97C0-B3413A9A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692-6E6F-4431-9066-DA5132AF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1D8E-2E1C-48C2-BD09-A9ED3ADE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A993-9844-4E1E-AF55-90F66E54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426-F811-4DB0-9C7D-72B1C110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4D1A-E27C-490B-8292-108AD1A0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A1BF-FC12-4865-ACAD-E739896A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6215-CDA8-43B8-9FB3-2AA12DF5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8C75-603A-4532-A9E2-95481FD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DF3-0EBC-4219-81E2-31EEA2DC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3F34-A5E5-4EA2-8C59-E773F85F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DD5D-3991-48EF-9C0B-5A937BF6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7DAB-CDC9-4A31-BBA6-2686903D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295B-42C6-486E-88D5-B6C15DB0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4294-9079-41BF-9A4B-48FE6AAF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68E3-EE4B-4F73-8253-65F1CB86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AF00-B82D-4658-B5F5-F551443B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73E3-D3FF-407D-8835-2C51E11F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6833-DF8E-4D06-9158-C5FEE97A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7085-960C-4612-866E-EA8989D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3E6-D1D7-41BE-A987-60864984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8C3D-1C78-4ECA-85A1-7A5850AD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6A9B4-1C15-4F5D-AB7B-CED538E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4CD3-EE03-4601-AD89-7585CB62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825E-2F72-4C3C-9014-0C9D0A3C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93FA-EBD3-4CC6-B4B1-859581F7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C764-E79F-4DEC-BD37-310E5E17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B999-4309-4567-904C-574E40AA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B22B-7172-4C0D-9041-C0384ACA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ADC9-8B7D-4BB5-8EC5-05F17BAF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7A55-72C1-4107-8F1E-C0EA9065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262-3946-4D19-8EF6-A85D4CE1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96FC-E8B0-4989-957C-F4074D45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737F-D56F-4D54-AF9F-492C821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06712-0A8B-4243-B708-349BBA4C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38E6-E80C-417C-9EF1-C36905EF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EC376-CEFA-4FFB-A5BE-8719301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61AD-2364-4E11-84AE-8F48053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DAAD-9AE2-4DC3-A4EB-2F7E20C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DD50-57CE-4977-9ED1-4E293731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DEB1-7EB5-4807-AD95-83D41C97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4DF-7CA3-49DA-8574-9D7EA488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800-A1EE-4F12-9556-3E990025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CBD-1A80-468D-85C0-191456A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4DE-7E1A-48C1-9540-957A7FC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173-062C-4937-BDC8-DB1B374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3DC7-6AAA-427D-B3DA-B7333920B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A804-A894-4E90-BA49-24390B0BB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06B5-6E70-4814-BCEA-55249E2C9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2DA3-D310-42D1-B961-B89605B98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Redirec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 82, Taip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hange Log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resented to IETF in IETF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as WG document after IETF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d name to ECMP Redirect (many thanks to Jeffrey from Junip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DDF5-5C7D-4526-B33D-27EC91CBF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Redirec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ECMP RPF selection is downstream driven using address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es not consider load, cannot handle sticky RPF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mechanism in PIM to “Assert” between different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P Redirect message is proposed to improve control of RPF path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 by upstream routers to “recommend” a different path based on load, administrative preference or other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downstream routers to use information such as available bandwidth to choose an RPF neighb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C912-D155-4109-94CC-5E2694CD0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ECMP Redirec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ggered by PIM 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 in a different subnet (used to choose a path, instead of an RPF neighbo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“non-routing” metric (uptime, bandwidth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IM Hello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10A3-8F1D-4D69-B3DE-CA3C3BCF9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Going forward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A numbers requested (not granted y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CM Redirect Hello Option: 32 (0x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CMP Message Type: 11 (0x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siting IANA PIM registry requir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s would like to request WG Last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21D3-6BE3-4849-A8D1-1F0D0C89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8:58:40Z</dcterms:created>
  <dc:creator>hou</dc:creator>
  <dc:description/>
  <cp:keywords/>
  <dc:language>en-US</dc:language>
  <cp:lastModifiedBy>Yiqun Cai</cp:lastModifiedBy>
  <cp:lastPrinted>2003-01-09T21:51:38Z</cp:lastPrinted>
  <dcterms:modified xsi:type="dcterms:W3CDTF">2011-11-09T18:25:13Z</dcterms:modified>
  <cp:revision>137</cp:revision>
  <dc:subject/>
  <dc:title>IETF 80 PI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isco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