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1658A-7716-425C-AD8C-BA275A5EC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4DD86-AA27-43B2-B1EF-6A9BE0241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E4522-725D-4BF0-A8F5-3A5528712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CCA92-4081-4D53-95E0-0AB40B00D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D819C-7255-4BCF-B4B2-F383ACD09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8D97B-CE9F-44AA-9100-3FB342C58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9A6C5-80BA-4EE7-A386-BC6C65469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6F550-FE9A-41E9-8B4D-AA42BE2FC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4824A-F679-40DD-9871-953A32278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112A7-1A58-4FAD-AE7C-181FBC232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E39A4-A1C3-45B8-BE9F-B7C0080A6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E4175-1B7B-4EF2-8E8F-2B3A37A98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C3E9-6DB5-44C2-AD90-CBA39F27C627}"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49160" y="1235160"/>
            <a:ext cx="8661600" cy="15336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ea typeface="宋体"/>
              </a:rPr>
              <a:t>RFC4601 Implementation &amp; Deployment Survey</a:t>
            </a:r>
            <a:endParaRPr b="0" lang="en-US" sz="4900" spc="-1" strike="noStrike">
              <a:solidFill>
                <a:srgbClr val="000000"/>
              </a:solidFill>
              <a:latin typeface="Times New Roman"/>
            </a:endParaRPr>
          </a:p>
        </p:txBody>
      </p:sp>
      <p:sp>
        <p:nvSpPr>
          <p:cNvPr id="42" name="PlaceHolder 2"/>
          <p:cNvSpPr>
            <a:spLocks noGrp="1"/>
          </p:cNvSpPr>
          <p:nvPr>
            <p:ph type="subTitle"/>
          </p:nvPr>
        </p:nvSpPr>
        <p:spPr>
          <a:xfrm>
            <a:off x="1511280" y="3690720"/>
            <a:ext cx="7137360" cy="2523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Taipei, Nov 2011</a:t>
            </a:r>
            <a:endParaRPr b="0" lang="en-US" sz="4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   </a:t>
            </a:r>
            <a:r>
              <a:rPr b="0" lang="en-US" sz="3100" spc="-1" strike="noStrike">
                <a:solidFill>
                  <a:srgbClr val="000000"/>
                </a:solidFill>
                <a:latin typeface="Arial"/>
                <a:ea typeface="宋体"/>
              </a:rPr>
              <a:t>Vero Zheng (Huawei)</a:t>
            </a:r>
            <a:endParaRPr b="0" lang="en-US" sz="31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Jeffrey Zhang (Juniper)</a:t>
            </a:r>
            <a:endParaRPr b="0" lang="en-US" sz="31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Rishabh Parekh (Cisco)</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355320"/>
            <a:ext cx="91692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ea typeface="宋体"/>
              </a:rPr>
              <a:t>Motivations</a:t>
            </a:r>
            <a:endParaRPr b="0" lang="en-US" sz="4900" spc="-1" strike="noStrike">
              <a:solidFill>
                <a:srgbClr val="000000"/>
              </a:solidFill>
              <a:latin typeface="Times New Roman"/>
            </a:endParaRPr>
          </a:p>
        </p:txBody>
      </p:sp>
      <p:sp>
        <p:nvSpPr>
          <p:cNvPr id="44" name="PlaceHolder 2"/>
          <p:cNvSpPr>
            <a:spLocks noGrp="1"/>
          </p:cNvSpPr>
          <p:nvPr>
            <p:ph type="subTitle"/>
          </p:nvPr>
        </p:nvSpPr>
        <p:spPr>
          <a:xfrm>
            <a:off x="495360" y="1828800"/>
            <a:ext cx="9169200" cy="522144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Advancing PIM specification from Proposed Standard to Draft Standard</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Implementation &amp; Deployment Report requested by IESG</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As supporting document</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95360" y="355320"/>
            <a:ext cx="91692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ea typeface="宋体"/>
              </a:rPr>
              <a:t>Work &amp; Plan</a:t>
            </a:r>
            <a:endParaRPr b="0" lang="en-US" sz="4900" spc="-1" strike="noStrike">
              <a:solidFill>
                <a:srgbClr val="000000"/>
              </a:solidFill>
              <a:latin typeface="Times New Roman"/>
            </a:endParaRPr>
          </a:p>
        </p:txBody>
      </p:sp>
      <p:sp>
        <p:nvSpPr>
          <p:cNvPr id="46" name="PlaceHolder 2"/>
          <p:cNvSpPr>
            <a:spLocks noGrp="1"/>
          </p:cNvSpPr>
          <p:nvPr>
            <p:ph type="subTitle"/>
          </p:nvPr>
        </p:nvSpPr>
        <p:spPr>
          <a:xfrm>
            <a:off x="495360" y="1828800"/>
            <a:ext cx="916920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00 adopted as WG draft early Oct</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01 draft with minor change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urvey: vendors and operators</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Implementations &amp; Deployments</a:t>
            </a:r>
            <a:endParaRPr b="0" lang="en-US" sz="3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Operational experiences</a:t>
            </a:r>
            <a:endParaRPr b="0" lang="en-US" sz="3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Survey Questionnaire </a:t>
            </a:r>
            <a:endParaRPr b="0" lang="en-US" sz="3100" spc="-1" strike="noStrike">
              <a:solidFill>
                <a:srgbClr val="000000"/>
              </a:solidFill>
              <a:latin typeface="Times New Roman"/>
            </a:endParaRPr>
          </a:p>
          <a:p>
            <a:pPr lvl="3" marL="1314360" indent="-285480">
              <a:lnSpc>
                <a:spcPct val="95000"/>
              </a:lnSpc>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Split questions to operators and implementers</a:t>
            </a:r>
            <a:endParaRPr b="0" lang="en-US" sz="2700" spc="-1" strike="noStrike">
              <a:solidFill>
                <a:srgbClr val="000000"/>
              </a:solidFill>
              <a:latin typeface="Times New Roman"/>
            </a:endParaRPr>
          </a:p>
          <a:p>
            <a:pPr lvl="3" marL="1314360" indent="0">
              <a:lnSpc>
                <a:spcPct val="9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95360" y="355320"/>
            <a:ext cx="91692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ea typeface="宋体"/>
              </a:rPr>
              <a:t>Questionnaire: On-going Effort</a:t>
            </a:r>
            <a:endParaRPr b="0" lang="en-US" sz="4900" spc="-1" strike="noStrike">
              <a:solidFill>
                <a:srgbClr val="000000"/>
              </a:solidFill>
              <a:latin typeface="Times New Roman"/>
            </a:endParaRPr>
          </a:p>
        </p:txBody>
      </p:sp>
      <p:sp>
        <p:nvSpPr>
          <p:cNvPr id="48" name="PlaceHolder 2"/>
          <p:cNvSpPr>
            <a:spLocks noGrp="1"/>
          </p:cNvSpPr>
          <p:nvPr>
            <p:ph type="subTitle"/>
          </p:nvPr>
        </p:nvSpPr>
        <p:spPr>
          <a:xfrm>
            <a:off x="495360" y="1828800"/>
            <a:ext cx="916920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Questions for operators:</a:t>
            </a:r>
            <a:endParaRPr b="0" lang="en-US" sz="3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2" marL="1085760" indent="-51408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Have you deployed PIM-SM in your network? </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Are you aware that the PIM-SM deployed is RFC2632 based or RFC4601 based?</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Are you using equipment with different (multi-vendor) PIM-SM implementations for your deployment?</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Have you encountered any inter-operability or backward-compatibility issues amongst differing implementations? If yes, what are your concerns about these issues?</a:t>
            </a:r>
            <a:endParaRPr b="0" lang="en-US" sz="2700" spc="-1" strike="noStrike">
              <a:solidFill>
                <a:srgbClr val="000000"/>
              </a:solidFill>
              <a:latin typeface="Times New Roman"/>
            </a:endParaRPr>
          </a:p>
          <a:p>
            <a:pPr lvl="2" marL="1085760" indent="0">
              <a:lnSpc>
                <a:spcPct val="9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95360" y="355320"/>
            <a:ext cx="91692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ea typeface="宋体"/>
              </a:rPr>
              <a:t>Questionnaire: On-going Effort</a:t>
            </a:r>
            <a:endParaRPr b="0" lang="en-US" sz="4900" spc="-1" strike="noStrike">
              <a:solidFill>
                <a:srgbClr val="000000"/>
              </a:solidFill>
              <a:latin typeface="Times New Roman"/>
            </a:endParaRPr>
          </a:p>
        </p:txBody>
      </p:sp>
      <p:sp>
        <p:nvSpPr>
          <p:cNvPr id="50" name="PlaceHolder 2"/>
          <p:cNvSpPr>
            <a:spLocks noGrp="1"/>
          </p:cNvSpPr>
          <p:nvPr>
            <p:ph type="subTitle"/>
          </p:nvPr>
        </p:nvSpPr>
        <p:spPr>
          <a:xfrm>
            <a:off x="495360" y="1828800"/>
            <a:ext cx="916920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Questions for operators:</a:t>
            </a:r>
            <a:endParaRPr b="0" lang="en-US" sz="3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2" marL="1085760" indent="-514080">
              <a:lnSpc>
                <a:spcPct val="95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Have you deployed different multicast protocols in different parts of your network, such as dense mode and sparse mode, where you have multicast routed between the two parts? If yes, do you know if this is done using features such as (*,*,RP) and PMBR?</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To what extent have you deployed ancillary PIM functionality, like e.g. BSR, SSM, and Explicit Tracking?</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Do you have any other comments on PIM-SM deployment in your network?</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95360" y="355320"/>
            <a:ext cx="91692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ea typeface="宋体"/>
              </a:rPr>
              <a:t>Questionnaire: On-going Effort</a:t>
            </a:r>
            <a:endParaRPr b="0" lang="en-US" sz="4900" spc="-1" strike="noStrike">
              <a:solidFill>
                <a:srgbClr val="000000"/>
              </a:solidFill>
              <a:latin typeface="Times New Roman"/>
            </a:endParaRPr>
          </a:p>
        </p:txBody>
      </p:sp>
      <p:sp>
        <p:nvSpPr>
          <p:cNvPr id="52" name="PlaceHolder 2"/>
          <p:cNvSpPr>
            <a:spLocks noGrp="1"/>
          </p:cNvSpPr>
          <p:nvPr>
            <p:ph type="subTitle"/>
          </p:nvPr>
        </p:nvSpPr>
        <p:spPr>
          <a:xfrm>
            <a:off x="495360" y="1828800"/>
            <a:ext cx="916920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Questions for implementers :</a:t>
            </a:r>
            <a:endParaRPr b="0" lang="en-US" sz="3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2" marL="1085760" indent="-51408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Have you implemented PIM-SM?</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Is the PIM-SM implementation based on RFC 2632 or RFC 4601?</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Have you implemented (*,*, RP) state of RFC 4601? What is the rationale behind implementing or omitting (*,*,RP)?</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Have you implemented the PMBR as specified in RFC 4601 and RFC 2715? What is the rationale behind implementing or omitting PMB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95360" y="355320"/>
            <a:ext cx="91692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ea typeface="宋体"/>
              </a:rPr>
              <a:t>Questionnaire: On-going Effort</a:t>
            </a:r>
            <a:endParaRPr b="0" lang="en-US" sz="4900" spc="-1" strike="noStrike">
              <a:solidFill>
                <a:srgbClr val="000000"/>
              </a:solidFill>
              <a:latin typeface="Times New Roman"/>
            </a:endParaRPr>
          </a:p>
        </p:txBody>
      </p:sp>
      <p:sp>
        <p:nvSpPr>
          <p:cNvPr id="54" name="PlaceHolder 2"/>
          <p:cNvSpPr>
            <a:spLocks noGrp="1"/>
          </p:cNvSpPr>
          <p:nvPr>
            <p:ph type="subTitle"/>
          </p:nvPr>
        </p:nvSpPr>
        <p:spPr>
          <a:xfrm>
            <a:off x="495360" y="1828800"/>
            <a:ext cx="916920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Questions for implementers :</a:t>
            </a:r>
            <a:endParaRPr b="0" lang="en-US" sz="3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2" marL="1085760" indent="-514080">
              <a:lnSpc>
                <a:spcPct val="95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Have you implemented other features and functions of RFC 4601, e.g. Border bit for PIM registers, Explicit tracking, Hashing of group to RP mappings, IPv6 register PMTUD and Register DSCP/ECN bits?</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Have you done any inter-operatibility trials with other PIM-SM implementations based on RFC 4601 or RFC 2362? If yes, have you encountered any issues during these trials?</a:t>
            </a:r>
            <a:endParaRPr b="0" lang="en-US" sz="2700" spc="-1" strike="noStrike">
              <a:solidFill>
                <a:srgbClr val="000000"/>
              </a:solidFill>
              <a:latin typeface="Times New Roman"/>
            </a:endParaRPr>
          </a:p>
          <a:p>
            <a:pPr lvl="2" marL="1085760" indent="-514080">
              <a:lnSpc>
                <a:spcPct val="95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宋体"/>
              </a:rPr>
              <a:t>Do you have any other comments or concerns about PIM-SM as specified in RFC4601?</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95360" y="355320"/>
            <a:ext cx="91692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ea typeface="宋体"/>
              </a:rPr>
              <a:t>Request For Comments!</a:t>
            </a:r>
            <a:endParaRPr b="0" lang="en-US" sz="4900" spc="-1" strike="noStrike">
              <a:solidFill>
                <a:srgbClr val="000000"/>
              </a:solidFill>
              <a:latin typeface="Times New Roman"/>
            </a:endParaRPr>
          </a:p>
        </p:txBody>
      </p:sp>
      <p:sp>
        <p:nvSpPr>
          <p:cNvPr id="56" name="PlaceHolder 2"/>
          <p:cNvSpPr>
            <a:spLocks noGrp="1"/>
          </p:cNvSpPr>
          <p:nvPr>
            <p:ph type="subTitle"/>
          </p:nvPr>
        </p:nvSpPr>
        <p:spPr>
          <a:xfrm>
            <a:off x="495360" y="1828800"/>
            <a:ext cx="916920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Your involvement and feedback are very important</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Past effort has not got much responses</a:t>
            </a:r>
            <a:endParaRPr b="0" lang="en-US" sz="3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宋体"/>
              </a:rPr>
              <a:t>Would prefer to get more feedback on </a:t>
            </a:r>
            <a:r>
              <a:rPr b="0" lang="en-US" sz="3200" spc="-1" strike="noStrike">
                <a:solidFill>
                  <a:srgbClr val="000000"/>
                </a:solidFill>
                <a:latin typeface="Arial"/>
                <a:ea typeface="宋体"/>
              </a:rPr>
              <a:t>Question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zhenglianshu 50128</cp:lastModifiedBy>
  <dcterms:modified xsi:type="dcterms:W3CDTF">2011-11-01T09:43:35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2)xv2d1OsGdaolNgVMuh4X2bHS2y70cfL9cX7wX78pq4HevmjsLo5yL5jwqkmDLw+ifsEHEGdT
tYrSmrdghbSDJA8u5ST1+EX9+EIekJqt/b/IfH6C7XRVB3Eu0NO2/7ZLRx8mGhTeekpQV4la
0GPuCvApJwKZS3ghDmPZ6bpYIl4gcuJEpv+kxDhODiae2NHYGUtjL+XbozGcENR7V8ZFHYZh
X29zz6NEaUs8tWjcRF/uF</vt:lpwstr>
  </property>
  <property fmtid="{D5CDD505-2E9C-101B-9397-08002B2CF9AE}" pid="3" name="_ms_pID_7253431">
    <vt:lpwstr>vuTxJ45LTlrePB4sRd2DVHdZqt9t6SCg75jxUWCO8v7KCT4/s22
BYI0hC8kNjGr94CXvMrV/6lZsj9bBJBpLXEseC1X4IpCsFI90E+vnfV/kP2gMHkxHg14FwAB
++3P78kLdS1nMX00la/uV/RXNXlnPkRpZx8XIqQRPFRDxQ==</vt:lpwstr>
  </property>
  <property fmtid="{D5CDD505-2E9C-101B-9397-08002B2CF9AE}" pid="4" name="sflag">
    <vt:lpwstr>1320136838</vt:lpwstr>
  </property>
</Properties>
</file>