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257B8-DC4B-4EA4-8523-3F066D9FE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07E9-DBFA-44FE-BE81-A6C78F38A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92545-1DC8-4B4A-9BBC-96582B393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1023B-11C2-4056-AF79-270AC54AC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C7BB-0383-4A4B-AA4E-124E36326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C259-618E-4C81-8E99-9DD987D2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87AC-1877-4A84-9959-0D3192AED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FD899-B540-4CEB-9009-65FA349F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30D7-B2DC-4A9C-B2A3-B344F79F9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59A5-5464-4F8C-8126-1036A05D5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CBF8-D618-475B-8FB7-90B297107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EE27-FB45-4745-8712-7278DBB14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900A-B81E-44EA-B525-E58E55F5AF0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9160" y="1235160"/>
            <a:ext cx="8661600" cy="1533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RFC4601 Implementation &amp; Deployment Survey</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11280" y="3690720"/>
            <a:ext cx="7137360" cy="2523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Taipei, Nov 2011</a:t>
            </a:r>
            <a:endParaRPr b="0" lang="en-US" sz="4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   </a:t>
            </a:r>
            <a:r>
              <a:rPr b="0" lang="en-US" sz="3100" spc="-1" strike="noStrike">
                <a:solidFill>
                  <a:srgbClr val="000000"/>
                </a:solidFill>
                <a:latin typeface="Arial"/>
                <a:ea typeface="宋体"/>
              </a:rPr>
              <a:t>Vero Zheng (Huawei)</a:t>
            </a:r>
            <a:endParaRPr b="0" lang="en-US" sz="3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Jeffrey Zhang (Juniper)</a:t>
            </a:r>
            <a:endParaRPr b="0" lang="en-US" sz="3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Rishabh Parekh (Cisc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Motivations</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495360" y="1828800"/>
            <a:ext cx="9169200" cy="522144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Advancing PIM specification from Proposed Standard to Draft Standard</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Implementation &amp; Deployment Report requested by IESG</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As supporting documen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Work &amp; Plan</a:t>
            </a:r>
            <a:endParaRPr b="0" lang="en-US" sz="4900" spc="-1" strike="noStrike">
              <a:solidFill>
                <a:srgbClr val="000000"/>
              </a:solidFill>
              <a:latin typeface="Times New Roman"/>
            </a:endParaRPr>
          </a:p>
        </p:txBody>
      </p:sp>
      <p:sp>
        <p:nvSpPr>
          <p:cNvPr id="46"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00 adopted as WG draft early Oc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01 draft with minor chang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urvey: vendors and operators</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Implementations &amp; Deployments</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Operational experiences</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Survey Questionnaire </a:t>
            </a:r>
            <a:endParaRPr b="0" lang="en-US" sz="3100" spc="-1" strike="noStrike">
              <a:solidFill>
                <a:srgbClr val="000000"/>
              </a:solidFill>
              <a:latin typeface="Times New Roman"/>
            </a:endParaRPr>
          </a:p>
          <a:p>
            <a:pPr lvl="3" marL="1314360" indent="-285480">
              <a:lnSpc>
                <a:spcPct val="95000"/>
              </a:lnSpc>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Split questions to operators and implementers</a:t>
            </a:r>
            <a:endParaRPr b="0" lang="en-US" sz="2700" spc="-1" strike="noStrike">
              <a:solidFill>
                <a:srgbClr val="000000"/>
              </a:solidFill>
              <a:latin typeface="Times New Roman"/>
            </a:endParaRPr>
          </a:p>
          <a:p>
            <a:pPr lvl="3" marL="1314360" indent="0">
              <a:lnSpc>
                <a:spcPct val="9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operators:</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deployed PIM-SM in your network? </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Are you aware that the PIM-SM deployed is RFC2632 based or RFC4601 based?</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Are you using equipment with different (multi-vendor) PIM-SM implementations for your deployment?</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encountered any inter-operability or backward-compatibility issues amongst differing implementations? If yes, what are your concerns about these issues?</a:t>
            </a:r>
            <a:endParaRPr b="0" lang="en-US" sz="2700" spc="-1" strike="noStrike">
              <a:solidFill>
                <a:srgbClr val="000000"/>
              </a:solidFill>
              <a:latin typeface="Times New Roman"/>
            </a:endParaRPr>
          </a:p>
          <a:p>
            <a:pPr lvl="2" marL="1085760" indent="0">
              <a:lnSpc>
                <a:spcPct val="9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50"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operators:</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deployed different multicast protocols in different parts of your network, such as dense mode and sparse mode, where you have multicast routed between the two parts? If yes, do you know if this is done using features such as (*,*,RP) and PMBR?</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To what extent have you deployed ancillary PIM functionality, like e.g. BSR, SSM, and Explicit Tracking?</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Do you have any other comments on PIM-SM deployment in your networ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implementers :</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PIM-SM?</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Is the PIM-SM implementation based on RFC 2632 or RFC 4601?</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 RP) state of RFC 4601? What is the rationale behind implementing or omitting (*,*,RP)?</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the PMBR as specified in RFC 4601 and RFC 2715? What is the rationale behind implementing or omitting PMB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implementers :</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other features and functions of RFC 4601, e.g. Border bit for PIM registers, Explicit tracking, Hashing of group to RP mappings, IPv6 register PMTUD and Register DSCP/ECN bits?</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done any inter-operatibility trials with other PIM-SM implementations based on RFC 4601 or RFC 2362? If yes, have you encountered any issues during these trials?</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Do you have any other comments or concerns about PIM-SM as specified in RFC460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Request For Comments!</a:t>
            </a:r>
            <a:endParaRPr b="0" lang="en-US" sz="4900" spc="-1" strike="noStrike">
              <a:solidFill>
                <a:srgbClr val="000000"/>
              </a:solidFill>
              <a:latin typeface="Times New Roman"/>
            </a:endParaRPr>
          </a:p>
        </p:txBody>
      </p:sp>
      <p:sp>
        <p:nvSpPr>
          <p:cNvPr id="56"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Your involvement and feedback are very important</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Past effort has not got much responses</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Would prefer to get more feedback on </a:t>
            </a:r>
            <a:r>
              <a:rPr b="0" lang="en-US" sz="3200" spc="-1" strike="noStrike">
                <a:solidFill>
                  <a:srgbClr val="000000"/>
                </a:solidFill>
                <a:latin typeface="Arial"/>
                <a:ea typeface="宋体"/>
              </a:rPr>
              <a:t>Question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zhenglianshu 50128</cp:lastModifiedBy>
  <dcterms:modified xsi:type="dcterms:W3CDTF">2011-11-01T09:43:3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xv2d1OsGdaolNgVMuh4X2bHS2y70cfL9cX7wX78pq4HevmjsLo5yL5jwqkmDLw+ifsEHEGdT
tYrSmrdghbSDJA8u5ST1+EX9+EIekJqt/b/IfH6C7XRVB3Eu0NO2/7ZLRx8mGhTeekpQV4la
0GPuCvApJwKZS3ghDmPZ6bpYIl4gcuJEpv+kxDhODiae2NHYGUtjL+XbozGcENR7V8ZFHYZh
X29zz6NEaUs8tWjcRF/uF</vt:lpwstr>
  </property>
  <property fmtid="{D5CDD505-2E9C-101B-9397-08002B2CF9AE}" pid="3" name="_ms_pID_7253431">
    <vt:lpwstr>vuTxJ45LTlrePB4sRd2DVHdZqt9t6SCg75jxUWCO8v7KCT4/s22
BYI0hC8kNjGr94CXvMrV/6lZsj9bBJBpLXEseC1X4IpCsFI90E+vnfV/kP2gMHkxHg14FwAB
++3P78kLdS1nMX00la/uV/RXNXlnPkRpZx8XIqQRPFRDxQ==</vt:lpwstr>
  </property>
  <property fmtid="{D5CDD505-2E9C-101B-9397-08002B2CF9AE}" pid="4" name="sflag">
    <vt:lpwstr>1320136838</vt:lpwstr>
  </property>
</Properties>
</file>