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051D-66FA-4DDC-A597-1C99D0C8F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32A0-158B-4D36-9B16-0393E3338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2018-E175-4C7C-BCD0-F94C59F96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494F-8AD6-49C1-AE99-84A455E9F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7B35-42FB-4327-8A24-0DDBC6A69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443E-FBC6-40E5-8E11-E7274D862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30C3-75B2-4B67-8455-47A9AB832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B5DE-3262-4727-B5AA-4D693C2EC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5F90-BB33-4724-A89E-553C99428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3FAE-8351-4AB6-BBFD-8E28AAB8F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ACB7-358A-4998-B799-521BA8A7E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D540-BA0B-4890-99BD-B949BADFB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533-4B0E-4F76-81C9-D12DEFC4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BFF-86B9-47CC-8EA2-5AE9FEF3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1FC-1D50-40EC-B27F-4F169169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8CF-4DFE-4E26-9BF7-3BC4BE8D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BF1F-20B0-427B-A2B5-6603D17F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EA40-5F42-4662-8A20-A4817B19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F4F9-0352-4B84-AC5D-02312CBD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F021-0A5D-419C-8D99-AF831F70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9433-2103-450B-8221-B59FEB35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1584-CEA9-419C-AD16-0F5E3DF7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67B9-584B-4A3A-9EB7-6995BB0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9DC-868E-44DC-B66A-5C7D2F74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261B-4A0A-4C1D-BC6A-10385301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14EA-3DDE-46C6-94DF-E330765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4A48-893B-4066-B38A-7E7EF033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A8E8-2A78-4B88-A4E7-4465974C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0CE9-7219-4390-B0B2-9A93C593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29A9-758A-4A9D-BB1B-1D4A66D0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DE8A-75F3-4408-AE69-262D8765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0EAD-BA4E-45B1-B310-D33405F6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0C82-7679-4162-96B1-718F76E8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CF01-38AE-4777-AD1C-49FC62DA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3EA-B6FB-4BB6-BD48-31592734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16E3-3711-4C28-825F-B70B8536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4EDD7-3D4B-423F-918D-3CE2227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2ECA-CEDD-4756-B353-625B1A42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17F7-9557-4998-AD9B-3AB14CEF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3E99-5A3D-4AB6-A842-8C098BC7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9C92-2CD6-41AE-8D42-A4A80D8A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AAC0-38E3-4B6C-9B22-3105D7FA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BD09F-1D18-4412-87B2-554FAC2C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C0043-6F11-4CDE-92BE-C563C427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FC984-FC24-415F-9DA0-A59E6B59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712-6876-4423-893E-52D4171B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5ABD-990C-42CF-8AA4-18647E9A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0F88E-282F-4590-923A-B89AD0AB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52F8-36E3-4986-9E77-3BE54F8C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70FE-8009-4880-BDF7-50F88271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4F7B-B6B0-4045-B271-A2922A0D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6C44-E697-4782-B08B-F54C8B8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79AE-5A7C-41AF-96CB-6B19B3FA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5582-3890-40E1-8229-2DB567E4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908A-6D85-45DC-88D5-E4F46D85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9C0-F4F4-47C4-8A91-92EB4C8C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E0E-3EA1-4F56-967A-0415431E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745-0FAA-495E-870F-D114CBB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09D-2894-4944-9B8F-5C56AB0D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90B-BC56-497C-B91F-6520B9F5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141F-A8A5-4632-BD9E-5B3D30C57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3637-50FE-4439-8146-71053576B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0BF-B267-4D33-AD8B-4E6D844EB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EF6-5BC9-4F3C-A07C-98EE2F13D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DR Load Balancing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 82, Taip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ycai, svallepa, hou }@cisc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y.da.green@b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237" name="Picture 37" descr=""/>
            <p:cNvPicPr/>
            <p:nvPr/>
          </p:nvPicPr>
          <p:blipFill>
            <a:blip r:embed="rId1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1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comes up first, announces mask (0, 0.255.0.0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B becomes the DR, it also includes its own address in the LB TL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B6A6-C6FF-49A3-A935-B3D8A3B7C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31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7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248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6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251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1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3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es up, announces mask (0, 0.255.0.0, 0)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3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ins DR election, announces both A and B in the LB TL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3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loses DR election, announces mask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me groups for which B isn’t GDR anymore may experience traffic dis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166D-E658-451B-94C3-F452164C4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1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262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Box 6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265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Box 1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6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re are only two routers, A will be the GDR for groups with hash valu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, 239.0/16, 239.2/16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6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will be the GDR for groups with hash valu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, 239.1/16, 239.3/16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6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EAFE-7EA5-49FB-BA16-ACF43A66D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traight Connector 40"/>
          <p:cNvSpPr/>
          <p:nvPr/>
        </p:nvSpPr>
        <p:spPr>
          <a:xfrm flipH="1">
            <a:off x="8001000" y="426708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31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7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277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6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280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1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7"/>
          <p:cNvGrpSpPr/>
          <p:nvPr/>
        </p:nvGrpSpPr>
        <p:grpSpPr>
          <a:xfrm>
            <a:off x="7543800" y="3886200"/>
            <a:ext cx="906480" cy="612000"/>
            <a:chOff x="7543800" y="3886200"/>
            <a:chExt cx="906480" cy="612000"/>
          </a:xfrm>
        </p:grpSpPr>
        <p:pic>
          <p:nvPicPr>
            <p:cNvPr id="283" name="Picture 37" descr=""/>
            <p:cNvPicPr/>
            <p:nvPr/>
          </p:nvPicPr>
          <p:blipFill>
            <a:blip r:embed="rId3"/>
            <a:stretch/>
          </p:blipFill>
          <p:spPr>
            <a:xfrm>
              <a:off x="7543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19"/>
            <p:cNvSpPr/>
            <p:nvPr/>
          </p:nvSpPr>
          <p:spPr>
            <a:xfrm flipH="1">
              <a:off x="784872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8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comes up, announces mask (0, 0.255.0.0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8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loses DR election due to DR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inues to announce mask (0, 0.255.0.0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will not include E in the LB T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8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7A80-2363-4EC8-A1E8-C7AB6B98E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9"/>
          <p:cNvSpPr/>
          <p:nvPr/>
        </p:nvSpPr>
        <p:spPr>
          <a:xfrm>
            <a:off x="533520" y="3505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2362320" y="3505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21"/>
          <p:cNvSpPr/>
          <p:nvPr/>
        </p:nvSpPr>
        <p:spPr>
          <a:xfrm>
            <a:off x="72388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traight Connector 40"/>
          <p:cNvSpPr/>
          <p:nvPr/>
        </p:nvSpPr>
        <p:spPr>
          <a:xfrm flipH="1">
            <a:off x="8001000" y="426708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39"/>
          <p:cNvSpPr/>
          <p:nvPr/>
        </p:nvSpPr>
        <p:spPr>
          <a:xfrm flipH="1">
            <a:off x="6305040" y="4273560"/>
            <a:ext cx="180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38"/>
          <p:cNvSpPr/>
          <p:nvPr/>
        </p:nvSpPr>
        <p:spPr>
          <a:xfrm flipH="1">
            <a:off x="4572000" y="427356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31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7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300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Box 6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303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Box 1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4114800" y="3886200"/>
            <a:ext cx="906480" cy="612000"/>
            <a:chOff x="4114800" y="3886200"/>
            <a:chExt cx="906480" cy="612000"/>
          </a:xfrm>
        </p:grpSpPr>
        <p:pic>
          <p:nvPicPr>
            <p:cNvPr id="306" name="Picture 37" descr=""/>
            <p:cNvPicPr/>
            <p:nvPr/>
          </p:nvPicPr>
          <p:blipFill>
            <a:blip r:embed="rId3"/>
            <a:stretch/>
          </p:blipFill>
          <p:spPr>
            <a:xfrm>
              <a:off x="4114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Box 13"/>
            <p:cNvSpPr/>
            <p:nvPr/>
          </p:nvSpPr>
          <p:spPr>
            <a:xfrm flipH="1">
              <a:off x="4343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4"/>
          <p:cNvGrpSpPr/>
          <p:nvPr/>
        </p:nvGrpSpPr>
        <p:grpSpPr>
          <a:xfrm>
            <a:off x="5834160" y="3886200"/>
            <a:ext cx="906480" cy="612000"/>
            <a:chOff x="5834160" y="3886200"/>
            <a:chExt cx="906480" cy="612000"/>
          </a:xfrm>
        </p:grpSpPr>
        <p:pic>
          <p:nvPicPr>
            <p:cNvPr id="309" name="Picture 37" descr=""/>
            <p:cNvPicPr/>
            <p:nvPr/>
          </p:nvPicPr>
          <p:blipFill>
            <a:blip r:embed="rId4"/>
            <a:stretch/>
          </p:blipFill>
          <p:spPr>
            <a:xfrm>
              <a:off x="5834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Box 16"/>
            <p:cNvSpPr/>
            <p:nvPr/>
          </p:nvSpPr>
          <p:spPr>
            <a:xfrm flipH="1">
              <a:off x="6096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17"/>
          <p:cNvGrpSpPr/>
          <p:nvPr/>
        </p:nvGrpSpPr>
        <p:grpSpPr>
          <a:xfrm>
            <a:off x="7543800" y="3886200"/>
            <a:ext cx="906480" cy="612000"/>
            <a:chOff x="7543800" y="3886200"/>
            <a:chExt cx="906480" cy="612000"/>
          </a:xfrm>
        </p:grpSpPr>
        <p:pic>
          <p:nvPicPr>
            <p:cNvPr id="312" name="Picture 37" descr=""/>
            <p:cNvPicPr/>
            <p:nvPr/>
          </p:nvPicPr>
          <p:blipFill>
            <a:blip r:embed="rId5"/>
            <a:stretch/>
          </p:blipFill>
          <p:spPr>
            <a:xfrm>
              <a:off x="7543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Box 19"/>
            <p:cNvSpPr/>
            <p:nvPr/>
          </p:nvSpPr>
          <p:spPr>
            <a:xfrm flipH="1">
              <a:off x="784872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10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and D come up, announce mask (0, 0.255.0.0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10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w announces A, B, C, D in LB T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will be GDR for 239.{0, 4, 8…}.0.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 will be GDR for 239.{1, 5, 9…}.0.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 will be GDR for 239.{2, 6, 10…}.0.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 will be GDR for 239.{3, 7, 11…}.0.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8876-20D1-4405-9579-1F4EA8B5C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traight Connector 40"/>
          <p:cNvSpPr/>
          <p:nvPr/>
        </p:nvSpPr>
        <p:spPr>
          <a:xfrm flipH="1">
            <a:off x="8001000" y="426708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39"/>
          <p:cNvSpPr/>
          <p:nvPr/>
        </p:nvSpPr>
        <p:spPr>
          <a:xfrm flipH="1">
            <a:off x="6305040" y="4273560"/>
            <a:ext cx="180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31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7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325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6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328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Box 10"/>
            <p:cNvSpPr/>
            <p:nvPr/>
          </p:nvSpPr>
          <p:spPr>
            <a:xfrm flipH="1">
              <a:off x="271008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4"/>
          <p:cNvGrpSpPr/>
          <p:nvPr/>
        </p:nvGrpSpPr>
        <p:grpSpPr>
          <a:xfrm>
            <a:off x="5834160" y="3886200"/>
            <a:ext cx="906480" cy="612000"/>
            <a:chOff x="5834160" y="3886200"/>
            <a:chExt cx="906480" cy="612000"/>
          </a:xfrm>
        </p:grpSpPr>
        <p:pic>
          <p:nvPicPr>
            <p:cNvPr id="331" name="Picture 37" descr=""/>
            <p:cNvPicPr/>
            <p:nvPr/>
          </p:nvPicPr>
          <p:blipFill>
            <a:blip r:embed="rId3"/>
            <a:stretch/>
          </p:blipFill>
          <p:spPr>
            <a:xfrm>
              <a:off x="5834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16"/>
            <p:cNvSpPr/>
            <p:nvPr/>
          </p:nvSpPr>
          <p:spPr>
            <a:xfrm flipH="1">
              <a:off x="613908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7"/>
          <p:cNvGrpSpPr/>
          <p:nvPr/>
        </p:nvGrpSpPr>
        <p:grpSpPr>
          <a:xfrm>
            <a:off x="7543800" y="3886200"/>
            <a:ext cx="906480" cy="612000"/>
            <a:chOff x="7543800" y="3886200"/>
            <a:chExt cx="906480" cy="612000"/>
          </a:xfrm>
        </p:grpSpPr>
        <p:pic>
          <p:nvPicPr>
            <p:cNvPr id="334" name="Picture 37" descr=""/>
            <p:cNvPicPr/>
            <p:nvPr/>
          </p:nvPicPr>
          <p:blipFill>
            <a:blip r:embed="rId4"/>
            <a:stretch/>
          </p:blipFill>
          <p:spPr>
            <a:xfrm>
              <a:off x="7543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Box 19"/>
            <p:cNvSpPr/>
            <p:nvPr/>
          </p:nvSpPr>
          <p:spPr>
            <a:xfrm flipH="1">
              <a:off x="784872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12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is shutdown, or its DR priority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12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w announces A, B, D in LB T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375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will be GDR for 239.{0, 3, 6…}.0.0/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375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 will be GDR for 239.{1, 4, 7…}.0.0/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375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 will be GDR for 239.{2, 5, 8…}.0.0/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7957-8132-4C1C-AFD3-3AD8331B1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ome comment/collaboration, in particul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masks priority between RP mask and Group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R Assert: should metric be considered first after GDR st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docu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F5AC-A0D6-4DAC-B049-05D1A5C0F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Overview and Applic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89B5-3581-409D-9944-958F46CB4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roblem Statemen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M DR is elected based on DR priority or IP address (per RFC46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last hop LAN, only one router, the DR, is responsible for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ing load is not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over takes longer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orwarding states must be rebuilt on the new DR after a fail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2F3A-0E61-421F-AD88-B13D10E68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Solution Overview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 multiple forwarders on the last hop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s called a GDR (Group 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ing is used to determine which candidate GDR becomes the G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ing load is now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a failover only a subset of the forwarding states need to be reb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F6B8-2825-4530-9A20-BCAC5E22B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Applicability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hop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hop router is determined by incoming Join not DR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xity of supporting this at FHR outweighs the benefits of distributing load for sending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/SSM/DM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dir TBD (probably n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051D-0447-4C67-9A75-28E051230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rotocol Chang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DR 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 election procedures remain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uter announces hash masks in new Hello Option TLV to indicate its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masks include RP, Group,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andidate GDRs must have the same DR priority as the 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 announces the list of candidate GDRs and the hash masks to be used on this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53A5-1BE0-4077-8579-D4675F896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rotocol Chang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ng forwarding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receiving IGMP reports, a candidate GDR runs a hash algorithm to determine if it is the GDR for the RP of the group, the group and/or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is, it becomes the forwarder on the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ing states are recalculated if the list of the candidate GDR changes or the hash masks change (per announcement by 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7076-56C4-4180-A655-1CC2C33A3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rotocol Chang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DR As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duce packet loss during GDR st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DR becoming non-GDR MAY choose not to remove the oif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lead to As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R state is preferred before using IP address as a tie-br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discussion for non-ECMP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CF2E-ADD0-41ED-A850-0FB107570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Example For SM (239.0.0.0/8)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4C08-FCA5-4732-A3FC-6C1C5E5D9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29"/>
          <p:cNvSpPr/>
          <p:nvPr/>
        </p:nvSpPr>
        <p:spPr>
          <a:xfrm flipH="1">
            <a:off x="8001000" y="426708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30"/>
          <p:cNvSpPr/>
          <p:nvPr/>
        </p:nvSpPr>
        <p:spPr>
          <a:xfrm flipH="1">
            <a:off x="6305040" y="4273560"/>
            <a:ext cx="180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31"/>
          <p:cNvSpPr/>
          <p:nvPr/>
        </p:nvSpPr>
        <p:spPr>
          <a:xfrm flipH="1">
            <a:off x="4572000" y="427356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32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33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34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5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219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Box 37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222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4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1"/>
          <p:cNvGrpSpPr/>
          <p:nvPr/>
        </p:nvGrpSpPr>
        <p:grpSpPr>
          <a:xfrm>
            <a:off x="4114800" y="3886200"/>
            <a:ext cx="906480" cy="612000"/>
            <a:chOff x="4114800" y="3886200"/>
            <a:chExt cx="906480" cy="612000"/>
          </a:xfrm>
        </p:grpSpPr>
        <p:pic>
          <p:nvPicPr>
            <p:cNvPr id="225" name="Picture 37" descr=""/>
            <p:cNvPicPr/>
            <p:nvPr/>
          </p:nvPicPr>
          <p:blipFill>
            <a:blip r:embed="rId3"/>
            <a:stretch/>
          </p:blipFill>
          <p:spPr>
            <a:xfrm>
              <a:off x="4114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43"/>
            <p:cNvSpPr/>
            <p:nvPr/>
          </p:nvSpPr>
          <p:spPr>
            <a:xfrm flipH="1">
              <a:off x="4343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44"/>
          <p:cNvGrpSpPr/>
          <p:nvPr/>
        </p:nvGrpSpPr>
        <p:grpSpPr>
          <a:xfrm>
            <a:off x="5834160" y="3886200"/>
            <a:ext cx="906480" cy="612000"/>
            <a:chOff x="5834160" y="3886200"/>
            <a:chExt cx="906480" cy="612000"/>
          </a:xfrm>
        </p:grpSpPr>
        <p:pic>
          <p:nvPicPr>
            <p:cNvPr id="228" name="Picture 37" descr=""/>
            <p:cNvPicPr/>
            <p:nvPr/>
          </p:nvPicPr>
          <p:blipFill>
            <a:blip r:embed="rId4"/>
            <a:stretch/>
          </p:blipFill>
          <p:spPr>
            <a:xfrm>
              <a:off x="5834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46"/>
            <p:cNvSpPr/>
            <p:nvPr/>
          </p:nvSpPr>
          <p:spPr>
            <a:xfrm flipH="1">
              <a:off x="6096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47"/>
          <p:cNvGrpSpPr/>
          <p:nvPr/>
        </p:nvGrpSpPr>
        <p:grpSpPr>
          <a:xfrm>
            <a:off x="7543800" y="3886200"/>
            <a:ext cx="906480" cy="612000"/>
            <a:chOff x="7543800" y="3886200"/>
            <a:chExt cx="906480" cy="612000"/>
          </a:xfrm>
        </p:grpSpPr>
        <p:pic>
          <p:nvPicPr>
            <p:cNvPr id="231" name="Picture 37" descr=""/>
            <p:cNvPicPr/>
            <p:nvPr/>
          </p:nvPicPr>
          <p:blipFill>
            <a:blip r:embed="rId5"/>
            <a:stretch/>
          </p:blipFill>
          <p:spPr>
            <a:xfrm>
              <a:off x="7543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49"/>
            <p:cNvSpPr/>
            <p:nvPr/>
          </p:nvSpPr>
          <p:spPr>
            <a:xfrm flipH="1">
              <a:off x="784872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, D have the same DR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ould become the DR (per RFC46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 mask is 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ask is 0.255.0.0 (IPv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mask is 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7:11:48Z</dcterms:created>
  <dc:creator>hou</dc:creator>
  <dc:description/>
  <cp:keywords/>
  <dc:language>en-US</dc:language>
  <cp:lastModifiedBy>Sri Vallepalli</cp:lastModifiedBy>
  <cp:lastPrinted>2003-01-09T21:51:38Z</cp:lastPrinted>
  <dcterms:modified xsi:type="dcterms:W3CDTF">2011-11-11T00:28:30Z</dcterms:modified>
  <cp:revision>156</cp:revision>
  <dc:subject/>
  <dc:title>IETF 80 PI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isco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