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E6D66-AA80-4AE7-9E3E-315CFF9D4F04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BB26E-E75F-4646-A13B-3B324A3F2A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CAF51-C66B-40B9-8724-EEEE2CEE1A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F02-8EBF-436B-BBAD-CD1CD1C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EF7-821B-441A-8539-BE30758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C18-EE99-4E3C-B425-6A4F2A5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992-C851-4A6B-9831-8AF2B8A1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C35-08F8-46DB-B8AD-438CE1E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C49-64F5-4B77-B40B-2AF06E38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EB5-A30E-43C6-A976-B287C18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69E-3C20-468B-A2F2-9CEA1C0E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B4F-D709-4D26-8D9E-AB355FDC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181-C9E2-4873-91A5-A9FB87D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646-2933-413D-851F-7A5BCC8F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B8E-7E1D-4195-98BD-7CF28D8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6983D-5009-43C8-8E34-9DDC60B4B24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768F7-9E53-4E53-9681-AB6DEA4E76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3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raft-ietf-pim-explicit-tracking-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22800"/>
            <a:ext cx="6400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toshi Asae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colai Leyman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37000" y="690480"/>
            <a:ext cx="40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November 2011, Taipei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2D51C-7B86-4262-BAA3-52DF6F5AA7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al RF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 open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C2223-AA54-49D0-9616-9D2E83F12B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licit tracking function on routers work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ucing the number of transmitted Query and Repor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ening leave la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E893F-18E5-4ED5-8409-FAC487A3D3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jective 1: the Number of Messages Trans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ever a router (querier) receives the State-Change Report, it sends the corresponding Group-Specific or Group-and-Source Specific Query messages to confirm whether the Report sender is the last member host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F0D8B-6B8E-43DB-BDE7-00074CEC18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ering Specific Query Transmi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outer (querier) enabling the explicit tracking function does not need to always ask Current-State Report message transmission to the member hosts whenever it receives the State-Chang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router can expect whether the State-Change Report sender is the last remaining member of the channel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22F8A-734B-47F9-B070-8F2ABEA87F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 2: Leave Lat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Interval] (LMQI) and [Last Listener Query Interval] (LLQ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ximum time allowed before sending a responding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Count] (LMQC) and [Last Listener Query Count] (LLQ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of Group-Specific Queries or Group-and-Source Specific Queries sent before the router assumes there are no local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Time] (LMQT) and [Last Listener Query Time] (LLQ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time the router should wait for a report, after the Querier has sent the first qu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45E2D-6808-474C-8679-B55B16998B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Timer (LMQT)] and [Last Listener Query Timer (LLQT)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ault: LMQI * LMQC (= 2 se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r value contributes to shortening leave 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MQC = 1, then LMQT = 1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MQI can be shorter, e.g., 0.5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risk that a router misses Report messages from remaining members if the router adopts small LMQC/LLQ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the wrong expectation would be lower happened for the router enabling the explicit tracking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927E0-CC59-46DA-B2B3-633E871EC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 Stat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2800" y="1600200"/>
            <a:ext cx="840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hip stat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, G, Number of receivers, (Receiver records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GMP/MLD Membership/Listener Report sender's addre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” is with “Nul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DE mode (S,G) jo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 (*,G) join into the stat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C153C-6533-4989-80D4-58FD95F8E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t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ork for IGMPv1/v2 and MLDv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e Report suppression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 router keeps the current state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ork for IGMPv3/MLDv2 router changing its compatibility mode to the older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uter keeps the current state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FC2C1-8225-4C81-8B98-B567E8A008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/Disabl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775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case when querier enables exp. tracking but non-querier(s) do not support or disable 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ier does not query to confirm the last member (when it knows there are other members), but non-querier (who is a forwarder but does not know other members) prunes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sible sol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able exp. tracking function when [Other Querier Present Interval] is not 0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routers SHOULD be able to configure disabling this disable function to avoid 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ably, new IGMP/MLD message for informing that querier/non-querier(s) enables/disables exp. tracking and synchronizing the behavior is def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F7A08-02CF-4CCE-B2C2-17EF1A231F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0:30:49Z</dcterms:created>
  <dc:creator>朝枝 仁</dc:creator>
  <dc:description/>
  <dc:language>en-US</dc:language>
  <cp:lastModifiedBy>朝枝 仁</cp:lastModifiedBy>
  <dcterms:modified xsi:type="dcterms:W3CDTF">2011-11-13T14:59:18Z</dcterms:modified>
  <cp:revision>39</cp:revision>
  <dc:subject/>
  <dc:title>IGMP/MLD-Based Explicit Membership Tracking Function for Multicast Routers   draft-asaeda-mboned-explicit-tracking-00</dc:title>
</cp:coreProperties>
</file>