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7BFF54-E946-4EFE-80C8-ADE7560EC824}" type="datetime">
              <a:rPr b="0" lang="ja-JP" sz="1200" spc="-1" strike="noStrike">
                <a:solidFill>
                  <a:srgbClr val="000000"/>
                </a:solidFill>
                <a:latin typeface="Arial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EBE18B-F129-4135-AF95-3999C1BA946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AA2398-AD93-42FA-B764-4A7700694B8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AC44-2306-4953-B19D-683749D33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AE73-3FEE-4CD2-BD0A-C123891C6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AD17-513F-4AE5-8533-0B09E74D9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60D4-8944-43F6-A4A7-085D75F11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039D-C7A7-47E3-8575-96309CFED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6AAC-928F-4C15-98C5-E10537094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F173-1A15-43F3-9541-180AA1851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2A16-19B4-48BA-A468-8A68ADB18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9882-7E7E-4FCD-8F59-FE9FECBA9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55EB-DC71-44B9-AFBA-24927282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C8F8-7144-4F1A-A2C2-ED103497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18C3-3D37-40D3-8AD9-EF67811C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62AC85-9E7F-4343-9ED2-7EFA23395589}" type="datetime">
              <a:rPr b="0" lang="ja-JP" sz="1200" spc="-1" strike="noStrike">
                <a:solidFill>
                  <a:srgbClr val="898989"/>
                </a:solidFill>
                <a:latin typeface="Calibri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2nd IETF, November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2D80BE-FAC9-42EC-B07F-6346F4552FA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3367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IGMP/MLD-Based Explicit Membership Tracking Function for Multicast Routers</a:t>
            </a:r>
            <a:br>
              <a:rPr sz="25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raft-ietf-pim-explicit-tracking-00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5122800"/>
            <a:ext cx="6400800" cy="81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itoshi Asaed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icolai Leyman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テキスト ボックス 3"/>
          <p:cNvSpPr/>
          <p:nvPr/>
        </p:nvSpPr>
        <p:spPr>
          <a:xfrm>
            <a:off x="2637000" y="690480"/>
            <a:ext cx="403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ETF, November 2011, Taipei, Taiw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スライド番号プレースホルダ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E58EC1-8C28-4277-BFED-20E0195EC1F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フッター プレースホルダ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2nd IETF, November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Ste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sta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formational RF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cument improv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dress open iss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en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スライド番号プレースホル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E3D291-C7BE-462C-A5CF-A0227C91413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フッター プレースホルダ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2nd IETF, November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explicit tracking function on routers works f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-host accoun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Reducing the number of transmitted Query and Report messa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hortening leave latenc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taining multicast channel characteristics (or statistic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スライド番号プレースホル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D7B2FE-E071-4A3F-8E36-524DAF6053D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フッター プレースホルダ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2nd IETF, November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bjective 1: the Number of Messages Transmis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ever a router (querier) receives the State-Change Report, it sends the corresponding Group-Specific or Group-and-Source Specific Query messages to confirm whether the Report sender is the last member host or no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スライド番号プレースホル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1CFCDB-A05C-4D0A-865F-DF2873DEDBE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フッター プレースホルダ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2nd IETF, November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owering Specific Query Transmis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router (querier) enabling the explicit tracking function does not need to always ask Current-State Report message transmission to the member hosts whenever it receives the State-Change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cause the router can expect whether the State-Change Report sender is the last remaining member of the channel or no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スライド番号プレースホル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D33383-04D7-459A-AC3E-20715B5647E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フッター プレースホルダ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2nd IETF, November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ctive 2: Leave Laten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[Last Member Query Interval] (LMQI) and [Last Listener Query Interval] (LLQI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aximum time allowed before sending a responding Rep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[Last Member Query Count] (LMQC) and [Last Listener Query Count] (LLQC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number of Group-Specific Queries or Group-and-Source Specific Queries sent before the router assumes there are no local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[Last Member Query Time] (LMQT) and [Last Listener Query Time] (LLQT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tal time the router should wait for a report, after the Querier has sent the first que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スライド番号プレースホル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34AF51-A7C2-4EC5-9BFC-B35DB52A208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フッター プレースホルダ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2nd IETF, November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ortening Leave Latenc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[Last Member Query Timer (LMQT)] and [Last Listener Query Timer (LLQT)]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fault: LMQI * LMQC (= 2 sec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orter value contributes to shortening leave late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MQC = 1, then LMQT = 1 se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MQI can be shorter, e.g., 0.5 se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o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 is a risk that a router misses Report messages from remaining members if the router adopts small LMQC/LLQ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ever the wrong expectation would be lower happened for the router enabling the explicit tracking fun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スライド番号プレースホルダ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8BB255-F08F-4B48-B151-4D880EB6068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フッター プレースホルダ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2nd IETF, November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mbership State Infor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42800" y="1600200"/>
            <a:ext cx="840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mbership state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S, G, Number of receivers, (Receiver records)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eiver reco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IGMP/MLD Membership/Listener Report sender's address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” is with “Null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CLUDE mode (S,G) jo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grate (*,G) join into the stat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スライド番号プレースホル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BB30E2-653B-40C2-BCEF-C3D8E55D4ED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フッター プレースホルダ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2nd IETF, November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ati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work for IGMPv1/v2 and MLDv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cause of the Report suppression mechani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cking router keeps the current state as 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work for IGMPv3/MLDv2 router changing its compatibility mode to the older ver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router keeps the current state as 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スライド番号プレースホル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EE308D-9905-4790-AD78-9C781C4BAC3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フッター プレースホルダ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2nd IETF, November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pen Issues in Interoperability with Non-supported/Disabled Rout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577520"/>
            <a:ext cx="8229600" cy="49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 case when querier enables exp. tracking but non-querier(s) do not support or disable i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Querier does not query to confirm the last member (when it knows there are other members), but non-querier (who is a forwarder but does not know other members) prunes the st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ossible solution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sable exp. tracking function when [Other Querier Present Interval] is not 0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ut routers SHOULD be able to configure disabling this disable function to avoid 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eferably, new IGMP/MLD message for informing that querier/non-querier(s) enables/disables exp. tracking and synchronizing the behavior is define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フッター プレースホルダー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2nd IETF, November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スライド番号プレースホルダー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CF68F3-59C6-4A2C-8D4B-784870766D6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7T10:30:49Z</dcterms:created>
  <dc:creator>朝枝 仁</dc:creator>
  <dc:description/>
  <dc:language>en-US</dc:language>
  <cp:lastModifiedBy>朝枝 仁</cp:lastModifiedBy>
  <dcterms:modified xsi:type="dcterms:W3CDTF">2011-11-13T14:59:18Z</dcterms:modified>
  <cp:revision>39</cp:revision>
  <dc:subject/>
  <dc:title>IGMP/MLD-Based Explicit Membership Tracking Function for Multicast Routers   draft-asaeda-mboned-explicit-tracking-00</dc:title>
</cp:coreProperties>
</file>