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7C6-C369-4474-90FA-98D56AFA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75F-51B2-4158-8C2F-8D9656F8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3A9-1B8A-4A5E-A9DE-5A0AAD0D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CC9-5005-4264-A612-EB932B97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1AC-B85B-4D6B-A50F-F54F9C1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DA1-943E-40F9-A951-1C00322E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3FD-8FC4-4026-9048-47994BFE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0FA-F165-45FD-87B9-28C41B5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45E-BD14-4B7E-BBBC-90C28A85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9DA-4416-456F-812B-3F6D7B1C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F6A-1126-4940-BDF0-A68B78E7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38C-8C9F-4E49-8CC0-F14A7615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64F-57B4-4658-94D4-4539EF171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ing Unnecessary Upstream Traffic in Bidir-P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san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th IETF,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tate maintenan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-specific RP-Prunes (Scenario #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from RP down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refreshes RP-Prune as long as it has only one downstream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op propagates the RP-Prune unless it has more than one downstream IF/N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Graf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sends interface-wide RP-Graft to wherever it sent interface-wide RP-Prune before, when it gets initial corresponding (*,G) joi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nds neighbor-specific RP-Prune to the new/only downstream neighbor (scenario #1 becomes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outer (RP or not) who sent Neighbor-specific RP-Prune before triggers RP-Graft when it first gets more than one downstream IF/nbr for a (*, G) joi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-specific RP-Graft sent to the downstream neighbor recorded in the RP-Prun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ving RP-Graft, downstream rou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(*,G) notification route (scenario #1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PF IF to (*,G) forwarding route (scenario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with RP-Prune-Cancel as 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stream retransmits RP-Graft until all applicable downstream neighbors in the RP-Prune state have ack’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RPA is not on a loopback I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Bidir-PIM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always forwarded to the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/Prunes not sent to the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/Prunes sent to ALL-PIM-ROUTERs on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t further dow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forwarded to the RPL only if a corresponding join has been received on the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uter on the RPL is called a virtual RP and follows the RP-Prune/Graft procedures defin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virtual RP considered as a downstream for a particular group if a join has been received fro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-Graft/Prune/Prune-Keep/Prune-Cancel messages are not sent to the RPL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RP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11960" y="122472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26360" y="358524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6920" y="3585240"/>
            <a:ext cx="4719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26360" y="259488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6920" y="259488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6920" y="122328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057400" y="1905120"/>
            <a:ext cx="525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9280" y="1676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1600200"/>
            <a:ext cx="60984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6002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1600200"/>
            <a:ext cx="1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5320" y="3581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5320" y="2590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80040" y="2590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80040" y="1219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5320" y="1219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920" y="35053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37339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2971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29718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9960" y="44560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RP R1~R3 all have only one downstream (R4 on the RPL), but do not send RP-Prune (to R4 on the R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RP R4 has one downstream R6 and sends RP-Prune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5 gets a receiver, R4 will send RP-Graft to R6 because it now has two dowstream: R6 and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59480" y="1712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of topolog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PF IF/nb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RP-Graft dow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RP-Prun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(*,G) notification rout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ack, or add new RPF IF to (*,G) forwarding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driven (*,G) RP-Prune states on relevant sending branch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ffic that nobody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with receivers does go through w/o data-drive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ut when source stops s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-driven (*,G) RP-Prune states on relevant single-downstream router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states for stopping unnecessary upstream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some missing details in draft 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comments and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#1 of unnecessary upstream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e depicts all routers and their RPF interfaces (towards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RPA is on a loopac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general situation described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ceiver anywhere – traffic should be stopped at the FHR R3/R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712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040" y="3124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2000" y="3084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108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9620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21480" y="5029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6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626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2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9548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743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057040" y="3505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5053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37124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58092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0680" y="4075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2200" y="586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4290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76720" y="44953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352680" y="3580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81080" y="358092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71800" y="2666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816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6640" y="22096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781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0800" y="27036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#2 of unnecessary upstream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712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3124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3084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9108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9620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1480" y="5029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6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26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82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9548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743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3505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35053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37124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58092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4680" y="41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6080" y="57913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5760" y="4114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7880" y="308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52480" y="35809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4160" y="579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0920" y="26665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95480" y="38095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58040" y="3124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1055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343400" y="2742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5232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1800" y="5065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8880" y="2209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8520" y="3124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8880" y="441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962160" y="4647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816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6640" y="22096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81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0800" y="27036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procedures for scenario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has (*, G-prefix) notification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. the normal “forwarding to RPL”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hitting the route triggers throttled control plane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traffic is being received unnecess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 it would have hit specific (*,G) forwarding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tification triggers RP-Prune out of the incoming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ast to ALL-PIM-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-wide RP-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ving the RP-Prune, downstream router installs (*, G) notification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traffic hits the (*, G) notification route, triggering RP-Prune further downstream, instead of being forwarded up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-Prune is data-triggered hop-by-h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pre-installed (*,G-prefix) notification route on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triggered (*,G) notification route on downstream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cenario #1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6765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438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3429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438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3429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5012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2040" y="243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25000" y="2398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34080" y="3465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200" y="3465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4480" y="4343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9000" y="4379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05680" y="4379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25000" y="4379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038480" y="2057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057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00040" y="28195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819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809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809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23920" y="38098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809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3680" y="3389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5200" y="5181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720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962160" y="1981080"/>
            <a:ext cx="5331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23720" y="289548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1640" y="388620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971800"/>
            <a:ext cx="3045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6840" y="25909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-Pr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23623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14240" y="3276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procedures for scenario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sends periodic neighbor-specific RP-Prune to the only downstream neighbor in (*,G) joi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Explicit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T is not used, another downstream with the (*,G) state needs to trigger overriding (*,G) join upon receiving the RP-Prune, and the target of RP-Prune needs to ignore the RP-Prune when receiving that overriding (*,G)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tream router prunes the RPF IF from (*,G) forwarding route’s OIF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s traffic from going up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tream router further propagates RP-Prune to its only downstream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s when there are more than one downstream IF/neighbor – R4 in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cenario #2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2057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8195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8098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28195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8098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7480" y="2057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760" y="2819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72720" y="2779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81800" y="3846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6920" y="3846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11840" y="4724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86720" y="476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53400" y="476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2720" y="476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86200" y="24382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32004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2004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361960" y="41911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4191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572000" y="41911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41911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5400" y="3809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0" y="5486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16480" y="38098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8600" y="2779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32004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24520" y="5486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864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8760" y="2819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09552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520" y="2438280"/>
            <a:ext cx="38124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2160" y="476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9600" y="19051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8880" y="2819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9600" y="4114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17720" y="22096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-Pr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7480" y="1981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IF &amp;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downstream IF where RP-Prune wa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for interface-wide or nbr-specific RP-Pr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downstream neighbor on th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br-specific prune was sent to it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P-Prune-Keep was received from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mer to time out if downstream stops refreshing RP-Prune-K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-wide RP-Prune case (scenario #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tate maintena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-wide RP-Prunes (Scenario #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from downstream up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R keeps receiving data traffic, keeps the RP-Prune state alive for the incoming interface, and refreshes RP-Prune-Keep towards its up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op will refresh its upstream by RP-Prune-K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ource stops sending, FHR times out its RP-Prune state, and sends RP-Prune-Cancel up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op propagates the RP-Prune-Cancel if it no longer has other downstream in the RP-Prune state (i.e., no other sending bran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01:38:19Z</dcterms:created>
  <dc:creator>zzhang</dc:creator>
  <dc:description/>
  <dc:language>en-US</dc:language>
  <cp:lastModifiedBy>zzhang</cp:lastModifiedBy>
  <dcterms:modified xsi:type="dcterms:W3CDTF">2011-11-14T09:34:01Z</dcterms:modified>
  <cp:revision>72</cp:revision>
  <dc:subject/>
  <dc:title>Avoiding unnecessary upstream traffic in Bidir-PIM</dc:title>
</cp:coreProperties>
</file>