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DE4-4BE6-4B4C-B0AD-7342AABE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F14F-F3F6-40AA-9DDB-B26718F7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DD2-0551-488D-9A0E-45169102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CDA1-9AA3-486C-AE8E-3F03D7B2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66D-D860-4845-B3FA-8721D15C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416-6CA0-4364-B9B3-1C3F71D5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0C9-55CA-4F41-9E7F-511C26FD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82B-1335-473A-BF25-2A8731D8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41A-D2AF-4BF7-8360-1A1041A8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E1D-8E2C-4566-BCBB-808853DF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1FE-406F-44E6-BD06-F82FEE95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136-DC8F-4D91-8A69-D692123B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5B47-5204-49E5-869A-9BBE777D5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ing Unnecessary Upstream Traffic in Bidir-P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frey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san 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ip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th IETF, Tai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-Prune state maintenanc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-specific RP-Prunes (Scenario #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ed from RP down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 refreshes RP-Prune as long as it has only one downstream neigh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hop propagates the RP-Prune unless it has more than one downstream IF/N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-Graf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 sends interface-wide RP-Graft to wherever it sent interface-wide RP-Prune before, when it gets initial corresponding (*,G) join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ends neighbor-specific RP-Prune to the new/only downstream neighbor (scenario #1 becomes #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router (RP or not) who sent Neighbor-specific RP-Prune before triggers RP-Graft when it first gets more than one downstream IF/nbr for a (*, G) join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-specific RP-Graft sent to the downstream neighbor recorded in the RP-Prun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iving RP-Graft, downstream rou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s (*,G) notification route (scenario #1)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RPF IF to (*,G) forwarding route (scenario #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with RP-Prune-Cancel as 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stream retransmits RP-Graft until all applicable downstream neighbors in the RP-Prune state have ack’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RPA is not on a loopback I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Bidir-PIM behav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always forwarded to the R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/Prunes not sent to the R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behav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/Prunes sent to ALL-PIM-ROUTERs on R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not further down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forwarded to the RPL only if a corresponding join has been received on the R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outer on the RPL is called a virtual RP and follows the RP-Prune/Graft procedures defined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virtual RP considered as a downstream for a particular group if a join has been received from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-Graft/Prune/Prune-Keep/Prune-Cancel messages are not sent to the RPL th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RP ill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11960" y="1224720"/>
            <a:ext cx="471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26360" y="3585240"/>
            <a:ext cx="471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16920" y="3585240"/>
            <a:ext cx="4719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26360" y="2594880"/>
            <a:ext cx="471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16920" y="2594880"/>
            <a:ext cx="471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16920" y="1223280"/>
            <a:ext cx="471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057400" y="1905120"/>
            <a:ext cx="5257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69280" y="1676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67480" y="1600200"/>
            <a:ext cx="60984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160020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1600200"/>
            <a:ext cx="1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75320" y="3581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75320" y="25909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80040" y="25909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80040" y="1219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75320" y="1219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920" y="35053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37339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29718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297180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9960" y="445608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RP R1~R3 all have only one downstream (R4 on the RPL), but do not send RP-Prune (to R4 on the R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RP R4 has one downstream R6 and sends RP-Prune to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5 gets a receiver, R4 will send RP-Graft to R6 because it now has two dowstream: R6 and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59480" y="1712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ing of topology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PF IF/nbr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s RP-Graft down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RP-Prun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(*,G) notification route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back, or add new RPF IF to (*,G) forwarding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ing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-driven (*,G) RP-Prune states on relevant sending branch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ffic that nobody w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with receivers does go through w/o data-driven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out when source stops s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-driven (*,G) RP-Prune states on relevant single-downstream router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states for stopping unnecessary upstream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in some missing details in draft 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 comments and WG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 #1 of unnecessary upstream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ee depicts all routers and their RPF interfaces (towards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RPA is on a loopac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general situation described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ceiver anywhere – traffic should be stopped at the FHR R3/R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236232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50292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50292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31240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41148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1240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41148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50292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50292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712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9040" y="31240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82000" y="30844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91080" y="4151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96200" y="4151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21480" y="50292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600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6268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8200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895480" y="27432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7432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057040" y="35053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50532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371240" y="44956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495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58092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44956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0680" y="4075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2200" y="5867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4290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76720" y="449532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352680" y="3580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981080" y="358092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971800" y="2666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816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16640" y="22096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7816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00800" y="270360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 #2 of unnecessary upstream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36232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50292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0292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31240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1148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31240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41148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50292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50292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0712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9040" y="31240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82000" y="30844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91080" y="4151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96200" y="4151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1480" y="50292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600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268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8200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895480" y="27432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7432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57040" y="35053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350532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371240" y="44956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4495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58092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44956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4680" y="4114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6080" y="57913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5760" y="41148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7880" y="30844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752480" y="35809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3505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4160" y="5791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95680" y="5409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90920" y="26665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895480" y="38095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58040" y="31240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1055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343400" y="27428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35232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51800" y="50655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8880" y="2209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8520" y="31240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8880" y="441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962160" y="4647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7816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16640" y="22096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816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00800" y="270360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-Prune procedures for scenario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 has (*, G-prefix) notification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. the normal “forwarding to RPL”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hitting the route triggers throttled control plane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traffic is being received unnecess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wise it would have hit specific (*,G) forwarding ro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tification triggers RP-Prune out of the incoming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ast to ALL-PIM-RO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-wide RP-Pr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iving the RP-Prune, downstream router installs (*, G) notification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quent traffic hits the (*, G) notification route, triggering RP-Prune further downstream, instead of being forwarded up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-Prune is data-triggered hop-by-h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pre-installed (*,G-prefix) notification route on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triggered (*,G) notification route on downstream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-Prune scenario #1 ill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167652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43434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43434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24382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34290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24382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34290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43434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43434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50120" y="167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12040" y="2438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25000" y="2398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34080" y="3465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200" y="3465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4480" y="43434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39000" y="43797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05680" y="43797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25000" y="43797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038480" y="20574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0574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200040" y="28195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281952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809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3809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723920" y="38098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3809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3680" y="3389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5200" y="51814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5720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962160" y="1981080"/>
            <a:ext cx="53316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123720" y="2895480"/>
            <a:ext cx="3049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571640" y="388620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2971800"/>
            <a:ext cx="30456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6840" y="25909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-Pr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86600" y="23623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514240" y="32767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-Prune procedures for scenario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 sends periodic neighbor-specific RP-Prune to the only downstream neighbor in (*,G) join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Explicit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T is not used, another downstream with the (*,G) state needs to trigger overriding (*,G) join upon receiving the RP-Prune, and the target of RP-Prune needs to ignore the RP-Prune when receiving that overriding (*,G)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tream router prunes the RPF IF from (*,G) forwarding route’s OIF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s traffic from going up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tream router further propagates RP-Prune to its only downstream neigh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es when there are more than one downstream IF/neighbor – R4 in th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-Prune scenario #2 ill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20574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47242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47242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281952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8098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05320" y="281952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8098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47242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47242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97480" y="2057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9760" y="2819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72720" y="2779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81800" y="3846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86920" y="3846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11840" y="4724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86720" y="4761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53400" y="4761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2720" y="4761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886200" y="24382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243828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048120" y="320040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32004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361960" y="41911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41911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572000" y="419112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52880" y="41911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5400" y="3809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16800" y="54864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16480" y="38098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08600" y="27795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623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320040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24520" y="5486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864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48760" y="28195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095520" y="3048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520" y="2438280"/>
            <a:ext cx="38124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2160" y="4761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59600" y="19051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68880" y="28195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59600" y="41148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17720" y="22096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-Pr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67480" y="19810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-Prun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stream IF &amp; Neigh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downstream IF where RP-Prune was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 for interface-wide or nbr-specific RP-Pr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downstream neighbor on th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br-specific prune was sent to it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P-Prune-Keep was received from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imer to time out if downstream stops refreshing RP-Prune-K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-wide RP-Prune case (scenario #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-Prune state maintenan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-wide RP-Prunes (Scenario #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ed from downstream up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R keeps receiving data traffic, keeps the RP-Prune state alive for the incoming interface, and refreshes RP-Prune-Keep towards its up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op will refresh its upstream by RP-Prune-K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ource stops sending, FHR times out its RP-Prune state, and sends RP-Prune-Cancel up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op propagates the RP-Prune-Cancel if it no longer has other downstream in the RP-Prune state (i.e., no other sending bran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01:38:19Z</dcterms:created>
  <dc:creator>zzhang</dc:creator>
  <dc:description/>
  <dc:language>en-US</dc:language>
  <cp:lastModifiedBy>zzhang</cp:lastModifiedBy>
  <dcterms:modified xsi:type="dcterms:W3CDTF">2011-11-14T09:34:01Z</dcterms:modified>
  <cp:revision>72</cp:revision>
  <dc:subject/>
  <dc:title>Avoiding unnecessary upstream traffic in Bidir-PIM</dc:title>
</cp:coreProperties>
</file>