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480EB-EA4A-4D6A-9A39-633713BAF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DD10-4846-4596-A68E-AD539B33D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C72B2-0CC9-401B-B2D3-189E4D11E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E16DC-AAC5-4BBE-A6A8-EAD5E1203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A7C91-71CB-43E3-AED8-B9ED2E502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EA8CD-6CD9-4CE5-A628-DA77C609C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38C12-E6EE-4A78-BD5A-AB3F57BEF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BD891-759D-4D1D-9F7D-4642E3C6B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8F8AE-3520-4F04-9F1D-0A349B41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AF0EA-AED3-4F24-A1FA-A9F36C7F0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23B0-416E-44EB-B67F-F789003C7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1E5EA-8D0E-496D-A7C3-2D6371676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7921E-E28C-459A-BE5C-B3FA37A5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2768B-6028-4B9E-9471-B999E548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9DF07-4741-4F51-95FD-4A272F65A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AD066-1F50-4164-ABA7-71541FFC9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C65DF-E11C-4346-9932-1C7D8C1DA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6E3D2-B034-4765-B7CD-44350323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5B29-0FCB-4382-9F64-DF886E197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9372-37BA-4D28-8095-52B69AE8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5B6D-A937-4C32-A89F-0D07C3BBA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9EF6-1AEA-4FEE-AFB1-7E92EBB7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2B3B-4799-4835-8827-E13B15567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9C86-0DD2-429C-BF1D-19FCF76F7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66C2-5912-4D3C-B1A6-AD48EBF14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3422-F544-4A9A-B25C-78885B58D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82 PIM wg meeting</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85"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bashing, document statu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Stig 15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rfc4601bis-01 and questionnaire</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o Zheng 15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cmp-01</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iqun Cai 1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xplicit-tracking-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toshi Asaeda 1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hou-pim-drlb-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ri Vallepalli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zzhang-pim-bidir-rp-prune-graft-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Zhang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wijnands-pim-source-discovery-bsr-00</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Wijnands 20 min</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karan-mofrr-01</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no/Ice 20 mi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22040"/>
            <a:ext cx="6858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Note Well</a:t>
            </a:r>
            <a:endParaRPr b="0" lang="en-US" sz="4400" spc="-1" strike="noStrike">
              <a:solidFill>
                <a:srgbClr val="000000"/>
              </a:solidFill>
              <a:latin typeface="Arial"/>
            </a:endParaRPr>
          </a:p>
        </p:txBody>
      </p:sp>
      <p:sp>
        <p:nvSpPr>
          <p:cNvPr id="87" name="Rectangle 5"/>
          <p:cNvSpPr/>
          <p:nvPr/>
        </p:nvSpPr>
        <p:spPr>
          <a:xfrm>
            <a:off x="304920" y="1066680"/>
            <a:ext cx="8839080" cy="563904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submission to the IETF intended by the Contributor for publication as all or</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rt of an IETF Internet-Draft or RFC and any statement made within the context</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an IETF activity is considered an "IETF Contribution". Such statements includ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ral statements in IETF sessions, as well as written and electronic communication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TF plenary session,</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working group or portion thereof,</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IETF mailing list, including the IETF list itself,</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ny working group or design team list, or any other list</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unctioning under IETF auspice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宋体"/>
              </a:rPr>
              <a:t>All IETF Contributions are subject to the rules of RFC 3978 (updated by RFC 474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lease consult RFC 3978 (and RFC 4748) for detail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90" name="PlaceHolder 2"/>
          <p:cNvSpPr>
            <a:spLocks noGrp="1"/>
          </p:cNvSpPr>
          <p:nvPr>
            <p:ph/>
          </p:nvPr>
        </p:nvSpPr>
        <p:spPr>
          <a:xfrm>
            <a:off x="456840" y="1447560"/>
            <a:ext cx="79246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mtid published as RFC 64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IESG, waiting for one discuss to be resolv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pim-pop-cou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id working group last call, what now?</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work items</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rfc4601b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cm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explicit-trackin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Cisco Systems, Inc.</dc:creator>
  <dc:description/>
  <dc:language>en-US</dc:language>
  <cp:lastModifiedBy>Stig Venaas (svenaas)</cp:lastModifiedBy>
  <dcterms:modified xsi:type="dcterms:W3CDTF">2011-11-14T03:11:49Z</dcterms:modified>
  <cp:revision>33</cp:revision>
  <dc:subject/>
  <dc:title>Thoughts on PIM over Reliable Transport</dc:title>
</cp:coreProperties>
</file>