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FCE04C-8F13-4219-8D89-68B1D30016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9857A-F309-46BA-8FA5-8CD61ED89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AD5291-E2D7-4D8D-A3EF-77D057741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DE2BA6-C335-47A0-BD75-C5C0B249FF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56E13F-E9BD-40CA-B705-30A4C67222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5CBB22-68B0-451B-AA9B-6F36CA9983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3438CA-1EC5-4F3A-8E78-9AAA2F0857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8B3F04-F8CA-4525-BAA5-0BCA9F9363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D7360F-EA47-4CE1-BB40-84A1C9521C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EC34D3-524A-4FD7-9F93-654377FEB7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3B409C-DCDC-4632-9F6A-85C5114CD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DC30B-D1F5-4EA5-99D6-DA7F1254C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487B2-DBF1-492C-A35E-759AA10C2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D21FC-7824-48F4-AC91-40362B7E7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191486-AE83-45E4-AE33-ED5A6B8C18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19D832-2049-4DD2-B49F-88FBA121C5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7F3A3C-6C5E-4A63-BB76-B6363221B8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5180B-1249-4371-906B-1A4082C3A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969E6-38FF-431C-A689-9EF8DF5BD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3AFEE-F393-4F2F-A7CF-34368BC15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391CE-F7CF-427B-8F6C-8A7091ADC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FE35B-7952-41C7-B527-36A67382C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C785F-0AF5-4D4E-9082-5E2E96A85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EAE77-2A4A-4790-9761-3D0D60B779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1D405-FAFB-4B19-9F59-CE8659B40D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16572-CAE8-4E18-920C-B42A650B4D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ETF 82 PIM wg meeting</a:t>
            </a:r>
            <a:endParaRPr b="0" lang="en-US" sz="4400" spc="-1" strike="noStrike">
              <a:solidFill>
                <a:srgbClr val="000000"/>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85" name="PlaceHolder 2"/>
          <p:cNvSpPr>
            <a:spLocks noGrp="1"/>
          </p:cNvSpPr>
          <p:nvPr>
            <p:ph/>
          </p:nvPr>
        </p:nvSpPr>
        <p:spPr>
          <a:xfrm>
            <a:off x="456840" y="1447560"/>
            <a:ext cx="8381880" cy="51051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da bashing, document status</a:t>
            </a:r>
            <a:endParaRPr b="0" lang="en-US" sz="18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ke/Stig 15 min</a:t>
            </a:r>
            <a:endParaRPr b="0" lang="en-US" sz="1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ietf-pim-rfc4601bis-01 and questionnaire</a:t>
            </a:r>
            <a:endParaRPr b="0" lang="en-US" sz="18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o Zheng 15 min</a:t>
            </a:r>
            <a:endParaRPr b="0" lang="en-US" sz="1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ietf-pim-ecmp-01</a:t>
            </a:r>
            <a:endParaRPr b="0" lang="en-US" sz="18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iqun Cai 10 min</a:t>
            </a:r>
            <a:endParaRPr b="0" lang="en-US" sz="1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ietf-pim-explicit-tracking-00</a:t>
            </a:r>
            <a:endParaRPr b="0" lang="en-US" sz="18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toshi Asaeda 10 min</a:t>
            </a:r>
            <a:endParaRPr b="0" lang="en-US" sz="1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hou-pim-drlb-00</a:t>
            </a:r>
            <a:endParaRPr b="0" lang="en-US" sz="18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ri Vallepalli 20 min</a:t>
            </a:r>
            <a:endParaRPr b="0" lang="en-US" sz="1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zzhang-pim-bidir-rp-prune-graft-00</a:t>
            </a:r>
            <a:endParaRPr b="0" lang="en-US" sz="18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effrey Zhang 20 min</a:t>
            </a:r>
            <a:endParaRPr b="0" lang="en-US" sz="1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wijnands-pim-source-discovery-bsr-00</a:t>
            </a:r>
            <a:endParaRPr b="0" lang="en-US" sz="18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e Wijnands 20 min</a:t>
            </a:r>
            <a:endParaRPr b="0" lang="en-US" sz="1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karan-mofrr-01</a:t>
            </a:r>
            <a:endParaRPr b="0" lang="en-US" sz="18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no/Ice 20 mi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22040"/>
            <a:ext cx="6858000" cy="94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Note Well</a:t>
            </a:r>
            <a:endParaRPr b="0" lang="en-US" sz="4400" spc="-1" strike="noStrike">
              <a:solidFill>
                <a:srgbClr val="000000"/>
              </a:solidFill>
              <a:latin typeface="Arial"/>
            </a:endParaRPr>
          </a:p>
        </p:txBody>
      </p:sp>
      <p:sp>
        <p:nvSpPr>
          <p:cNvPr id="87" name="Rectangle 5"/>
          <p:cNvSpPr/>
          <p:nvPr/>
        </p:nvSpPr>
        <p:spPr>
          <a:xfrm>
            <a:off x="304920" y="1066680"/>
            <a:ext cx="8839080" cy="5639040"/>
          </a:xfrm>
          <a:prstGeom prst="rect">
            <a:avLst/>
          </a:prstGeom>
          <a:noFill/>
          <a:ln w="0">
            <a:noFill/>
          </a:ln>
        </p:spPr>
        <p:style>
          <a:lnRef idx="0"/>
          <a:fillRef idx="0"/>
          <a:effectRef idx="0"/>
          <a:fontRef idx="minor"/>
        </p:style>
        <p:txBody>
          <a:bodyPr lIns="90360" rIns="90360" tIns="44280" bIns="44280" anchor="t">
            <a:noAutofit/>
          </a:bodyPr>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ny submission to the IETF intended by the Contributor for publication as all or</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part of an IETF Internet-Draft or RFC and any statement made within the context</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of an IETF activity is considered an "IETF Contribution". Such statements include</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oral statements in IETF sessions, as well as written and electronic communications</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made at any time or place, which are addressed to: </a:t>
            </a:r>
            <a:endParaRPr b="0" lang="en-US" sz="1400" spc="-1" strike="noStrike">
              <a:solidFill>
                <a:srgbClr val="000000"/>
              </a:solidFill>
              <a:latin typeface="Arial"/>
            </a:endParaRPr>
          </a:p>
          <a:p>
            <a:pPr>
              <a:lnSpc>
                <a:spcPct val="85000"/>
              </a:lnSpc>
              <a:spcBef>
                <a:spcPts val="88"/>
              </a:spcBef>
              <a:spcAft>
                <a:spcPts val="88"/>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he IETF plenary session,</a:t>
            </a:r>
            <a:endParaRPr b="0" lang="en-US" sz="1400" spc="-1" strike="noStrike">
              <a:solidFill>
                <a:srgbClr val="000000"/>
              </a:solidFill>
              <a:latin typeface="Arial"/>
            </a:endParaRPr>
          </a:p>
          <a:p>
            <a:pPr>
              <a:lnSpc>
                <a:spcPct val="85000"/>
              </a:lnSpc>
              <a:spcBef>
                <a:spcPts val="88"/>
              </a:spcBef>
              <a:spcAft>
                <a:spcPts val="88"/>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ny IETF working group or portion thereof,</a:t>
            </a:r>
            <a:endParaRPr b="0" lang="en-US" sz="1400" spc="-1" strike="noStrike">
              <a:solidFill>
                <a:srgbClr val="000000"/>
              </a:solidFill>
              <a:latin typeface="Arial"/>
            </a:endParaRPr>
          </a:p>
          <a:p>
            <a:pPr>
              <a:lnSpc>
                <a:spcPct val="85000"/>
              </a:lnSpc>
              <a:spcBef>
                <a:spcPts val="88"/>
              </a:spcBef>
              <a:spcAft>
                <a:spcPts val="88"/>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he IESG or any member thereof on behalf of the IESG,</a:t>
            </a:r>
            <a:endParaRPr b="0" lang="en-US" sz="1400" spc="-1" strike="noStrike">
              <a:solidFill>
                <a:srgbClr val="000000"/>
              </a:solidFill>
              <a:latin typeface="Arial"/>
            </a:endParaRPr>
          </a:p>
          <a:p>
            <a:pPr>
              <a:lnSpc>
                <a:spcPct val="85000"/>
              </a:lnSpc>
              <a:spcBef>
                <a:spcPts val="88"/>
              </a:spcBef>
              <a:spcAft>
                <a:spcPts val="88"/>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he IAB or any member thereof on behalf of the IAB,</a:t>
            </a:r>
            <a:endParaRPr b="0" lang="en-US" sz="1400" spc="-1" strike="noStrike">
              <a:solidFill>
                <a:srgbClr val="000000"/>
              </a:solidFill>
              <a:latin typeface="Arial"/>
            </a:endParaRPr>
          </a:p>
          <a:p>
            <a:pPr>
              <a:lnSpc>
                <a:spcPct val="85000"/>
              </a:lnSpc>
              <a:spcBef>
                <a:spcPts val="88"/>
              </a:spcBef>
              <a:spcAft>
                <a:spcPts val="88"/>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ny IETF mailing list, including the IETF list itself,</a:t>
            </a:r>
            <a:endParaRPr b="0" lang="en-US" sz="1400" spc="-1" strike="noStrike">
              <a:solidFill>
                <a:srgbClr val="000000"/>
              </a:solidFill>
              <a:latin typeface="Arial"/>
            </a:endParaRPr>
          </a:p>
          <a:p>
            <a:pPr>
              <a:lnSpc>
                <a:spcPct val="85000"/>
              </a:lnSpc>
              <a:spcBef>
                <a:spcPts val="88"/>
              </a:spcBef>
              <a:spcAft>
                <a:spcPts val="88"/>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ny working group or design team list, or any other list</a:t>
            </a:r>
            <a:endParaRPr b="0" lang="en-US" sz="1400" spc="-1" strike="noStrike">
              <a:solidFill>
                <a:srgbClr val="000000"/>
              </a:solidFill>
              <a:latin typeface="Arial"/>
            </a:endParaRPr>
          </a:p>
          <a:p>
            <a:pPr>
              <a:lnSpc>
                <a:spcPct val="85000"/>
              </a:lnSpc>
              <a:spcBef>
                <a:spcPts val="88"/>
              </a:spcBef>
              <a:spcAft>
                <a:spcPts val="88"/>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functioning under IETF auspices,</a:t>
            </a:r>
            <a:endParaRPr b="0" lang="en-US" sz="1400" spc="-1" strike="noStrike">
              <a:solidFill>
                <a:srgbClr val="000000"/>
              </a:solidFill>
              <a:latin typeface="Arial"/>
            </a:endParaRPr>
          </a:p>
          <a:p>
            <a:pPr>
              <a:lnSpc>
                <a:spcPct val="85000"/>
              </a:lnSpc>
              <a:spcBef>
                <a:spcPts val="88"/>
              </a:spcBef>
              <a:spcAft>
                <a:spcPts val="88"/>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he RFC Editor or the Internet-Drafts function</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ea typeface="宋体"/>
              </a:rPr>
              <a:t>All IETF Contributions are subject to the rules of RFC 3978 (updated by RFC 4748) and RFC 3979 (updated by RFC 4879).</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tatements made outside of an IETF session, mailing list or other function, that are clearly not intended to be input to an IETF activity, group or function, are not IETF Contributions in the context of this notice.</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Please consult RFC 3978 (and RFC 4748) for details.</a:t>
            </a:r>
            <a:endParaRPr b="0" lang="en-US" sz="1400" spc="-1" strike="noStrike">
              <a:solidFill>
                <a:srgbClr val="000000"/>
              </a:solidFill>
              <a:latin typeface="Arial"/>
            </a:endParaRPr>
          </a:p>
          <a:p>
            <a:pPr>
              <a:lnSpc>
                <a:spcPct val="85000"/>
              </a:lnSpc>
              <a:spcBef>
                <a:spcPts val="88"/>
              </a:spcBef>
              <a:spcAft>
                <a:spcPts val="88"/>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 participant in any IETF activity is deemed to accept all IETF rules of process, as documented in Best Current Practices RFCs and IESG Statements.</a:t>
            </a:r>
            <a:endParaRPr b="0" lang="en-US" sz="1400" spc="-1" strike="noStrike">
              <a:solidFill>
                <a:srgbClr val="000000"/>
              </a:solidFill>
              <a:latin typeface="Arial"/>
            </a:endParaRPr>
          </a:p>
          <a:p>
            <a:pPr>
              <a:lnSpc>
                <a:spcPct val="85000"/>
              </a:lnSpc>
              <a:spcBef>
                <a:spcPts val="88"/>
              </a:spcBef>
              <a:spcAft>
                <a:spcPts val="88"/>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 participant in any IETF activity acknowledges that written, audio and video records of meetings may be made and may be available to the public.</a:t>
            </a:r>
            <a:endParaRPr b="0" lang="en-US" sz="1400" spc="-1" strike="noStrike">
              <a:solidFill>
                <a:srgbClr val="000000"/>
              </a:solidFill>
              <a:latin typeface="Arial"/>
            </a:endParaRPr>
          </a:p>
        </p:txBody>
      </p:sp>
      <p:sp>
        <p:nvSpPr>
          <p:cNvPr id="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90" name="PlaceHolder 2"/>
          <p:cNvSpPr>
            <a:spLocks noGrp="1"/>
          </p:cNvSpPr>
          <p:nvPr>
            <p:ph/>
          </p:nvPr>
        </p:nvSpPr>
        <p:spPr>
          <a:xfrm>
            <a:off x="456840" y="1447560"/>
            <a:ext cx="7924680" cy="51051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ietf-pim-mtid published as RFC 642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ietf-pim-port</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the IESG, waiting for one discuss to be resolved</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ietf-pim-pop-count</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id working group last call, what now?</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work items</a:t>
            </a:r>
            <a:endParaRPr b="0" lang="en-US" sz="2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ietf-pim-rfc4601bi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ietf-pim-ecmp</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ietf-pim-explicit-tracking</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9T19:58:20Z</dcterms:created>
  <dc:creator>Cisco Systems, Inc.</dc:creator>
  <dc:description/>
  <dc:language>en-US</dc:language>
  <cp:lastModifiedBy>Stig Venaas (svenaas)</cp:lastModifiedBy>
  <dcterms:modified xsi:type="dcterms:W3CDTF">2011-11-14T03:11:49Z</dcterms:modified>
  <cp:revision>33</cp:revision>
  <dc:subject/>
  <dc:title>Thoughts on PIM over Reliable Transport</dc:title>
</cp:coreProperties>
</file>