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DA3-7E73-4F18-9937-3E94DE4D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ADF-9E75-4D27-BF61-58CCA7A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7B-BF7E-4C0D-A821-690C22B6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F7D-B040-4C08-9EFD-137ADB95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C12-F202-4D86-A8E0-51EE1B60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49A-D09D-44E8-B3FD-9B5A4BAE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54A-CACA-4CF2-90AC-7F7EC33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D09-16AF-4C60-8084-74A50525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747-850E-49C1-BCF5-91B717B6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D2B-3B18-4086-93D2-F1DE6E57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7F6-8CA7-4614-8B9B-23C89F5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FE7-7FAB-4447-8BC0-DEDA0DF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D7F-F722-4A79-9BD2-57AAF3A0C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Address Withdrawal Over Static P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boutros-pwe3-mpls-tp-mac-wd-02.tx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ithdraw mechanism over static P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PW OAM message defined in “draft-ietf-pwe3-static-pw-status-xx.txt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given MAC withdraw notification is not refreshed forev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ment of OAM messages is mandat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plicate messages are identified using sequence number in order to avoid repeated (unnecessary) flushing of MAC address(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 Withdraw OAM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3520" y="91440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 2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 2 3 4 5 6  7 8 9  0 1 2  3 4 5  6 7 8  9 0 1 2  3 4 5 6  7 8 9 0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0 0 0 1 |Version|   Reserved       |      0xZZ PW OAM Message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ACH TLV Header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Refresh Timer                |    TLV Length   |A|       Flags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1|0 | Sequence Number TLV       |          TLV Length                        |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Sequence Number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MAC List TLV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MAC Flush Parameter TLV (optional)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 Withdraw OAM Message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 Timer field is no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without Sequence Number TLV is d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message (A bit set) does not include MAC TL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nder re-transmits a MAC withdraw message with a given sequence number if it does not receive ACK for that sequence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always acknowledges any incoming MAC withdraw message (new or duplic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processes a MAC withdraw message only if the sequence number of that message is greater than that of the last processed MAC withdraw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nder re-transmits a MAC withdraw message with a given sequence number if it does not receive ACK for that sequence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always acknowledges any incoming MAC withdraw message (new or duplic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ceiver processes a MAC withdraw message only if the sequence number of that message is greater than that of the last processed MAC withdraw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ANA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52280" y="129528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P TLV type name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quence Number TL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29718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4:21:46Z</dcterms:created>
  <dc:creator>Cisco Systems, Inc.</dc:creator>
  <dc:description/>
  <dc:language>en-US</dc:language>
  <cp:lastModifiedBy>sboutros</cp:lastModifiedBy>
  <dcterms:modified xsi:type="dcterms:W3CDTF">2011-11-14T01:14:38Z</dcterms:modified>
  <cp:revision>101</cp:revision>
  <dc:subject/>
  <dc:title>MPLS-LDP Graceful Shutdown Draft</dc:title>
</cp:coreProperties>
</file>