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F24-557A-4C77-B6FE-344E5179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B29-F414-4C28-9801-403FFA8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7FA-57EA-4C52-B4ED-71FA6CA5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17E-BADE-47D3-A230-BFC0F53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120-55F1-4734-AF24-70CF07F3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CA6-7417-43C4-9BEF-86889824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AEB-C32E-4FA4-BFD8-CCB51E7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59E-6D10-44F2-9A0C-132C12A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2DA-754A-46B5-98FA-70AEF57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61A-D27D-49F0-A9ED-6B7E53E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508-754B-4AE9-BA7E-AC1E3FB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993-02BA-4075-846A-F822C20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0DEA-67A6-415E-A818-7CE58914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Address Withdrawal Over Static P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boutros-pwe3-mpls-tp-mac-wd-02.t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ithdraw mechanism over static P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PW OAM message defined in “draft-ietf-pwe3-static-pw-status-xx.txt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iven MAC withdraw notification is not refreshed forev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ment of OAM messages is mandat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plicate messages are identified using sequence number in order to avoid repeated (unnecessary) flushing of MAC address(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 Withdraw OAM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91440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 2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 2 3 4 5 6  7 8 9  0 1 2  3 4 5  6 7 8  9 0 1 2  3 4 5 6  7 8 9 0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0 0 0 1 |Version|   Reserved       |      0xZZ PW OAM Message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ACH TLV Header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Refresh Timer                |    TLV Length   |A|       Flags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1|0 | Sequence Number TLV       |          TLV Length                        |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Sequence Number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MAC List TLV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MAC Flush Parameter TLV (optional)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 Withdraw OAM Message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 Timer field is no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without Sequence Number TLV is d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message (A bit set) does not include MAC TL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nder re-transmits a MAC withdraw message with a given sequence number if it does not receive ACK for that sequence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always acknowledges any incoming MAC withdraw message (new or duplic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processes a MAC withdraw message only if the sequence number of that message is greater than that of the last processed MAC withdraw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nder re-transmits a MAC withdraw message with a given sequence number if it does not receive ACK for that sequence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always acknowledges any incoming MAC withdraw message (new or duplic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processes a MAC withdraw message only if the sequence number of that message is greater than that of the last processed MAC withdraw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ANA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52280" y="1295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P TLV type name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quence Number TL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29718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sboutros</cp:lastModifiedBy>
  <dcterms:modified xsi:type="dcterms:W3CDTF">2011-11-14T01:14:38Z</dcterms:modified>
  <cp:revision>101</cp:revision>
  <dc:subject/>
  <dc:title>MPLS-LDP Graceful Shutdown Draft</dc:title>
</cp:coreProperties>
</file>