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6D4-F9E6-4AFD-80B7-59E96A90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CA5-A0AC-4AD7-B779-5700C46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5B1-5EF9-48A6-9450-66BBFE0A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F31-02D4-4795-B078-0C03A842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DF3-1337-40AE-9206-3DC7D4F8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A86-E5A1-4673-9C2C-5C674E6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7E5-B6EF-40E6-AE72-86623B76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821-40AE-422A-9DD4-060EB537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48F-2EA3-4618-A411-4D76751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69A-7372-4AA4-B387-594F3FA2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E4B-C29C-4072-95F8-3F8027C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B34-F370-46E1-8B7E-AC23FA9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0D97-7216-4C0E-8231-501DCBB9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ling Root-Initiated Point-to-Multipoint Pseudowire using LD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ft-ietf-pwe3-p2mp-pw-03.t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5240" y="1066680"/>
            <a:ext cx="8826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fies a mechanism to signal Point-to-Multipoint (P2MP) Pseudowires (PW) tree using LD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unidirectional P2MP traffic from Root-PE to Leaf-PE(s) as well as OPTIONAL P2P traffic from any Leaf-PE to Root-P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RSVP-TE or mLDP signaled transport LSP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es new FECs, TLVs, and LDP capabil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32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el Mapping Message for Upstream-Assigned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90440" y="1739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ndatory message sent by a Root-PE to all Leaf-PE(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2MP Upstream PW FEC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Parameters TLV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ub-TL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ID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port LSP TL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bel TLV for the upstream-assigned label used by a Root-PE to forward traffic to Leaf-P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el Mapping Message for Downstream-Assigned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90440" y="1739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optional message sent by a Root-PE to a given Leaf-P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2P Downstream PW FEC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bel TLV for the downstream-assigned label used by a given Leaf-PE to forward traffic to a Root-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ve Tree Interface Parameter Sub-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90440" y="1523880"/>
            <a:ext cx="88264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selective multicast traffic, a new Interface Parameter sub-TLV is defined according to the format described in [RFC4447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Source Length (1 Octet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Source (variable length)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-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Group Length (1 Octet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Multicast Group (variable length)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--------------------------------------------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2MP PW LDP Cap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17520" y="1523880"/>
            <a:ext cx="8826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LSR having P2MP PW capability MUST recogni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2MP Upstream FEC Element and P2P Downstream FEC Element in LDP Label Bin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8920" y="26676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ANA Al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2280" y="1219320"/>
            <a:ext cx="8826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C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Upstream FEC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PW Downstream FEC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DP TLV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LSP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Capability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DP MP Opaque Value Element type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VPN-MCAST application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seudowire Interface Parameters Sub-TLV name spa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Tree Interface Parameter sub-TL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29718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Cisco</cp:lastModifiedBy>
  <dcterms:modified xsi:type="dcterms:W3CDTF">2011-11-14T01:02:14Z</dcterms:modified>
  <cp:revision>107</cp:revision>
  <dc:subject/>
  <dc:title>MPLS-LDP Graceful Shutdown Draft</dc:title>
</cp:coreProperties>
</file>