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1A4-D2AA-4220-919C-6443A2F1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122-CE85-43F9-8C31-A53A2D42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027-4D1B-4F1F-AD79-05068925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4BF-9ACD-4EBD-AB61-E3A51D96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750-6AB7-4C33-A349-0B05F0B5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A79-1BF7-43DB-A87E-0CF81880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375-9CB3-4BB7-9072-4F20B96A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8FA-0FF7-4C01-98C8-8A82C1B9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481-4953-48E4-B3C5-F3212AF8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176-AA62-4800-A9F9-2A018FC5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7DA-0EEE-4D7B-8483-D2BE81ED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344-48C9-40BB-801D-FF0073AE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953B-5D8C-4DCE-B2C2-D7381FF72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gnaling Root-Initiated Point-to-Multipoint Pseudowire using LD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ft-ietf-pwe3-p2mp-pw-03.tx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5240" y="1066680"/>
            <a:ext cx="8826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ecifies a mechanism to signal Point-to-Multipoint (P2MP) Pseudowires (PW) tree using LD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unidirectional P2MP traffic from Root-PE to Leaf-PE(s) as well as OPTIONAL P2P traffic from any Leaf-PE to Root-P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RSVP-TE or mLDP signaled transport LSP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roduces new FECs, TLVs, and LDP capabilit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6320" y="3049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bel Mapping Message for Upstream-Assigned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90440" y="1739880"/>
            <a:ext cx="8826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mandatory message sent by a Root-PE to all Leaf-PE(s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2MP Upstream PW FEC ele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Parameters TLV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sub-TL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ID T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port LSP TLV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bel TLV for the upstream-assigned label used by a Root-PE to forward traffic to Leaf-PE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52280" y="22860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28600" y="304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bel Mapping Message for Downstream-Assigned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90440" y="1739880"/>
            <a:ext cx="8826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 optional message sent by a Root-PE to a given Leaf-PE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2P Downstream PW FEC ele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bel TLV for the downstream-assigned label used by a given Leaf-PE to forward traffic to a Root-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920" y="26676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lective Tree Interface Parameter Sub-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90440" y="1523880"/>
            <a:ext cx="882648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selective multicast traffic, a new Interface Parameter sub-TLV is defined according to the format described in [RFC4447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---------------------------------------------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Multicast Source Length (1 Octet) 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---------------------------------------------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Multicast Source (variable length)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---------------------------------------------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Multicast Group Length (1 Octet) 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--------------------------------------------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Multicast Group (variable length) 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--------------------------------------------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8920" y="26676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2MP PW LDP Cap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17520" y="1523880"/>
            <a:ext cx="8826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LSR having P2MP PW capability MUST recogniz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2MP Upstream FEC Element and P2P Downstream FEC Element in LDP Label Binding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8920" y="26676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ANA Allo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52280" y="1219320"/>
            <a:ext cx="8826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C type name spac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MP PW Upstream FEC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P PW Downstream FEC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DP TLV type name spac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LSP T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MP PW Capability T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DP MP Opaque Value Element type name spac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VPN-MCAST application T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seudowire Interface Parameters Sub-TLV name spac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Tree Interface Parameter sub-TL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29718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4:21:46Z</dcterms:created>
  <dc:creator>Cisco Systems, Inc.</dc:creator>
  <dc:description/>
  <dc:language>en-US</dc:language>
  <cp:lastModifiedBy>Cisco</cp:lastModifiedBy>
  <dcterms:modified xsi:type="dcterms:W3CDTF">2011-11-14T01:02:14Z</dcterms:modified>
  <cp:revision>107</cp:revision>
  <dc:subject/>
  <dc:title>MPLS-LDP Graceful Shutdown Draft</dc:title>
</cp:coreProperties>
</file>