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E74-8965-4B33-8957-5F82960D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D14-FE06-490F-872B-A5881B8E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3C7-4669-4B95-98FA-D257CF51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647-F959-4752-8B95-F3CC5D44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9EB-8423-46C6-A7E8-53506112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23B-8E1C-4103-BC66-A67CB4B2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FA9-FEA3-45C6-A2FE-A7226E4A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E32-E9DA-4925-AF01-35520B1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B98-0890-4DC8-8646-ED65B5DF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CF9-DB32-4348-BE7A-518FC50E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012-A845-4913-80D7-4E8B23D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B64-86B6-4F25-AF5D-3492F34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5EBA-4000-4EED-868F-50EDA1F74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9160" y="145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eudowire Communitie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raft-pkwok-pwe3-pw-communities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ul Kw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eric Joun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F69-A9B9-47BD-9125-8F93A236E5E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and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version-01 in IETF-81. Published version-02 after addressing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the scope of  PW Communities Concept and Applic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ed definition and encoding PW Communities for exten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FBD-3A95-4096-9E8E-A25263C4CA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(Reca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ethod to simplify provisioning of Dynamic Pseudow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 in policy administration  during dynamic multi-segment pseudowire (Dyn MS-PW) set-up across various S-PEs with minimal over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D40-5BA8-4E69-A010-AFAA467384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 (Reca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0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spans across multiple administrative domains. For security reasons strict access control is required at S-PEs. One way is to define policies at S-PEs based on SAII/TAII but adds complexity, administrative overheads, configuration mist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requires each S-PE to choose a unidirectional PSN tunnel to bind to a PW. T-PEs may require to signal the preference of PSN tunnels at S-PEs. Signaling each of the various types of PSN tunnel selection criteria adds significant burden to LDP messaging proced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924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6D3-F6AD-4097-9A4D-E1F45911A7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 (New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0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924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660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PE or S-PE needs to select PW next-hop from ECMP next-hops. Hashing rules can be based on AGI/SAII/TAII but imposes limits to addressing schemes in order to get proper load balancing. Operators need a predictable way for load balancing MS-PW across ECMP which is independent of MS-PW addressing sche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676-4417-46BE-BD55-A33DA5D87F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(Updat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W Communities” is defined as a LDP T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ontains a list of PW Community Sub-TL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W Community Sub-TLV  has specific processing rules based on its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0932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5BB-91F7-411B-A70F-A19CDF9FA9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Template Community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generic method and any complex rules can be mapped to specific PW Template Commun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idered as “Template” so that PW set-up decisions can be based on set of rules identified locally by Template 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various PW Template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4880" y="60580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6A5-C5ED-4089-BF44-D2FB2DE110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Color Community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idered as “Coloring” of PW that may be used by T-PE or S-PE to select PW next-hop from ECMP next-ho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various PW Color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 is different from “PW Grouping ID” . It is not necessary that PW Grouping and PW Color Community be corre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4880" y="60580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4FE-3C2B-4C84-A73B-D4EBE8EB8A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discussions/feedbacks in mailing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Stat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4880" y="60958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BD1-12E9-474D-A366-3CF724304F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11-12T05:33:51Z</dcterms:modified>
  <cp:revision>151</cp:revision>
  <dc:subject/>
  <dc:title>OAM for L2 VPN Networks Using CFM and VCCV</dc:title>
</cp:coreProperties>
</file>