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DBE-0695-4753-A3B9-949652E6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D37-DCEF-4FCC-97EC-12526315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6A3-304B-4313-A1AD-053356A5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F09-C8CD-4028-A5A9-B03BB324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FA3-4F7B-4541-9E3D-266E67BE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532-2332-4D62-BC9B-BF03A6E2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566-6059-45A4-AEA3-A8B1025A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60B-A63B-445F-B6DB-8A70C689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19CD-A32B-472F-832C-BDD6FDFB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3CB-4B0B-4C0A-A350-0DA3E0FC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166-5A09-4B85-A798-896B00DD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0E5-3538-4248-BA9D-427427DB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0035-529E-4E57-A3B9-A30B140F5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9160" y="145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eudowire Communities</a:t>
            </a: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draft-pkwok-pwe3-pw-communities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ul Kw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njal Du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deric Joun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9320" y="62452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EA8-9199-480A-842C-A22A64F6CDF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and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version-01 in IETF-81. Published version-02 after addressing com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the scope of  PW Communities Concept and Applic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ed definition and encoding PW Communities for extend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A87-CDFF-4A89-A168-7F1D643AFA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(Reca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method to simplify provisioning of Dynamic Pseudow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 in policy administration  during dynamic multi-segment pseudowire (Dyn MS-PW) set-up across various S-PEs with minimal over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09320" y="62452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F84-4161-4B4D-8ECD-9FF0246395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 Statement (Reca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08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 MS-PW spans across multiple administrative domains. For security reasons strict access control is required at S-PEs. One way is to define policies at S-PEs based on SAII/TAII but adds complexity, administrative overheads, configuration mist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 MS-PW requires each S-PE to choose a unidirectional PSN tunnel to bind to a PW. T-PEs may require to signal the preference of PSN tunnels at S-PEs. Signaling each of the various types of PSN tunnel selection criteria adds significant burden to LDP messaging proced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9240" y="619596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5E5-263C-45A0-AF95-81529147872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 Statement (New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08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9240" y="619596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660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PE or S-PE needs to select PW next-hop from ECMP next-hops. Hashing rules can be based on AGI/SAII/TAII but imposes limits to addressing schemes in order to get proper load balancing. Operators need a predictable way for load balancing MS-PW across ECMP which is independent of MS-PW addressing sche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6E9-EA54-49F7-A0A8-EEDFA9BB3B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1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 (Updat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54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“PW Communities” is defined as a LDP TL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contains a list of PW Community Sub-TLV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W Community Sub-TLV  has specific processing rules based on its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09320" y="619596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AF4-02CE-4406-8BF3-215FFF0C6F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Template Community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9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generic method and any complex rules can be mapped to specific PW Template Commun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onsidered as “Template” so that PW set-up decisions can be based on set of rules identified locally by Template 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ave various PW Template 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4880" y="60580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993-87DA-4B10-A7C0-2D25CE3ED32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Color Community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9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onsidered as “Coloring” of PW that may be used by T-PE or S-PE to select PW next-hop from ECMP next-hop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ave various PW Color 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 is different from “PW Grouping ID” . It is not necessary that PW Grouping and PW Color Community be corre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34880" y="60580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EA4-BC02-4723-8CFC-8790B527594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discussions/feedbacks in mailing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 Stat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4880" y="60958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F3D-1FAB-4AD3-9ADB-B1DC390BDB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Nov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27:40Z</dcterms:created>
  <dc:creator>Olen L. Stokes, Jr</dc:creator>
  <dc:description/>
  <dc:language>en-US</dc:language>
  <cp:lastModifiedBy>pranjald</cp:lastModifiedBy>
  <dcterms:modified xsi:type="dcterms:W3CDTF">2011-11-12T05:33:51Z</dcterms:modified>
  <cp:revision>151</cp:revision>
  <dc:subject/>
  <dc:title>OAM for L2 VPN Networks Using CFM and VCCV</dc:title>
</cp:coreProperties>
</file>