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C7C9-DC6C-4C31-92C3-2DB8AFF450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D222-F534-4C50-9315-CB2D13F9044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FFA5-3609-4D0E-8B83-305D5AA9C3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3CCA-761F-4E01-B748-3B8F14277E7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C4F-963C-471A-B334-28BA3639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0D4-9288-4739-8696-3B976305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7D4-91E0-4EA8-B7D3-7DF77FA0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04A-A7F0-4E74-997E-EAB36F5E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9D3-BC0F-41D6-97C1-E1013ECA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406-A993-47B9-90E8-AB042445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1B6C-E3DE-4397-9E1A-2C4FC9EE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DB48-46BB-43E0-A823-3D3D47C2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2C8-23D8-4B0C-87E8-A5C7CA7D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66A-1F05-432C-81AF-8690141F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6FF7-08C8-44C6-8EDA-80198333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52E4-483F-4DF2-B731-CA7ADBB9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8099-FF52-48D1-93EA-18234DF207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2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6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48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53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58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63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68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73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78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83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88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93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98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103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108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147"/>
          <p:cNvSpPr/>
          <p:nvPr/>
        </p:nvSpPr>
        <p:spPr>
          <a:xfrm>
            <a:off x="765972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329B0ADE-9A4F-4F34-A313-0B28FF3F133F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8"/>
          <p:cNvSpPr/>
          <p:nvPr/>
        </p:nvSpPr>
        <p:spPr>
          <a:xfrm>
            <a:off x="547200" y="6454800"/>
            <a:ext cx="52286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IETF77  MPLS WG   Anahe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7"/>
          <p:cNvSpPr/>
          <p:nvPr/>
        </p:nvSpPr>
        <p:spPr>
          <a:xfrm>
            <a:off x="765972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B3F0662E-79D8-472E-988A-8A594B557934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8"/>
          <p:cNvSpPr/>
          <p:nvPr/>
        </p:nvSpPr>
        <p:spPr>
          <a:xfrm>
            <a:off x="522720" y="6454800"/>
            <a:ext cx="53874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IETF78  PWE3 WG   Maastri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bel Switched Path (LSP) Ping for IPv6 Pseudowire FE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Next LT Regular"/>
              </a:rPr>
              <a:t>draft-chen-mpls-ipv6-pw-lsp-ping-01.tx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Mach Chen (mach.chen@huawei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Ping Pan (ppan@infinera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Carlos Pignataro (cpignata@cisco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Rajiv Asati (rajiva@cisco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Statem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557360"/>
            <a:ext cx="8507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ree PW related FEC sub-TLVs defined (RFC4379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FEC 128" Pseudowire (Deprecated), "FEC 128" Pseudowire and "FEC 129" Pseudowir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contains the destination/source addresses of the target LDP s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, only IPv4 target LDP session is cov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not be used when IPv6 target LDP session i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PWE3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57360"/>
            <a:ext cx="8507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tensions to RFC4379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d two new sub-TLV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v6 "FEC 128" Pseudow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v6 "FEC 129" Pseudow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"FEC 128" Pseudowire (Deprecated) defined for IPv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 more new procedures introdu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MPLS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042920" y="4005360"/>
            <a:ext cx="59054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s (cont.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23640" y="1484280"/>
            <a:ext cx="4762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pdates to RFC 4379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ge names and titles of existing sub-TLV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FEC 128" Pseudowire (Deprecated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FEC 128" Pseudowi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FEC 129" Pseudow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referring to the PE addr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er's PE Addr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te PE Addr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内容占位符 5"/>
          <p:cNvSpPr/>
          <p:nvPr/>
        </p:nvSpPr>
        <p:spPr>
          <a:xfrm>
            <a:off x="3995640" y="1484280"/>
            <a:ext cx="5256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Pv4 "FEC 128" Pseudowire (Deprecat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Pv4 "FEC 128" Pseudow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Pv4 "FEC 129" Pseudo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ender's PE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Remote PE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PWE3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G docu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1:33:00Z</dcterms:created>
  <dc:creator>Mach Chen</dc:creator>
  <dc:description/>
  <dc:language>en-US</dc:language>
  <cp:lastModifiedBy>Mach Chen 55527</cp:lastModifiedBy>
  <dcterms:modified xsi:type="dcterms:W3CDTF">2011-11-10T07:51:51Z</dcterms:modified>
  <cp:revision>142</cp:revision>
  <dc:subject/>
  <dc:title>LDP extensions for Explicit Pseudowire to transport LSP mapp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WH3+ndZwwAYL0QIuh+492MYGu3Ny2MAS77qk2B+ziRoT+hzQna9YbbeBqCrC5Kj8K7j1VckR
zQjC16kHL6DP2insHT7+t/SD2LbW3+ConDkA0O+/qCWHv6UVb4x6N7S1b44+zpXomLL2sJVV
yl5Ye9NIEnCeysLW9FTWIDaJ7VwEBEQUQRFM1aR8WbFT3yKENxPUmxf4bDfGQ3UWo73ZKNox
HPITe4Nk7vPIupdzOMw3M</vt:lpwstr>
  </property>
  <property fmtid="{D5CDD505-2E9C-101B-9397-08002B2CF9AE}" pid="3" name="_ms_pID_7253431">
    <vt:lpwstr>HqyKpG+lGxXA7TXXHk1PdopGyLgXibHiFZB2ikFHlKuTrLbFhpK
jA+Q51xCm2dZzrnGSXCbmrXtiHIHpZogrJNzNDr2I27VU9FCUcSL6topzRXKshK26ZuapJcH
E4k=</vt:lpwstr>
  </property>
  <property fmtid="{D5CDD505-2E9C-101B-9397-08002B2CF9AE}" pid="4" name="sflag">
    <vt:lpwstr>1320135160</vt:lpwstr>
  </property>
</Properties>
</file>