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129-56DC-496F-A17E-0FADCC64BB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63E4-ADFC-426D-9374-EDEB83CDC0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31A4-1E05-423B-84DF-A7CF03F001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D668-E2C5-4E0C-B532-AF00D3FDB8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D5D-B9CD-470B-9E77-61A0B6F7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EAA-3F90-4BD0-B14C-155529B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469-E6FC-43AA-8D24-B12AE0A4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C53-0104-4432-9ABD-5665E6F1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AF4-C77F-444B-ADD7-C2D01A2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BE3-8D31-47CB-AC19-414C4B4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EEC-4DD5-490F-BD5A-D200722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8EF-E06B-4D08-A5EC-017955B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995-7379-443C-BE02-1E0E3B8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BC8-8F0A-49F4-8407-30BFAB0A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124-C96F-48AE-8438-2D74CE3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2E3-4661-4FF9-ADA9-9A18F6E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FCD-DBD7-4CA7-9D17-9BFB05DDA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8EE381DB-7FA7-465F-90AE-75CC78F0CAFF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76E04F53-0E88-4B10-888B-2A012C68AAFC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el Switched Path (LSP) Ping for IPv6 Pseudowire F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hen-mpls-ipv6-pw-lsp-ping-01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Carlos Pignataro (cpignat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Rajiv Asati (rajiv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57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PW related FEC sub-TLVs defined (RFC437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FEC 128" Pseudowire (Deprecated), "FEC 128" Pseudowire and "FEC 129" Pseudowi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ontains the destination/source addresses of the target LDP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only IPv4 target LDP session is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used when IPv6 target LDP session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PWE3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5736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s to RFC4379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 two new sub-TLV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8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9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"FEC 128" Pseudowire (Deprecated) defined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more new procedures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59054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 (cont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1484280"/>
            <a:ext cx="476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dates to RFC 4379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names and titles of existing sub-TLV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(Deprecat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9" Pseudow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referring to the PE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's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内容占位符 5"/>
          <p:cNvSpPr/>
          <p:nvPr/>
        </p:nvSpPr>
        <p:spPr>
          <a:xfrm>
            <a:off x="3995640" y="1484280"/>
            <a:ext cx="5256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(Deprecat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9"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ender's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mote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PWE3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0T07:51:51Z</dcterms:modified>
  <cp:revision>142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WH3+ndZwwAYL0QIuh+492MYGu3Ny2MAS77qk2B+ziRoT+hzQna9YbbeBqCrC5Kj8K7j1VckR
zQjC16kHL6DP2insHT7+t/SD2LbW3+ConDkA0O+/qCWHv6UVb4x6N7S1b44+zpXomLL2sJVV
yl5Ye9NIEnCeysLW9FTWIDaJ7VwEBEQUQRFM1aR8WbFT3yKENxPUmxf4bDfGQ3UWo73ZKNox
HPITe4Nk7vPIupdzOMw3M</vt:lpwstr>
  </property>
  <property fmtid="{D5CDD505-2E9C-101B-9397-08002B2CF9AE}" pid="3" name="_ms_pID_7253431">
    <vt:lpwstr>HqyKpG+lGxXA7TXXHk1PdopGyLgXibHiFZB2ikFHlKuTrLbFhpK
jA+Q51xCm2dZzrnGSXCbmrXtiHIHpZogrJNzNDr2I27VU9FCUcSL6topzRXKshK26ZuapJcH
E4k=</vt:lpwstr>
  </property>
  <property fmtid="{D5CDD505-2E9C-101B-9397-08002B2CF9AE}" pid="4" name="sflag">
    <vt:lpwstr>1320135160</vt:lpwstr>
  </property>
</Properties>
</file>