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</p:sldIdLst>
  <p:sldSz cx="9144000" cy="6858000"/>
  <p:notesSz cx="69342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9336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8"/>
          </p:nvPr>
        </p:nvSpPr>
        <p:spPr>
          <a:xfrm>
            <a:off x="3929040" y="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86920" y="684360"/>
            <a:ext cx="4559400" cy="34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923400" y="4330440"/>
            <a:ext cx="5086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9"/>
          </p:nvPr>
        </p:nvSpPr>
        <p:spPr>
          <a:xfrm>
            <a:off x="0" y="8662680"/>
            <a:ext cx="3005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30"/>
          </p:nvPr>
        </p:nvSpPr>
        <p:spPr>
          <a:xfrm>
            <a:off x="3929040" y="8662680"/>
            <a:ext cx="3005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236A-5BCD-4B7A-B721-7BF129C06C2C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929040" y="8663040"/>
            <a:ext cx="3005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3EB0-0234-465E-91B9-703E53117E0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8728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23400" y="4330440"/>
            <a:ext cx="50864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CC4F-8946-457D-9629-5D283ACE1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CD4C-193A-4E3B-8F5A-1D8C11A9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6C48A-309F-460D-AE49-F1FD09A3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2821D-3541-4120-99F9-7EE184D2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5570B5-7861-4CA3-AFF4-F45EADFA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7B123-FAA2-4897-83D3-C5407C36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51F61A-EE45-404C-A16A-CCDB26C8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D3D51B-696C-484A-B5E6-E3E6BCAA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7536FE-5654-4531-BC74-A9B772E5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C9A552-985A-413A-B590-F1C7B1AC4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045847-FA8F-4AFF-BE80-EDBE6EFF3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0286-5B3E-494F-BF21-16E56C4B8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DF9B-B6D4-4261-AD12-8A3064B2F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9781-E50F-4F69-88B2-1B23D67CC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193A-5E16-4914-A0A5-629ABCB1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2302-3B76-41DD-842F-09399F9C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7837-03EC-4A86-A3E8-969CF649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CB91-C63F-41B0-9F29-B3659D37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002E-AFD9-4D5E-BD2A-8B431F02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25B9-6E14-4E90-BC46-6BE46136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8F71-F1C1-4DA8-988D-B7EA0A22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497D-CE36-4F62-A3CD-EA5193F3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6E6B-1CB6-47F9-ABD7-370294AA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EDB4-96DF-45DC-AFFC-2B144997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39F5-E450-4508-845C-C8D9ECB37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537C-BECF-4528-AC45-735A69E2B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E6D4C-7D45-47EA-8D50-A6F7BF076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CB2C1-3965-4ACE-BA02-8FC1911F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F60B1-7E55-484A-BC6D-3D661450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3612D-CFFB-4B6C-8E6D-B74372CF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4AE14-C565-4D99-8949-059EDF77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5AF8-A8EF-447E-986B-7DA53D6D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4FEC0-CF69-4CF3-B3D4-0971D263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472F9-7907-4BAC-BBB4-66C00AA2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F74A4-B7E6-48DA-A1D0-58685795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0A006-D005-4DD2-99E4-86FE8EC0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1FC5D-8712-45EF-8191-9D23EB84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F58AA-DEE6-4D7B-B528-F19647C73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D3892-AF43-4DE5-8D50-CB2C79FCE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15A49-D00E-413C-97A4-615C755E4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8436B-B9D7-46A7-AE9E-98633BF4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799F6-C74A-48B0-A3D0-55EC26F8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A3C1-FC21-4393-AF2A-47AAAB5A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1972D-D712-4193-838D-A751D6B4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E1ECD-6A47-470E-86DF-068303F0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31398-945A-40E4-8279-B4B96663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BDD37-57E5-4A53-9239-E9F5AA5B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3B8BD-318B-4A6A-BAD7-996C1F78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71240-A7C1-4825-B4DB-D79320C4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162C1-3F43-4CB5-9031-E2E5F469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32F91-536C-4FD5-A2FA-F826CBE68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94808-4B03-4160-B15C-4CE188A53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AEE96-F71F-4120-9819-739CF92C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AB8D-15A2-40F1-B55E-31D3C48C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2FEA8-54C5-4025-8ED8-2FBE5CC8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8D7BA-643D-49B8-B066-B63C0552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C0C10-73CB-40C0-90CE-A2C3B608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8002F-DD03-4920-83EB-453CD1F5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63D3E-C6EF-4071-BEE3-F8291D99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627F5-6A64-498D-B5B6-D1581A2B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C6319-7035-4AC7-9B34-78735A08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7C123-04B9-4160-AD5B-37043BBB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6DFAB-CD34-4337-93CC-492AC410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E83DD-956A-40BF-988D-FBED8B9D0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0C08-A6F2-4453-BB5A-C88DC774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72734-8DAF-4A3E-BF83-740F02ED6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EE0BA-95F9-43E0-88F4-E4582FA61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73E1B-AA6C-4639-B3DD-97DF4911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56DE1-72A1-4C17-8596-845F0650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84327-F4A0-4738-BEC0-5DE48322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F970E-2125-4864-8287-1D9BA809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A1709-4880-4803-861D-8B87EA30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D9D69-D939-4C7F-8CAA-6A49035B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D7648-DFFA-47CF-981F-1A90399F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0A0F3-AA99-4C2D-BD96-AB920A87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414A-A25C-43DE-AAFD-DC95DC18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849F3-B32E-4D30-87A0-CD5079B3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F3D97-BEAC-4D59-8D00-79277D078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D5FBC-4415-45B4-8C04-930198E9C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80B2A-9D12-4778-BADB-F3B07AA3B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CE0AB-4C83-4B0E-8064-C220F066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929EA-5AC0-49EC-A2DF-DA8EA30D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FEB68-0CED-4D7C-83EA-FA76E2CB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A87FA-24AC-4ABC-A218-1939AD9F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36310-5169-4F30-ACA5-E6534095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FD7EC-94D7-4775-888A-AE2272D0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4610-65BC-4FDE-96BE-B1F506E1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8E39E-A95B-484D-BEB3-691DCA79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87D7E-5857-4DED-8229-2A2B60B8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5E4DE-7FD1-4914-8434-683721E4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5FEF9-121A-4D1E-B4BE-57BD9E6A5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4449C-6654-436A-8F96-ACA58E5BE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E0EF7-B699-44E0-8827-9A4FAADEA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668AA-294C-4A12-A0DB-D2A3733A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8A3ED-C2B1-4FDA-AD69-E08A1A1E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BEDFF-FDA1-4757-8352-19723F09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5BD91-1A15-4D4B-8A92-735E4309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EBD8-F3AF-45FD-81DA-9D607920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8212F-47C8-4519-BEAF-C8EBE2D4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2D632-0331-48EF-ABB9-4372D612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F0A8B-BF42-4C8E-BA08-69A1393A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4982F-B4B1-4846-B5F0-1E88C5CA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CE520-00B3-4862-B8B3-ED3710EB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B387A-FA7A-4E0F-A660-282CB08FD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DDF3A-3411-4507-AB9D-80D550A44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2F66E4-87B4-41E3-888C-F04773804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D3F372-0DD6-42A9-B3C3-D9D96743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1A193-1B91-4871-9D38-16998442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5113-989A-408C-9438-86314E1838F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752480" y="1600200"/>
            <a:ext cx="7391520" cy="525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A788-745F-4DD6-9934-4035C6BA20D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BB40-F88F-45A6-A74D-A7727783BD4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D92D-5EB1-41AB-89A4-AB05EFE8B4A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773C-9162-475D-AC49-5A438272255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9C6F-76D9-4CF7-9105-F26A11D4BBE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8B59-2D93-41D6-BA43-15ADCF75A1C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2412-7F9B-4200-B1D6-57D767F7786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20B4-2F20-4C77-9E87-0D909696B20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ucy.yong@huawei.com" TargetMode="External"/><Relationship Id="rId2" Type="http://schemas.openxmlformats.org/officeDocument/2006/relationships/hyperlink" Target="mailto:donald.eastlake@huawei.com" TargetMode="External"/><Relationship Id="rId3" Type="http://schemas.openxmlformats.org/officeDocument/2006/relationships/hyperlink" Target="mailto:sam.aldrin@huawei.com" TargetMode="External"/><Relationship Id="rId4" Type="http://schemas.openxmlformats.org/officeDocument/2006/relationships/hyperlink" Target="mailto:jon.hudson@brocade.com" TargetMode="Externa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3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3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95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8" name="Rectangle 96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CEFA-5C8A-44DF-BCF8-D34982F8BD5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9172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  <a:ea typeface="宋体"/>
              </a:rPr>
              <a:t>TRILL over MPLS </a:t>
            </a:r>
            <a:br>
              <a:rPr sz="3200"/>
            </a:br>
            <a:br>
              <a:rPr sz="1200"/>
            </a:br>
            <a:r>
              <a:rPr b="1" i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draft-yong-trill-trill-o-mpls-00</a:t>
            </a:r>
            <a:br>
              <a:rPr sz="2400"/>
            </a:b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2362320" y="4571640"/>
            <a:ext cx="5867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Times New Roman"/>
              </a:rPr>
              <a:t>Lucy Yong                                           </a:t>
            </a:r>
            <a:r>
              <a:rPr b="0" lang="pt-BR" sz="1400" spc="-1" strike="noStrike" u="sng">
                <a:solidFill>
                  <a:srgbClr val="e5d093"/>
                </a:solidFill>
                <a:uFillTx/>
                <a:latin typeface="Times New Roman"/>
                <a:hlinkClick r:id="rId1"/>
              </a:rPr>
              <a:t>lucy.yong@huawei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Times New Roman"/>
              </a:rPr>
              <a:t>Donald Eastlake 3rd                            </a:t>
            </a:r>
            <a:r>
              <a:rPr b="0" lang="pt-BR" sz="1400" spc="-1" strike="noStrike" u="sng">
                <a:solidFill>
                  <a:srgbClr val="e5d093"/>
                </a:solidFill>
                <a:uFillTx/>
                <a:latin typeface="Times New Roman"/>
                <a:hlinkClick r:id="rId2"/>
              </a:rPr>
              <a:t>donald.eastlake@huawei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Times New Roman"/>
              </a:rPr>
              <a:t>Sam.Aldrin  </a:t>
            </a:r>
            <a:r>
              <a:rPr b="0" lang="pt-BR" sz="1400" spc="-1" strike="noStrike">
                <a:solidFill>
                  <a:srgbClr val="ffc000"/>
                </a:solidFill>
                <a:latin typeface="Times New Roman"/>
              </a:rPr>
              <a:t>                                         </a:t>
            </a:r>
            <a:r>
              <a:rPr b="0" lang="pt-BR" sz="1400" spc="-1" strike="noStrike" u="sng">
                <a:solidFill>
                  <a:srgbClr val="e5d093"/>
                </a:solidFill>
                <a:uFillTx/>
                <a:latin typeface="Times New Roman"/>
                <a:hlinkClick r:id="rId3"/>
              </a:rPr>
              <a:t>sam.aldrin@huawei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Times New Roman"/>
              </a:rPr>
              <a:t>John Hudson                                        </a:t>
            </a:r>
            <a:r>
              <a:rPr b="0" lang="pt-BR" sz="1400" spc="-1" strike="noStrike" u="sng">
                <a:solidFill>
                  <a:srgbClr val="e5d093"/>
                </a:solidFill>
                <a:uFillTx/>
                <a:latin typeface="Times New Roman"/>
                <a:hlinkClick r:id="rId4"/>
              </a:rPr>
              <a:t>jon.hudson@brocad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F3E8-93D8-4F86-905B-4FA174243FE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16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Times New Roman"/>
              </a:rPr>
              <a:t>About This Draft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use cases for RBridge sites interconnected by an IP/MPLS network to form one RBridge campus using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int-to-Point  TRILL Lin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Access  TRILL Link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ce a new Hierarchical L2VPN architecture with RBridge and IP/MP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an informational draft because it requires no changes to the TRILL or MPL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Transparent Interconnect of Lots of Links (TRILL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TF base standard: RFC6325 and RFC632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 optimal pair-wise data frame forwarding with arbitrary topology and without configu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multi-pathing for both unicast and multicast traff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arbitrary link technolog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: RFC 632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PP: RFC 636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implementing TRILL are called RBridges (Routing Bridg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cause they are IS-IS routers used to provide a transparent bridge-like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Bridge Campus provides a bridged LAN service for connected customer bridges, end stations, 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SzPct val="10785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249"/>
              </a:spcBef>
              <a:buSzPct val="32901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9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FB89-DACD-49BE-AF77-29DC05AD5C9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Use Cas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80520" y="9140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-to-Point Inter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Ethernet or PPP encapsulating PW in IP/MP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Ethernet or PPP RBridge ports at A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PP recommended for point-to-point as it saves ~16 bytes per fr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Bridge and PE can be separated devices or one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833E-D37E-4AE4-A8DC-FD843547B93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304920" y="2819520"/>
            <a:ext cx="7848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----------TRILL Link----------&gt;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-------*    &lt;----------PW----------&gt;    *-------*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     | AC +----+    +---+   +----+ AC |       |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RB   +----| PE |----| P |---| PE |----+ RB    |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Site A |    +----+    +---+   +----+    |Site B |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     |    {        PSN           }    |       |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-------*                                *-------*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              One RBridge Campus                }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Use Cas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0520" y="9144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-Access Link Inter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MPLS/VPLS to provide a bridged LAN between RBridge ports at different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ILL supports Ethernet multi-access link  (default mo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36C8-81B1-43E3-93A7-98457CD9B0C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0" y="2438280"/>
            <a:ext cx="9144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-------*      ...........................    *-------*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   |      .             MPLS/VPLS   .    |       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RB    |AC +----+       PW           +----+AC| RB    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Site 1+---|VSI ********************** VSI|--+ Site 2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   |   | PE *****            ***** PE |  |       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   |   +----+    ****    ****    +----+  |       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   |      .         +*--*+          .    *-------*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-------*      ..........|VSI |...........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E 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+----+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AC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---------*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     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RB Site 3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     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---------*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Hierarchical L2VP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990360" y="914400"/>
            <a:ext cx="78483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Bridges at low-tier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/MPLS at top-tier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calable solution for L2VP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EB08-62B0-4E8E-807A-F57879E72F3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1143000" y="2309760"/>
            <a:ext cx="74674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+---------+      ...........................    +--------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         |      .       IP/MPLS Core      .    |        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         |      .                         .    |        +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E--+         |Eth+----+        PW          +----+  |        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 RBridge +---| RB/|********************| RB/|--+RBridge |C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 --+         +-+ | PE |****            ****| PE |\ |        +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   |  Site 1 | | +----+    ****    ****    +----+ -+ Site 2 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 --+         | |    .         +*--*+          .    |        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         | |    ..........| RB/|...........    +--------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E--+         | +--------------| PE 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         |   Eth. Itfc    +----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+---------+                  |Eth. Itfc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+---------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 RBrdige 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         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  Site 3 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+-+----+--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... 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Acknowledgemen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80520" y="13716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hors thank Ben Mack-Crane, Sue Hares, for their valuable contrib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07BA-B280-484B-9157-9B76A58CFEE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Next Step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80520" y="15235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he review and feedba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 on auto-configuration for Hierarchical L2VP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8725-02A9-4143-89F6-51BD1D14AD5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0:54:37Z</dcterms:created>
  <dc:creator>VPN-o-CS Authors</dc:creator>
  <dc:description/>
  <dc:language>en-US</dc:language>
  <cp:lastModifiedBy>y73674</cp:lastModifiedBy>
  <dcterms:modified xsi:type="dcterms:W3CDTF">2011-11-10T22:13:21Z</dcterms:modified>
  <cp:revision>231</cp:revision>
  <dc:subject/>
  <dc:title>IETF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3)2C4dms71Wb+v6gGfu/X1PTamMD1u2SqupLpkusdCrFiSAQFNzzuw3MtDB+PsTIYW+55Kk2xI
e0o3phlhyLxIQcSmBPI6gwbZGx0Ck6cCpWYIfdd2bA63NY5/5zCeQhMGOI1SDQdh5pDKF17V
RA70iEckMEUV3UOD4WyzmGBHjy59xIoUUdkDRXR11NRzOzErNf73NJaGnkRmtllevnKfReG/
Px3vIqCByza4hbJtFmU9p</vt:lpwstr>
  </property>
  <property fmtid="{D5CDD505-2E9C-101B-9397-08002B2CF9AE}" pid="3" name="_ms_pID_7253431">
    <vt:lpwstr>bD4NJl1XR+32Z48Ek+5BY+hA56ziv5qs4uOpbXDRPxkha3w/Wcx
mtLe3jAdO/LNasoro7ujZX0F+1PuW9VKr17KhhbSh82rQhHMlIBjFvC945B+3i2jFShcr3dH
chkdr6B+WY3ROcWfUEiiu6AQEhX/75YPkIn0mqOxOqS5OMAc4jzOIICUF6BgU5clptOTlr7G
98jam2JQgoGqql/Pwmm0Lqzpeeo/eT2/BhDxisZ9qg</vt:lpwstr>
  </property>
  <property fmtid="{D5CDD505-2E9C-101B-9397-08002B2CF9AE}" pid="4" name="_ms_pID_7253432">
    <vt:lpwstr>Sk8ryF5eFveMSeGDQhulyrX6vi6r1m
2k3UOD7ucvtngZq5dZ/5w+PWc0dAfjxN/l0GQmLE3jCGXZZYuw4CsgRzlIeapOmwTlgGoyev</vt:lpwstr>
  </property>
  <property fmtid="{D5CDD505-2E9C-101B-9397-08002B2CF9AE}" pid="5" name="sflag">
    <vt:lpwstr>1320173501</vt:lpwstr>
  </property>
</Properties>
</file>