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C643-B5DC-473C-A1E3-76F5C739B88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926-CC68-48ED-86E6-D900F05801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362-57CB-43B7-8A85-1557608F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845-8A18-46FA-A189-1B9860F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4756A-CF75-4327-971B-2CA8F590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F3994-B387-4F65-93A8-8CC23C7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0178D-5F8C-4929-9A6C-48E394B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8AABE-1E88-4AAE-BF72-4C70089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E79BB-54E2-482B-A640-F9A8DA0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5EAA8-2E25-437C-AB16-1192F8B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99DD8-64A2-46D2-9D97-C91A2FCB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B46C8-8FDE-4EB3-ACEC-8A74B52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F3754-BD3D-460C-9A35-D275AB1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A99-8E2C-42EC-BF63-4EC76097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0CE-F362-4D97-9D6D-734A4F45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CAE-FEEF-481B-82D3-1D2BE4EA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C028-B68D-4E4B-83E8-2827386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E147-6074-40C7-A22E-243E8784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EB04-2E0A-4A62-83C6-789F4FFD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D50-10FA-476E-9354-1D7BCF1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5F32-D834-4A4F-9703-7FAEB54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33AE-24F2-438B-9682-CDC1A33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0C2-46B5-4842-AF15-8604C92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7EC-7024-4376-8F74-BEC3545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5D52-8986-4481-8ABA-175ED3C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BA3-890A-4525-A1E0-D372CA8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342-2EAA-4573-A718-66DA1563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C9FB-5E29-422D-8511-56A53C9C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2888-312D-4492-AF81-FADB996D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78C4-C23F-4083-B6E0-7950FFE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E6F5-9F07-4534-B649-C032BB0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9C63-C75C-43DE-ADD4-E8D96BD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A95D-01D4-4076-9AF2-33E0BB6B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F62-361C-4A72-AC27-67E3778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2D56-12EB-4C0E-96A8-EADBCC3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B349-2FEB-4637-8E88-B2A9356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DD01-1969-4FA9-A3EB-A0A6F54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66CA-E7C3-4E16-AD35-CC06A8C0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267A-CC1F-4BCB-A551-B6BE00BF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3223-30CD-46E8-ABF8-0E7EC8C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CF1F-A710-44BA-8B69-93E14CC4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C1FE-C877-46B0-8F5C-4644A6C5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FE5F-A55C-4773-990D-2E475E25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4392-D055-4E8A-BC90-3D878464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C9D-76C5-44D5-86D1-28E00A2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3B9E-66FC-4B08-B303-FC41FE3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1933-A1EE-43D4-B002-6DEDBB0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73A3F-76EB-4CE8-A8D8-3C5A6712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BEA1-078B-4A0F-88FC-F3A8BA2A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8AB70-A4FB-4114-B3F8-85445CA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0F12-8E9C-4B91-A4EA-87E1911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C000-9EEE-4941-9C21-C8F6B93C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AD67-72A2-45C7-BBA7-22A0946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B407-394A-4B62-A272-49E3320E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A45D-B3E3-4090-8184-1BECA28A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22D-8B81-4EEB-92ED-77CFC26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249B-FB90-45BB-B0CD-6A450870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152C0-7CE0-40AA-9D71-B11F98C5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D173-5ECD-4798-B672-CEEF1B5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A99D-941A-4846-9639-C1A837E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7188-F5E9-4A8C-89CC-3C8E25E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218F-7574-440E-986A-751280F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62B4-FE6F-4941-AFC4-BEDE0F5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C4E0-94F5-4669-B6BA-6063FDFA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D5207-4579-4F57-8D84-C3E6B71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56EA-E286-4F9B-A55C-7DC8B5C8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328-4481-42C9-A7CD-DB7B599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956E-E72B-49D2-A576-75B673E2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1A36B-E5E3-4B01-B2D6-FAD1A555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5D7C-3A6D-416D-BA44-03D68A62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2AFE-24A5-460C-8F2F-AB7DDBB9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668A-7198-494D-A439-D6BDF82B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8A95A-7F10-47CD-918B-E458E17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B77D-257E-4990-AE15-7D913704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728D-C2A4-4FB8-8759-8047DDD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ACDFE-C7EE-4F81-B0AC-6E9A866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6B4A-44B1-446B-805A-E160FD8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A7F-3EBC-4DDA-A7F7-0FE4993C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B390-2F7A-4685-B625-FA542955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3161-46E0-47E3-B0E1-4785FE3F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6F02-40A5-4578-B60D-78885806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7C6B-C1AE-420E-A3B7-78BDB36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0E520-52D8-4B7F-8DFC-B75029B5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571D-6CC1-46C9-BA9B-E52391B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CEAA4-3B01-4D65-A4D5-DFB908A7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BA28-1287-4A63-8F3D-0EBB5A84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2F74-93EC-4344-9226-B87A83A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2832-BD92-47C9-92CF-769D776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6FD-E8B6-487A-B8E1-83077E5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78BCA-9E10-4438-A58D-51405A9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286C-FF94-4C4E-9A9A-599D540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50006-0FE7-43CC-9ECD-7459078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F1DC-6A7D-4FC6-BD99-B1CD723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1C85-9BB8-4A8B-A482-66666DF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4FC30-5E18-4A42-AA25-2E59B4A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4C34-AAF6-4238-9730-8F394FDD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7C10-D32F-445A-BDDE-52676BAF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5127-DF97-4B08-B375-FF47A82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0AAD6-B819-4BCD-BD94-91F9CBC8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428-0D73-4BCB-9152-A62B1A9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3B7B7-0793-4F02-8EFF-ABDDD16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8E68D-F8EB-4DAD-A01E-CD9F88F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7795-9AF8-49A7-96CA-70CF43A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E2ADA-6B72-43F7-863C-07B20C3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E89F-5989-452E-BBF5-D48A6477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2B7C2-6238-425A-B58D-7F420391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594E9-E717-49C8-B242-6C1C4B2E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BBDA9-FE28-4468-98CC-54A8FC3A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D9725-2E0F-43CD-9310-434B99A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8EA15-5D4A-43D6-AE52-6BADF40E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5783-B948-4F92-B93D-19E77309E1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B9C0-F421-48E4-8F81-64708EAA29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AFA-90E9-4226-9681-6B04FC5CA1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B8B-9F9C-4355-9502-F772A924BB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75E2-37C2-49D0-9E13-4D2D809DED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D861-1641-4BEF-B8AE-BEF6FBC0EA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43B-0E2C-44F9-8A76-842D1AFB5B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8ED1-5E3A-46C0-A7CC-218E9E6019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C59-50F9-4931-B2F9-4CDA1D1527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.mackcrane@huawei.com" TargetMode="External"/><Relationship Id="rId2" Type="http://schemas.openxmlformats.org/officeDocument/2006/relationships/hyperlink" Target="mailto:lucy.yong@huawei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FDEE-31B8-4BAE-98C9-A426A51ABC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SPB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mack-crane-l2vpn-spb-o-mpls-00.txt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Ben Mack-Crane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ben.mackcrane@huawei.com</a:t>
            </a: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3A2A-CE68-4A4B-86B2-02FB71D52F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use cases for SPT sites interconnected by an IP/MPLS network to form one STP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P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W mes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SPT 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al dra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hortest Path Bridging (SPB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standard: 802.1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 pair-wise data frame forwarding with arbitrary topolo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le with existing VLAN hardwar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 enabled device is called an SPT Bri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it computes Shortest Path Trees (SP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V (SPB – VID mode) provides SPB with no configuration for customer LANs (e.g., home or small off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M (SPB – MAC mode) provides a SPB backbone LAN for connected customer bridges or end stations (multi-te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to support multipathing in progress (802.1Qb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246-3C45-44C7-B3D8-04D0448BEA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914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ed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mode on Bridge port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T Bridge and PE can be separate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Site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W mesh to interconnect SP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full or partial me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89FA-9045-4F1B-AB99-DA326D410A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1290600" y="3738600"/>
          <a:ext cx="6494400" cy="26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0600" y="3738600"/>
                    <a:ext cx="649440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T Bridge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6E5-E8F2-458C-BC85-A001C05000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1290600" y="2886120"/>
          <a:ext cx="6494400" cy="313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2886120"/>
                    <a:ext cx="64944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Donald Eastlake 3r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e Hares, Sam Aldrin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D2B1-BE70-48A1-80EC-6E92F2B6F6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al to add VPLS interconnection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9564-CA89-46BC-81D4-5F3F014CC0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8:12Z</dcterms:modified>
  <cp:revision>230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jWxYbZKhm6x4VmmiN/olMcRDauEX2rHy3r4irrDCcqC96CSpQkYC4qAkTRB1t8ifUgPBWTro
ZY5sc3Rr3q9CWwrT9PJRfd4oPqL/GRaRO2lCCx/sTbSzvrXHWgSBS1G6zrCcKgEOnEaWjgV1
x6RLy8tmsA23V5VomFj7xPyiODS86JOYIQwkj0pYTj/efyCZNDB3/hId2Pj8uQiJ7tkXDS+I
3xj2M1pk8F6juO/vayXId</vt:lpwstr>
  </property>
  <property fmtid="{D5CDD505-2E9C-101B-9397-08002B2CF9AE}" pid="3" name="_ms_pID_7253431">
    <vt:lpwstr>I1/Xcc0iM7igR29UtI9HVD6+b4fOo5r6kxRaIgIgb4z3ZJqdbV4
+WlpF6WVMJ4PrBY1rpIhGdEc2HanEhAaQcNpfkN/bf+BJ9TUg6rkR586C2M2FL8N3H0kfC7S
0ubukDzb8YV5CxI7tbO0ESiPp3tKfu0tOlbRyGJuC6b3wzh/q5syE766DHcvN97J+4TBabhY
HbnWKYQbIJ721K3SCF9TOtVZHnf+9WYVp3bPtAh2fy</vt:lpwstr>
  </property>
  <property fmtid="{D5CDD505-2E9C-101B-9397-08002B2CF9AE}" pid="4" name="_ms_pID_7253432">
    <vt:lpwstr>tF17pTlJbYMj3LXVABp4ejsazFa/W1
2mXgbTReqgtfz4d1TPVPRqlM+k4lIv0oAq2TKUCqG0gK2B56sGRlUrqxlyxS9yEMatrAJ3vL</vt:lpwstr>
  </property>
  <property fmtid="{D5CDD505-2E9C-101B-9397-08002B2CF9AE}" pid="5" name="sflag">
    <vt:lpwstr>1319553267</vt:lpwstr>
  </property>
</Properties>
</file>