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</p:sldIdLst>
  <p:sldSz cx="9144000" cy="6858000"/>
  <p:notesSz cx="69342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9336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05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8"/>
          </p:nvPr>
        </p:nvSpPr>
        <p:spPr>
          <a:xfrm>
            <a:off x="3929040" y="0"/>
            <a:ext cx="3005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86920" y="684360"/>
            <a:ext cx="4559400" cy="34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923400" y="4330440"/>
            <a:ext cx="508644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9"/>
          </p:nvPr>
        </p:nvSpPr>
        <p:spPr>
          <a:xfrm>
            <a:off x="0" y="8662680"/>
            <a:ext cx="3005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30"/>
          </p:nvPr>
        </p:nvSpPr>
        <p:spPr>
          <a:xfrm>
            <a:off x="3929040" y="8662680"/>
            <a:ext cx="3005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73850-8AEB-431B-8117-7A9474D90E35}" type="slidenum"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929040" y="8663040"/>
            <a:ext cx="30052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2F818-E69A-4EBA-931D-F7677D50234A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87280" y="684360"/>
            <a:ext cx="4559400" cy="341928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23400" y="4330440"/>
            <a:ext cx="50864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09F6-4A5F-469B-A560-D278C2546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520" y="381276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CC9B-EED4-41AE-B104-8C28B13A4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D50FEE-0CD9-4FA1-BCB4-D184B063A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977979-4F10-40C6-9AE5-EFFC115FE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0" y="20160"/>
            <a:ext cx="9144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2A3153-2FAF-43B6-A90A-0CA499E0E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BF8524-BE8C-4A69-9DFD-C25CF3623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75416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17BA45-7592-4CED-93FD-EFD7F8C6C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56C20D-A431-40FA-934D-34F4AF710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80520" y="381276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E73486-FA61-4B20-9CA0-DE4E58149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75416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1E8402-44C8-4410-B1D0-15B52E5C0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6628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15168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38052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6628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15168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17BE94-F26B-4BDF-9895-CAB375580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416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75D9-B0E4-42FD-A92A-99B9EE628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628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168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52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628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168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2904-87DE-484E-AF69-6EF0CC230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A6420-60DC-4CD6-BB3C-0905DC341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D23BD-3442-41D8-9B17-39D8E2DBC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6002A-1E31-4270-A7AF-40973D3D4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451B0-C0DA-4A97-B97B-0E0BE5ABB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99DF1-7D59-4689-ADA5-053C70A78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0" y="20160"/>
            <a:ext cx="9144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52E0B-52F5-4FFF-B4ED-A9743AFF6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F007F-35E9-4846-A69B-2F4454A16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071D-9E22-4956-8A26-092A2874B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5416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EA285-137A-4E14-AF2C-F6AA4C58E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A1906-238F-4706-9DE5-1D32F0373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80520" y="381276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9ED5B-01DD-499A-B437-E50EDDB30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5416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D7842-ECB4-4841-8B3B-8E64C981A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6628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5168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8052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6628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5168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2DF89-6260-4B2F-8EF3-2623F6F09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4D01F2-B36E-4957-9F0D-CCD58A147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B05B1E-1693-46BC-A098-8D58F7EBB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C114B2-D07B-4D1C-BBCE-90C37D18B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F36940-ADEE-4314-B46C-A92FBF7D6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DB7AD1-089B-4727-9100-F801DAF66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A86C-92EC-4A83-ACA1-F66B8DAD0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0" y="20160"/>
            <a:ext cx="9144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592D47-4FD3-45CA-BFDE-53AF7DC5F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DEAC47-55F9-4F73-9C0B-A95076381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75416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0A2D26-ACA3-4961-8D39-C23ECB996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E6A7C5-4940-4ADA-ABB9-A3365ECB4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81276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E98EF4-89F1-45D0-A25A-4102D108E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75416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9A252D-7AB8-48D8-A6C8-F6C93A308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6628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15168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6628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15168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98707E-C217-40E9-A336-4817A236A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87AB7B-6411-46F1-BBA0-376C8D795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A89913-1EA2-4B2F-A769-B55F03384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A12084-56DB-4110-852B-F3D8482AC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6D99-F3E7-46B9-9789-A1CBB5596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A337F2-AC61-403C-9678-EE7E30FFD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72BEA3-355E-439B-8E28-2803D215C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0" y="20160"/>
            <a:ext cx="9144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8D1248-F3E7-4D46-8A9A-E129B720E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1C0247-6DA2-4692-B23C-D9BD0004B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75416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CA01E3-F035-4474-81C3-B0B340176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D674C3-C923-4706-9880-CCE18E1A8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80520" y="381276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CEA6C6-59A0-4450-BAEE-8407D09D1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75416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9CB383-88A5-4F19-8385-8D77D45A2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6628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15168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38052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6628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15168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0E0E62-415E-4F07-A7F2-12D12BE57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E2F370-537D-4B7E-81B5-D5E522180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C288-120B-45B7-955C-8C3266713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A0B050-2EE7-41B0-831F-2EAD10DEC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1CA46B-8B6C-4382-BDAA-601670129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6B8335-1FAA-437F-9626-524F67042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1F243D-18EA-4DA8-978E-9AF54A607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0" y="20160"/>
            <a:ext cx="9144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8F6BE0-6010-413F-B4D3-DEF3720F9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34C5A7-0691-4C93-A1EB-0C6FAA413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75416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5E993B-E1E5-4374-A41A-38CF93E3A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28D0D3-241A-4CF1-9317-C8876E2CF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80520" y="381276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33AB7F-F9F0-478E-87C7-9439B4069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75416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7DCBCE-D083-4AD5-8F20-A5C830403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20160"/>
            <a:ext cx="9144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73FF-3380-49CB-BBBE-25B6B5E8C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6628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15168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38052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6628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15168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CA0E67-FC63-4DA1-B545-F22B5BA83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13E6C3-CAD3-4D3B-9007-5A5EC8E98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F0D7BA-9BB9-452A-B6AC-9D6292899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C4BA0D-1146-4174-BA50-9105E3F47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FEBE80-F7FC-4B8B-95E3-F52FD3615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99C7AD-7F56-41A4-A4F9-FC713DAD4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0" y="20160"/>
            <a:ext cx="9144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DB2EF8-B351-4DE8-B65E-39F8EA117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784049-6D78-4099-BFC4-D0F3C86AF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75416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111E72-D75A-401B-B9CE-491526416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4068CD-EF07-4C71-B275-412ACE8FE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EBC1-CE02-4026-957A-8CBBAD124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80520" y="381276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C8AA2D-0343-469C-87CC-DABAED307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75416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092F24-F8A1-4859-A2CF-CEF51574D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6628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15168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38052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6628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15168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9F5A73-6F0D-4D35-9AB4-2E45FCB54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0E1818-835F-43AF-B14B-0092D9484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8E37A8-5488-43B1-9931-C8D256BD4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4FC0F8-5CB5-4CCB-BD3D-C82CF1598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DBBA2B-AC2F-4423-B461-5D2757D38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023258-A920-493B-B07D-C95662B8D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0" y="20160"/>
            <a:ext cx="9144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15B996-9004-4E63-A234-1FC6F47F8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941DCC-E749-4625-9CAB-1523A7ABE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416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98F1-5081-4FF5-B317-4474F69F3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75416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C1BD8E-2E02-4282-87E9-95CB169A3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BBFD1B-19B0-4C73-9A8C-1E3E5ABEA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80520" y="381276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E8B0C8-3EB9-416F-8AB2-68B9276AA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75416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48A2FB-618F-4B6D-A071-939D6D2EA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6628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15168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38052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6628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15168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50CBFA-0B3F-44AB-8818-841CDFECD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F8E10F-C1BB-45E4-A556-8BCE78E19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FF73BC-54AA-4503-A400-E9C378A5A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42F66B-A62F-4082-8038-123DB19CC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E95DD6-A3C0-49E8-9418-7D9E25781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C58BC3-B315-4E09-BA69-D6CA07CAA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A2F5-9432-41D8-BD5E-1FF0EBB93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0" y="20160"/>
            <a:ext cx="9144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2925B6-53CC-4AFD-9F84-69082371C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3E76C8-A444-4754-9161-58BBC56F0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75416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97C319-2904-4682-8650-47292C027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9A5CA3-D5B9-4344-87EF-B007B19AD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80520" y="381276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2BD0E3-CD96-4F62-884F-B897A25C9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75416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27C09F-8620-4F5E-8790-39F6A734D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6628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15168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38052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6628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15168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A3EDCB-6713-46FD-8B98-B0550F60D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3C79B5-6EA9-48AE-A3B2-E2D363459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3DC9A6-32A0-4195-A2D8-33BAE80C7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5A3CF8-0E6F-4E43-9538-5DB7ABCFF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n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IET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Taipe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0BB03-98E0-4DAF-88DC-EB259FC33E2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1752480" y="1600200"/>
            <a:ext cx="7391520" cy="5257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n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IETF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Taipe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B3E24-8F15-4D27-B9FA-1FE516E4342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80th IETF Prague Cze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7B71A-21C4-47A3-B8F2-A27ABDA8810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80th IETF Prague Cze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F1890-BE9B-404E-8AD0-8A112C95D9D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3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4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80th IETF Prague Cze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5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0ED02-092E-490C-8742-0FBA2B0FA27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16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17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80th IETF Prague Cze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18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5E7D8-6DE9-4FD6-838C-00177E6EB15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9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20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80th IETF Prague Cze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21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42F69-9ED6-4491-B61C-1A4AAC60C9A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dt" idx="22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ftr" idx="23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80th IETF Prague Cze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sldNum" idx="24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49858-C773-46E4-8E55-AB9636A1846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5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6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80th IETF Prague Cze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7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AA23B-9DA6-4FA1-AE53-2965B71D44B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ben.mackcrane@huawei.com" TargetMode="External"/><Relationship Id="rId2" Type="http://schemas.openxmlformats.org/officeDocument/2006/relationships/hyperlink" Target="mailto:lucy.yong@huawei.com" TargetMode="Externa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3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3.png"/><Relationship Id="rId14" Type="http://schemas.openxmlformats.org/officeDocument/2006/relationships/image" Target="../media/image1.png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1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oleObject" Target="../embeddings/oleObject1.bin"/><Relationship Id="rId9" Type="http://schemas.openxmlformats.org/officeDocument/2006/relationships/image" Target="../media/image4.wmf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95"/>
          <p:cNvSpPr/>
          <p:nvPr/>
        </p:nvSpPr>
        <p:spPr>
          <a:xfrm>
            <a:off x="320040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n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IET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Taipei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8" name="Rectangle 96"/>
          <p:cNvSpPr/>
          <p:nvPr/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48264-8B69-4131-8C3D-193060E1D4A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91720" cy="403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SPB over MPLS </a:t>
            </a:r>
            <a:br>
              <a:rPr sz="3200"/>
            </a:br>
            <a:br>
              <a:rPr sz="1200"/>
            </a:br>
            <a:r>
              <a:rPr b="1" i="1" lang="en-US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draft-mack-crane-l2vpn-spb-o-mpls-00.txt</a:t>
            </a:r>
            <a:br>
              <a:rPr sz="2400"/>
            </a:br>
            <a:endParaRPr b="0" i="1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2362320" y="4571640"/>
            <a:ext cx="58672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ff"/>
                </a:solidFill>
                <a:latin typeface="Times New Roman"/>
              </a:rPr>
              <a:t>Ben Mack-Crane                                 </a:t>
            </a:r>
            <a:r>
              <a:rPr b="0" lang="pt-BR" sz="1400" spc="-1" strike="noStrike" u="sng">
                <a:solidFill>
                  <a:srgbClr val="e5d093"/>
                </a:solidFill>
                <a:uFillTx/>
                <a:latin typeface="Times New Roman"/>
                <a:hlinkClick r:id="rId1"/>
              </a:rPr>
              <a:t>ben.mackcrane@huawei.com</a:t>
            </a:r>
            <a:r>
              <a:rPr b="0" lang="pt-BR" sz="1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ff"/>
                </a:solidFill>
                <a:latin typeface="Times New Roman"/>
              </a:rPr>
              <a:t>Lucy Yong                                           </a:t>
            </a:r>
            <a:r>
              <a:rPr b="0" lang="pt-BR" sz="1400" spc="-1" strike="noStrike" u="sng">
                <a:solidFill>
                  <a:srgbClr val="e5d093"/>
                </a:solidFill>
                <a:uFillTx/>
                <a:latin typeface="Times New Roman"/>
                <a:hlinkClick r:id="rId2"/>
              </a:rPr>
              <a:t>lucy.yong@huawei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DtsShapeName" hidden="1"/>
          <p:cNvSpPr/>
          <p:nvPr/>
        </p:nvSpPr>
        <p:spPr>
          <a:xfrm>
            <a:off x="0" y="0"/>
            <a:ext cx="1440" cy="1440"/>
          </a:xfrm>
          <a:custGeom>
            <a:avLst/>
            <a:gdLst>
              <a:gd name="textAreaLeft" fmla="*/ 360 w 1440"/>
              <a:gd name="textAreaRight" fmla="*/ 1080 w 1440"/>
              <a:gd name="textAreaTop" fmla="*/ 0 h 1440"/>
              <a:gd name="textAreaBottom" fmla="*/ 1080 h 144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720" bIns="-4572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n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IETF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Taipei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3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3F39F-D2A0-41EA-816C-4948B5B5F0E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1160" y="1519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cc6600"/>
                </a:solidFill>
                <a:latin typeface="Times New Roman"/>
              </a:rPr>
              <a:t>About This Draft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79246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 use cases for SPT sites interconnected by an IP/MPLS network to form one STP Reg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0785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int-to-Point  PW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0785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W mesh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roduce a new Hierarchical L2VPN architecture with SPT Bridge and IP/MP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al draf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Shortest Path Bridging (SPB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380520" y="1066320"/>
            <a:ext cx="86108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standard: 802.1aq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499"/>
              </a:spcBef>
              <a:buSzPct val="10785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ptimal pair-wise data frame forwarding with arbitrary topolog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499"/>
              </a:spcBef>
              <a:buSzPct val="10785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istic behavi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499"/>
              </a:spcBef>
              <a:buSzPct val="10785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atible with existing VLAN hardware implement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B enabled device is called an SPT Bri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499"/>
              </a:spcBef>
              <a:buSzPct val="10785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cause it computes Shortest Path Trees (SP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601"/>
              </a:spcBef>
              <a:buSzPct val="13712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BV (SPB – VID mode) provides SPB with no configuration for customer LANs (e.g., home or small offi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601"/>
              </a:spcBef>
              <a:buSzPct val="137123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BM (SPB – MAC mode) provides a SPB backbone LAN for connected customer bridges or end stations (multi-te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601"/>
              </a:spcBef>
              <a:buSzPct val="137123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ject to support multipathing in progress (802.1Qb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601"/>
              </a:spcBef>
              <a:buSzPct val="137123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601"/>
              </a:spcBef>
              <a:buSzPct val="137123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499"/>
              </a:spcBef>
              <a:buSzPct val="107851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249"/>
              </a:spcBef>
              <a:buSzPct val="329017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Footer Placeholder 3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n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IET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Taipei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9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911E8-5914-4AC5-976E-B6FE122D17F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Use Cases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380880" y="914400"/>
            <a:ext cx="876312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1000"/>
          </a:bodyPr>
          <a:p>
            <a:pPr marL="174960" indent="-17496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-to-Point Inter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78720" indent="-145440">
              <a:spcBef>
                <a:spcPts val="499"/>
              </a:spcBef>
              <a:buSzPct val="10785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Ethernet or PPP encapsulated PW in IP/MP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378720" indent="-145440">
              <a:spcBef>
                <a:spcPts val="499"/>
              </a:spcBef>
              <a:buSzPct val="10785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Ethernet or PPP mode on Bridge port at A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378720" indent="-145440">
              <a:spcBef>
                <a:spcPts val="499"/>
              </a:spcBef>
              <a:buSzPct val="10785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T Bridge and PE can be separate devices or one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74960" indent="-174960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-Site Inter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78720" indent="-145440">
              <a:spcBef>
                <a:spcPts val="499"/>
              </a:spcBef>
              <a:buSzPct val="10785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PW mesh to interconnect SPT si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378720" indent="-145440">
              <a:spcBef>
                <a:spcPts val="499"/>
              </a:spcBef>
              <a:buSzPct val="10785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be full or partial me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Footer Placeholder 3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n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IET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Taipei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3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47C58-0291-4C7B-AE78-A827BEFD91E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graphicFrame>
        <p:nvGraphicFramePr>
          <p:cNvPr id="394" name="Object 4"/>
          <p:cNvGraphicFramePr/>
          <p:nvPr/>
        </p:nvGraphicFramePr>
        <p:xfrm>
          <a:off x="1290600" y="3738600"/>
          <a:ext cx="6494400" cy="2674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95" name="Object 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290600" y="3738600"/>
                    <a:ext cx="6494400" cy="267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Hierarchical L2VPN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990360" y="914400"/>
            <a:ext cx="784836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T Bridge at low-tier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/MPLS at top-tier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calable solution for L2VP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8" name="Footer Placeholder 3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n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IET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Taipei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9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ACC09-1BA0-44C2-B153-AD71E86DA2F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graphicFrame>
        <p:nvGraphicFramePr>
          <p:cNvPr id="400" name="Object 1"/>
          <p:cNvGraphicFramePr/>
          <p:nvPr/>
        </p:nvGraphicFramePr>
        <p:xfrm>
          <a:off x="1290600" y="2886120"/>
          <a:ext cx="6494400" cy="3133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01" name="Object 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290600" y="2886120"/>
                    <a:ext cx="6494400" cy="313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Acknowledgemen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380520" y="1371600"/>
            <a:ext cx="85345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thors thank Donald Eastlake 3rd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e Hares, Sam Aldrin for their valuable contribu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Footer Placeholder 3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n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IET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Taipei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5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C47BF-814E-47C3-A0ED-EF46C1C58CE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Next Steps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380520" y="15235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he review and feedba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posal to add VPLS interconnection descrip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Footer Placeholder 3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n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IET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Taipei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9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CB481-3804-48E3-86A6-33F6F7A5E9A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0T00:54:37Z</dcterms:created>
  <dc:creator>VPN-o-CS Authors</dc:creator>
  <dc:description/>
  <dc:language>en-US</dc:language>
  <cp:lastModifiedBy>y73674</cp:lastModifiedBy>
  <dcterms:modified xsi:type="dcterms:W3CDTF">2011-11-10T22:18:12Z</dcterms:modified>
  <cp:revision>230</cp:revision>
  <dc:subject/>
  <dc:title>IETF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ms_pID_725343">
    <vt:lpwstr>(3)jWxYbZKhm6x4VmmiN/olMcRDauEX2rHy3r4irrDCcqC96CSpQkYC4qAkTRB1t8ifUgPBWTro
ZY5sc3Rr3q9CWwrT9PJRfd4oPqL/GRaRO2lCCx/sTbSzvrXHWgSBS1G6zrCcKgEOnEaWjgV1
x6RLy8tmsA23V5VomFj7xPyiODS86JOYIQwkj0pYTj/efyCZNDB3/hId2Pj8uQiJ7tkXDS+I
3xj2M1pk8F6juO/vayXId</vt:lpwstr>
  </property>
  <property fmtid="{D5CDD505-2E9C-101B-9397-08002B2CF9AE}" pid="3" name="_ms_pID_7253431">
    <vt:lpwstr>I1/Xcc0iM7igR29UtI9HVD6+b4fOo5r6kxRaIgIgb4z3ZJqdbV4
+WlpF6WVMJ4PrBY1rpIhGdEc2HanEhAaQcNpfkN/bf+BJ9TUg6rkR586C2M2FL8N3H0kfC7S
0ubukDzb8YV5CxI7tbO0ESiPp3tKfu0tOlbRyGJuC6b3wzh/q5syE766DHcvN97J+4TBabhY
HbnWKYQbIJ721K3SCF9TOtVZHnf+9WYVp3bPtAh2fy</vt:lpwstr>
  </property>
  <property fmtid="{D5CDD505-2E9C-101B-9397-08002B2CF9AE}" pid="4" name="_ms_pID_7253432">
    <vt:lpwstr>tF17pTlJbYMj3LXVABp4ejsazFa/W1
2mXgbTReqgtfz4d1TPVPRqlM+k4lIv0oAq2TKUCqG0gK2B56sGRlUrqxlyxS9yEMatrAJ3vL</vt:lpwstr>
  </property>
  <property fmtid="{D5CDD505-2E9C-101B-9397-08002B2CF9AE}" pid="5" name="sflag">
    <vt:lpwstr>1319553267</vt:lpwstr>
  </property>
</Properties>
</file>