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304-9D6B-4B8A-9A3E-56C31741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A703-87B2-4551-A41B-8FE9B651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677-909B-4ECD-8052-840CD27F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0D5-A395-4EF3-B2A9-1D1672B3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D9F-2B49-4AFC-8EAD-928F826A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F0E-9C55-435D-8E22-8E831033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262-C99A-4CF6-9CD0-353BFF3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D19-D891-4195-966C-A379A5A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CD6-FBF4-4AF6-9FD5-A857543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F20-24CA-4325-8147-9E0D3C0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543-A68C-40A9-A515-397DE8E6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917-3816-4ACB-900A-E9FE74B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14D-7E2A-49CB-AE4C-9319F3E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721-ED9F-4D56-A15F-C958692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97F-F00D-41B6-B0F8-4E9972687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7e2"/>
                </a:solidFill>
                <a:latin typeface="Arial"/>
              </a:rPr>
              <a:t>Pseudowire Control Word Negotiation Mechanism Analysis and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draft-ietf-pwe3-cbit-negotiation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C1E-EF96-41AC-B432-71621C5D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74440" y="306864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PWE3    IETF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4653000"/>
          <a:ext cx="5256360" cy="1382760"/>
        </p:xfrm>
        <a:graphic>
          <a:graphicData uri="http://schemas.openxmlformats.org/drawingml/2006/table">
            <a:tbl>
              <a:tblPr/>
              <a:tblGrid>
                <a:gridCol w="3043440"/>
                <a:gridCol w="2212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Lizhong J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Raymond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Thomas Nad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Simon Del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Vishwas Man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Reshad Rah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7e2"/>
                          </a:solidFill>
                          <a:latin typeface="Arial"/>
                        </a:rPr>
                        <a:t>Sami B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Version 00 and 01 contain two methods to do the Cbit re-negotiation, and issues re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For “Label Request”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7e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There is FEC update happened on PE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For "Label Release“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7e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Adding new error code, but lost backward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7e2"/>
                </a:solidFill>
                <a:latin typeface="Arial"/>
              </a:rPr>
              <a:t>Update from version 01 to 02, to work out a new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7e2"/>
                </a:solidFill>
                <a:latin typeface="Arial"/>
              </a:rPr>
              <a:t>Solve the FEC update issue, and have backward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C07-B759-47B2-93BF-2AF0D984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ontrol Word Re-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D9F-37A8-497F-BBA4-A9070F9D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F767-65BB-4CA3-B389-3B2DF038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38560" cy="1152720"/>
          </a:xfrm>
          <a:prstGeom prst="rect">
            <a:avLst/>
          </a:prstGeom>
          <a:ln w="0">
            <a:noFill/>
          </a:ln>
        </p:spPr>
      </p:pic>
      <p:sp>
        <p:nvSpPr>
          <p:cNvPr id="60" name="直接连接符 6"/>
          <p:cNvSpPr/>
          <p:nvPr/>
        </p:nvSpPr>
        <p:spPr>
          <a:xfrm flipH="1">
            <a:off x="2987280" y="2709720"/>
            <a:ext cx="180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 flipH="1">
            <a:off x="6156360" y="2708280"/>
            <a:ext cx="144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8"/>
          <p:cNvCxnSpPr/>
          <p:nvPr/>
        </p:nvCxnSpPr>
        <p:spPr>
          <a:xfrm>
            <a:off x="2987640" y="3357360"/>
            <a:ext cx="3169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9"/>
          <p:cNvSpPr/>
          <p:nvPr/>
        </p:nvSpPr>
        <p:spPr>
          <a:xfrm>
            <a:off x="1403280" y="2781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708360" y="3213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6156360" y="29973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NOT-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接箭头连接符 12"/>
          <p:cNvCxnSpPr/>
          <p:nvPr/>
        </p:nvCxnSpPr>
        <p:spPr>
          <a:xfrm flipH="1">
            <a:off x="2987280" y="285264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3"/>
          <p:cNvSpPr/>
          <p:nvPr/>
        </p:nvSpPr>
        <p:spPr>
          <a:xfrm>
            <a:off x="3708360" y="2689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6156360" y="40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CW: PREFE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5"/>
          <p:cNvCxnSpPr/>
          <p:nvPr/>
        </p:nvCxnSpPr>
        <p:spPr>
          <a:xfrm flipH="1">
            <a:off x="2987280" y="522756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16"/>
          <p:cNvSpPr/>
          <p:nvPr/>
        </p:nvSpPr>
        <p:spPr>
          <a:xfrm>
            <a:off x="3708360" y="50641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17"/>
          <p:cNvCxnSpPr/>
          <p:nvPr/>
        </p:nvCxnSpPr>
        <p:spPr>
          <a:xfrm flipH="1">
            <a:off x="6732360" y="3430080"/>
            <a:ext cx="216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6732720" y="3429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7e2"/>
                </a:solidFill>
                <a:latin typeface="Arial"/>
              </a:rPr>
              <a:t>Configuration chang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19"/>
          <p:cNvCxnSpPr/>
          <p:nvPr/>
        </p:nvCxnSpPr>
        <p:spPr>
          <a:xfrm flipH="1">
            <a:off x="2987280" y="429264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20"/>
          <p:cNvSpPr/>
          <p:nvPr/>
        </p:nvSpPr>
        <p:spPr>
          <a:xfrm>
            <a:off x="3708360" y="41292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Withd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539640" y="3213000"/>
            <a:ext cx="223200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PW Negotiated Cbi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39640" y="5805360"/>
            <a:ext cx="216072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W Negotiated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27"/>
          <p:cNvCxnSpPr/>
          <p:nvPr/>
        </p:nvCxnSpPr>
        <p:spPr>
          <a:xfrm>
            <a:off x="2987640" y="5661000"/>
            <a:ext cx="316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28"/>
          <p:cNvSpPr/>
          <p:nvPr/>
        </p:nvSpPr>
        <p:spPr>
          <a:xfrm>
            <a:off x="3708360" y="5516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Map: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30"/>
          <p:cNvCxnSpPr/>
          <p:nvPr/>
        </p:nvCxnSpPr>
        <p:spPr>
          <a:xfrm flipH="1">
            <a:off x="2987280" y="6091920"/>
            <a:ext cx="3169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31"/>
          <p:cNvSpPr/>
          <p:nvPr/>
        </p:nvSpPr>
        <p:spPr>
          <a:xfrm>
            <a:off x="3708360" y="5929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: Cbi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7"/>
          <p:cNvCxnSpPr/>
          <p:nvPr/>
        </p:nvCxnSpPr>
        <p:spPr>
          <a:xfrm>
            <a:off x="2987640" y="4940280"/>
            <a:ext cx="31694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28"/>
          <p:cNvSpPr/>
          <p:nvPr/>
        </p:nvSpPr>
        <p:spPr>
          <a:xfrm>
            <a:off x="3708360" y="47052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7e2"/>
                </a:solidFill>
                <a:latin typeface="Arial"/>
              </a:rPr>
              <a:t>Label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箭头连接符 19"/>
          <p:cNvCxnSpPr/>
          <p:nvPr/>
        </p:nvCxnSpPr>
        <p:spPr>
          <a:xfrm flipH="1">
            <a:off x="2987280" y="4507560"/>
            <a:ext cx="3169440" cy="2163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84" name="TextBox 28"/>
          <p:cNvSpPr/>
          <p:nvPr/>
        </p:nvSpPr>
        <p:spPr>
          <a:xfrm>
            <a:off x="3708360" y="4365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Label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31"/>
          <p:cNvSpPr/>
          <p:nvPr/>
        </p:nvSpPr>
        <p:spPr>
          <a:xfrm>
            <a:off x="2643120" y="4510080"/>
            <a:ext cx="187560" cy="42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900000" y="4581360"/>
            <a:ext cx="1656000" cy="3070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et Local C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爆炸形 1 33"/>
          <p:cNvSpPr/>
          <p:nvPr/>
        </p:nvSpPr>
        <p:spPr>
          <a:xfrm>
            <a:off x="5219640" y="4437000"/>
            <a:ext cx="720720" cy="360360"/>
          </a:xfrm>
          <a:prstGeom prst="irregularSeal1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6"/>
          <p:cNvSpPr/>
          <p:nvPr/>
        </p:nvSpPr>
        <p:spPr>
          <a:xfrm>
            <a:off x="2700360" y="5661000"/>
            <a:ext cx="18720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8"/>
          <p:cNvSpPr/>
          <p:nvPr/>
        </p:nvSpPr>
        <p:spPr>
          <a:xfrm>
            <a:off x="6249960" y="5862600"/>
            <a:ext cx="130320" cy="225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9"/>
          <p:cNvSpPr/>
          <p:nvPr/>
        </p:nvSpPr>
        <p:spPr>
          <a:xfrm>
            <a:off x="6237360" y="4308480"/>
            <a:ext cx="1522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hanks for the valuable discussion from all authors and contribu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7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Last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7e2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6E4-361B-477D-ACC3-44826A809174}" type="slidenum">
              <a:rPr b="0" lang="en-US" sz="1400" spc="-1" strike="noStrike">
                <a:solidFill>
                  <a:srgbClr val="0087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5:07:33Z</dcterms:modified>
  <cp:revision>213</cp:revision>
  <dc:subject/>
  <dc:title>mLDP based LSP problem statement</dc:title>
</cp:coreProperties>
</file>