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DA94-9210-4C37-98A5-7A19E46F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487-11D4-49AA-ADCE-E0F1D178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EF6-D94E-4102-8A2F-8595B2C2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7AE-B5FA-468B-99D4-1A520672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21A-7A17-4386-8879-BD8E3BB3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F5B-97B2-4C88-BFFA-2BEC1493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66F-2208-4CEF-9201-B2207B5C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F77-2F1A-41D9-9C3E-4630230F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208-0799-410D-AF1D-57222B1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FBF-2500-48B4-A543-43ECD23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D00-7653-4F4E-BEBF-527CF4A2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505-7F11-402F-8C2D-64BDA50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6E8-A342-48B0-8DFD-80FC7E8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806-B9D8-44E7-9553-8C8C811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E70-CA80-4958-B481-53351E3B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7e2"/>
                </a:solidFill>
                <a:latin typeface="Arial"/>
              </a:rPr>
              <a:t>Pseudowire Control Word Negotiation Mechanism Analysis and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draft-ietf-pwe3-cbit-negotiation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7AC-E75D-44FF-9AAF-A2A95C38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574440" y="306864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7e2"/>
                </a:solidFill>
                <a:latin typeface="Arial"/>
              </a:rPr>
              <a:t>PWE3    IETF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4653000"/>
          <a:ext cx="5256360" cy="1382760"/>
        </p:xfrm>
        <a:graphic>
          <a:graphicData uri="http://schemas.openxmlformats.org/drawingml/2006/table">
            <a:tbl>
              <a:tblPr/>
              <a:tblGrid>
                <a:gridCol w="3043440"/>
                <a:gridCol w="2212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Lizhong J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Raymond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Thomas Nad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Simon Del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Vishwas Man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Reshad Rah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Sami Bou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7e2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7e2"/>
                </a:solidFill>
                <a:latin typeface="Arial"/>
              </a:rPr>
              <a:t>Version 00 and 01 contain two methods to do the Cbit re-negotiation, and issues re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For “Label Request”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7e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There is FEC update happened on PE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For "Label Release“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7e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Adding new error code, but lost backward compat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7e2"/>
                </a:solidFill>
                <a:latin typeface="Arial"/>
              </a:rPr>
              <a:t>Update from version 01 to 02, to work out a new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Solve the FEC update issue, and have backward compat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88A8-8D56-4782-A490-35D617A1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ontrol Word Re-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66E4-0C67-4E93-807F-B0FB1E718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F2C3-FEC7-4155-8911-7E756EBC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38560" cy="1152720"/>
          </a:xfrm>
          <a:prstGeom prst="rect">
            <a:avLst/>
          </a:prstGeom>
          <a:ln w="0">
            <a:noFill/>
          </a:ln>
        </p:spPr>
      </p:pic>
      <p:sp>
        <p:nvSpPr>
          <p:cNvPr id="60" name="直接连接符 6"/>
          <p:cNvSpPr/>
          <p:nvPr/>
        </p:nvSpPr>
        <p:spPr>
          <a:xfrm flipH="1">
            <a:off x="2987280" y="2709720"/>
            <a:ext cx="1800" cy="37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 flipH="1">
            <a:off x="6156360" y="2708280"/>
            <a:ext cx="144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接箭头连接符 8"/>
          <p:cNvCxnSpPr/>
          <p:nvPr/>
        </p:nvCxnSpPr>
        <p:spPr>
          <a:xfrm>
            <a:off x="2987640" y="3357360"/>
            <a:ext cx="31694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9"/>
          <p:cNvSpPr/>
          <p:nvPr/>
        </p:nvSpPr>
        <p:spPr>
          <a:xfrm>
            <a:off x="1403280" y="2781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CW: PRE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708360" y="3213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Map: Cbi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6156360" y="29973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CW: NOT-PRE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接箭头连接符 12"/>
          <p:cNvCxnSpPr/>
          <p:nvPr/>
        </p:nvCxnSpPr>
        <p:spPr>
          <a:xfrm flipH="1">
            <a:off x="2987280" y="285264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3"/>
          <p:cNvSpPr/>
          <p:nvPr/>
        </p:nvSpPr>
        <p:spPr>
          <a:xfrm>
            <a:off x="3708360" y="26892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Map: Cbi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6156360" y="40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CW: PRE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5"/>
          <p:cNvCxnSpPr/>
          <p:nvPr/>
        </p:nvCxnSpPr>
        <p:spPr>
          <a:xfrm flipH="1">
            <a:off x="2987280" y="522756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16"/>
          <p:cNvSpPr/>
          <p:nvPr/>
        </p:nvSpPr>
        <p:spPr>
          <a:xfrm>
            <a:off x="3708360" y="50641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17"/>
          <p:cNvCxnSpPr/>
          <p:nvPr/>
        </p:nvCxnSpPr>
        <p:spPr>
          <a:xfrm flipH="1">
            <a:off x="6732360" y="3430080"/>
            <a:ext cx="2160" cy="57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TextBox 18"/>
          <p:cNvSpPr/>
          <p:nvPr/>
        </p:nvSpPr>
        <p:spPr>
          <a:xfrm>
            <a:off x="6732720" y="3429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7e2"/>
                </a:solidFill>
                <a:latin typeface="Arial"/>
              </a:rPr>
              <a:t>Configuration chang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19"/>
          <p:cNvCxnSpPr/>
          <p:nvPr/>
        </p:nvCxnSpPr>
        <p:spPr>
          <a:xfrm flipH="1">
            <a:off x="2987280" y="429264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20"/>
          <p:cNvSpPr/>
          <p:nvPr/>
        </p:nvSpPr>
        <p:spPr>
          <a:xfrm>
            <a:off x="3708360" y="41292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Withdr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539640" y="3213000"/>
            <a:ext cx="2232000" cy="3070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PW Negotiated Cbi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39640" y="5805360"/>
            <a:ext cx="2160720" cy="3070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W Negotiated Cbi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27"/>
          <p:cNvCxnSpPr/>
          <p:nvPr/>
        </p:nvCxnSpPr>
        <p:spPr>
          <a:xfrm>
            <a:off x="2987640" y="566100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28"/>
          <p:cNvSpPr/>
          <p:nvPr/>
        </p:nvSpPr>
        <p:spPr>
          <a:xfrm>
            <a:off x="3708360" y="5516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Map: Cbi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30"/>
          <p:cNvCxnSpPr/>
          <p:nvPr/>
        </p:nvCxnSpPr>
        <p:spPr>
          <a:xfrm flipH="1">
            <a:off x="2987280" y="6091920"/>
            <a:ext cx="31694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31"/>
          <p:cNvSpPr/>
          <p:nvPr/>
        </p:nvSpPr>
        <p:spPr>
          <a:xfrm>
            <a:off x="3708360" y="59292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abel Map: Cbi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7"/>
          <p:cNvCxnSpPr/>
          <p:nvPr/>
        </p:nvCxnSpPr>
        <p:spPr>
          <a:xfrm>
            <a:off x="2987640" y="4940280"/>
            <a:ext cx="316944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28"/>
          <p:cNvSpPr/>
          <p:nvPr/>
        </p:nvSpPr>
        <p:spPr>
          <a:xfrm>
            <a:off x="3708360" y="47052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箭头连接符 19"/>
          <p:cNvCxnSpPr/>
          <p:nvPr/>
        </p:nvCxnSpPr>
        <p:spPr>
          <a:xfrm flipH="1">
            <a:off x="2987280" y="4507560"/>
            <a:ext cx="3169440" cy="2163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84" name="TextBox 28"/>
          <p:cNvSpPr/>
          <p:nvPr/>
        </p:nvSpPr>
        <p:spPr>
          <a:xfrm>
            <a:off x="3708360" y="4365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Label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31"/>
          <p:cNvSpPr/>
          <p:nvPr/>
        </p:nvSpPr>
        <p:spPr>
          <a:xfrm>
            <a:off x="2643120" y="4510080"/>
            <a:ext cx="187560" cy="42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900000" y="4581360"/>
            <a:ext cx="1656000" cy="3070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et Local C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爆炸形 1 33"/>
          <p:cNvSpPr/>
          <p:nvPr/>
        </p:nvSpPr>
        <p:spPr>
          <a:xfrm>
            <a:off x="5219640" y="4437000"/>
            <a:ext cx="720720" cy="360360"/>
          </a:xfrm>
          <a:prstGeom prst="irregularSeal1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6"/>
          <p:cNvSpPr/>
          <p:nvPr/>
        </p:nvSpPr>
        <p:spPr>
          <a:xfrm>
            <a:off x="2700360" y="5661000"/>
            <a:ext cx="18720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8"/>
          <p:cNvSpPr/>
          <p:nvPr/>
        </p:nvSpPr>
        <p:spPr>
          <a:xfrm>
            <a:off x="6249960" y="5862600"/>
            <a:ext cx="130320" cy="225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9"/>
          <p:cNvSpPr/>
          <p:nvPr/>
        </p:nvSpPr>
        <p:spPr>
          <a:xfrm>
            <a:off x="6237360" y="4308480"/>
            <a:ext cx="1522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7e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Thanks for the valuable discussion from all authors and contribu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Last c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7e2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8CC-A733-4E0F-94C6-0285A8AB1B87}" type="slidenum">
              <a:rPr b="0" lang="en-US" sz="1400" spc="-1" strike="noStrike">
                <a:solidFill>
                  <a:srgbClr val="0087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Lizhong Jin</dc:creator>
  <dc:description/>
  <cp:keywords>培训教材</cp:keywords>
  <dc:language>en-US</dc:language>
  <cp:lastModifiedBy>Lizhong Jin</cp:lastModifiedBy>
  <dcterms:modified xsi:type="dcterms:W3CDTF">2011-11-12T15:07:33Z</dcterms:modified>
  <cp:revision>213</cp:revision>
  <dc:subject/>
  <dc:title>mLDP based LSP problem statement</dc:title>
</cp:coreProperties>
</file>