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6480" y="-36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6480" y="892620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136-D830-4A81-8067-8BFD26CD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76840" y="8926560"/>
            <a:ext cx="296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863E-F9F5-433C-B99D-0A3895DD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49E-B9CD-41D0-A753-73003802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B68-93EE-4FF4-AB80-E028CE8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4A-985F-4AE4-9D05-B5CFC2A8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D0A-EE57-4391-B8AB-12507FD9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BF1-ED5B-4BFB-B245-274026AB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CA3-BACD-4F27-96B2-F9757CB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F42-7D40-4A30-B190-3992532B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394-9E70-429C-AE40-CC42AA6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27C-DF4F-418E-BAED-A5547484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4F6-5566-4FAD-8412-29C58F0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EA0-A67E-4A57-87BA-3EAE70F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F4E-BF68-4FD2-90C2-634C18F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B62-C47E-44A6-87F1-92754607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RADIUS attribu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IPv6 access network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radext-ipv6-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en Zorn, Benoit Lourd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jcie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cet Sarikaya, David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ext W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ssues raised in previous WG-last call resolved a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new editorial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ful-ipv6-address-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  <a:ea typeface="Consolas"/>
              </a:rPr>
              <a:t>Needed to resolve ambiguity between local and delegated IP address pools led to the addition of a stateful-ipv6-address-pool-at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  <a:ea typeface="Consolas"/>
              </a:rPr>
              <a:t>Fair bit of discussion on the why’s and alterna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Parsing the string/pool name in existing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Creating one new “pool of all pools” complex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  <a:ea typeface="Consolas"/>
              </a:rPr>
              <a:t>Author’s conclusion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Using existing pool attributes would require name/string parsing (+ result in unspecified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Doing away with existing pool attributes is 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 next version of draft addressing Bernard’s editorial com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e on to IESG re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jciech Dec</cp:lastModifiedBy>
  <dcterms:modified xsi:type="dcterms:W3CDTF">2011-11-11T14:01:19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8024631</vt:lpwstr>
  </property>
</Properties>
</file>