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468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6480" y="-360"/>
            <a:ext cx="296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464000"/>
            <a:ext cx="54766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6480" y="8926200"/>
            <a:ext cx="296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F6B7-3D8D-433E-91BD-948B2BB87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76840" y="8926560"/>
            <a:ext cx="2966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0C18-8AE6-43B9-A682-334F18387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4000" y="4464000"/>
            <a:ext cx="547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B57-F245-476D-8986-5087DAD1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DA7-B5F0-4F9A-AEE2-EDEF01E9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9A7-4F70-497F-A533-AF9FDBFC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FF5-111C-4648-A4A1-CF92453D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FE6-2D39-4D35-843C-23607BD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C09-9A21-4874-A67B-A1A99E39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974-A350-4220-8B62-B370777D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232-430A-4B27-B260-6A027AE3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A27-CE2B-4422-A633-3A21E90C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7B4-C68A-4493-A996-B7E94BFF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267-D554-4D21-8713-E20D11A3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66F-E37D-422D-92AF-734B03EC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EA50-A6CD-4B17-AD01-D7EE6678F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6 RADIUS attribu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IPv6 access network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ietf-radext-ipv6-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en Zorn, Benoit Lourd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jcie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cet Sarikaya, David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ext W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issues raised in previous WG-last call resolved as pro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new editorial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ful-ipv6-address-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  <a:ea typeface="Consolas"/>
              </a:rPr>
              <a:t>Needed to resolve ambiguity between local and delegated IP address pools led to the addition of a stateful-ipv6-address-pool-at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  <a:ea typeface="Consolas"/>
              </a:rPr>
              <a:t>Fair bit of discussion on the why’s and alterna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Parsing the string/pool name in existing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Creating one new “pool of all pools” complex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  <a:ea typeface="Consolas"/>
              </a:rPr>
              <a:t>Author’s conclusions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Using existing pool attributes would require name/string parsing (+ result in unspecified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Doing away with existing pool attributes is 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 next version of draft addressing Bernard’s editorial com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e on to IESG revi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ojciech Dec</cp:lastModifiedBy>
  <dcterms:modified xsi:type="dcterms:W3CDTF">2011-11-11T14:01:19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8024631</vt:lpwstr>
  </property>
</Properties>
</file>