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63216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975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308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64160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3000"/>
          </a:bodyPr>
          <a:p>
            <a:pPr marL="53100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81900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09872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379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81900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21212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2" marL="159444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3" marL="197676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4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5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6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80964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19808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2" marL="157608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3" marL="195372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4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5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6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63216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975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308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64160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land@freeradius.org" TargetMode="External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Protocol Extension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RADEXT - IETF 82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Statu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WG Last cal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IANA comments from Bernard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ypos and consistency from Leaf Yeh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New version coming out shortly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No other comments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Implementation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reeRADIUS, IEA Software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BSD licensed encoder/decoder early 2012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</a:rPr>
              <a:t>Email </a:t>
            </a:r>
            <a:r>
              <a:rPr b="0" lang="en-US" sz="3800" spc="-1" strike="noStrike" u="sng">
                <a:solidFill>
                  <a:srgbClr val="009999"/>
                </a:solidFill>
                <a:uFillTx/>
                <a:latin typeface="Cochin"/>
                <a:hlinkClick r:id="rId2"/>
              </a:rPr>
              <a:t>aland@freeradius.org</a:t>
            </a:r>
            <a:r>
              <a:rPr b="0" lang="en-US" sz="3800" spc="-1" strike="noStrike">
                <a:solidFill>
                  <a:srgbClr val="000000"/>
                </a:solidFill>
                <a:latin typeface="Cochin"/>
              </a:rPr>
              <a:t> for details</a:t>
            </a: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Document includes test vectors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</a:rPr>
              <a:t>Implementors should use them!</a:t>
            </a: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Discussion?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