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3000"/>
          </a:bodyPr>
          <a:p>
            <a:pPr marL="531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81900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09872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379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667160" indent="-36288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81900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21212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9444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7676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69880" indent="-589680"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" name=""/>
          <p:cNvSpPr/>
          <p:nvPr/>
        </p:nvSpPr>
        <p:spPr>
          <a:xfrm>
            <a:off x="9765000" y="9131400"/>
            <a:ext cx="186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chin"/>
                <a:ea typeface="Cochin"/>
              </a:rPr>
              <a:t>NAI (4282bis) - IETF 82</a:t>
            </a:r>
            <a:endParaRPr b="0" lang="en-US" sz="1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80964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198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2" marL="157608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3" marL="195372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4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5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6" marL="2342160" indent="-582840">
              <a:spcBef>
                <a:spcPts val="5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63216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1" marL="975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2" marL="130824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3" marL="164160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4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5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  <a:p>
            <a:pPr lvl="6" marL="1984680" indent="-432000">
              <a:spcBef>
                <a:spcPts val="40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NAI (4282bis)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chin"/>
              </a:rPr>
              <a:t>RADEXT - IETF 82</a:t>
            </a:r>
            <a:endParaRPr b="0" lang="en-US" sz="3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Why?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RFC 4282 is referenced in many place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EAP, RADIUS, now abfab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</a:rPr>
              <a:t>NAI is a MUST for abfab</a:t>
            </a: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4282 not 8-bit clean.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EAP and RADIUS are 8-bit clean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Even more why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4282 requires that intermediate nodes (proxies) mangle the NAI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</a:rPr>
              <a:t>Create normal form</a:t>
            </a: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</a:rPr>
              <a:t>Perform code point filtering</a:t>
            </a: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DNS affects EAP and RADIUS?  Why?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</a:rPr>
              <a:t>ToAscii is for DNS lookups… </a:t>
            </a: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The best reason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chin"/>
              </a:rPr>
              <a:t>No one implements any of the requirements of RFC 4282</a:t>
            </a:r>
            <a:endParaRPr b="0" lang="en-US" sz="9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4282 is blocking progres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336760" y="292104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The solution: 4282bi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e document has one proposal: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lvl="1" marL="140184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ochin"/>
              </a:rPr>
              <a:t>Realms MUST be of the form that can be registered as a Fully Qualified Domain Name (FQDN) within the DNS name system.</a:t>
            </a:r>
            <a:endParaRPr b="0" lang="en-US" sz="38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Pretty much everything else from 4282 is gone.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e rest of the document explains why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The results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942840" indent="-6444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s change allows new documents (abfab) to be compatible with existing practice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942840" indent="-6444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This change is compatible with preci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942840" indent="-6444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Has no effect on any other specification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  <a:p>
            <a:pPr marL="942840" indent="-6444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chin"/>
              </a:rPr>
              <a:t>Has no new normative requirements on implementations</a:t>
            </a:r>
            <a:endParaRPr b="0" lang="en-US" sz="42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chin"/>
              </a:rPr>
              <a:t>Discussion?</a:t>
            </a:r>
            <a:endParaRPr b="0" lang="en-US" sz="8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