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39CB-DAFE-4D7C-87AD-BDE85E6F4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44A2-D32F-4F31-BF69-06A4323D8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F9FF-B9E7-44E6-B2A7-8FEABC9CF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1B1D-3D4D-4DD3-95D6-B13D4D878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613BC-ADC7-489A-8102-82DCF5C4C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F7845-6C28-43D7-975F-9537A54DD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AE3A3-BCF5-43C2-BF51-7097586CD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CCB87-D6CD-436D-940E-029FF8A4A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C1C18-096F-46F5-8107-2EF0CCEC5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68580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D14A1-B6EC-4924-B916-0132F54BE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F9D2B-9B50-494A-A10E-600EE9CA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DE0E-1166-44CD-A7B2-F63479194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2635D-81F7-48D8-8E6C-895F2AAD5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09C5D-F940-4FE6-82B9-7667CD1BC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6EB45-3426-4C91-8FB4-A01943C76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C5BD5-3B50-4C18-8D51-6CE93B810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4372C-0ED3-48AA-B37D-09FF1B7EB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8ACB-7C95-46E4-8DB1-B2C691C57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E3FD-5A3B-40AF-BECF-2FBEBDCC4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18AB-8CF1-4734-8DDD-13FF75661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68580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96E9-B4A0-4805-87AA-DDDADEA24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1A13-AD43-4CCC-9583-927BBA54A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E842-766E-4D08-AE68-315616A2B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2BEA-B5C7-476C-8DF4-39E398C83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391520" y="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CAB33-6F5B-4C1E-904F-9A0EB534AD5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40" descr="ietflogo"/>
          <p:cNvPicPr/>
          <p:nvPr/>
        </p:nvPicPr>
        <p:blipFill>
          <a:blip r:embed="rId2"/>
          <a:stretch/>
        </p:blipFill>
        <p:spPr>
          <a:xfrm>
            <a:off x="7391520" y="228600"/>
            <a:ext cx="1523880" cy="871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1" descr="ietflogo"/>
          <p:cNvPicPr/>
          <p:nvPr/>
        </p:nvPicPr>
        <p:blipFill>
          <a:blip r:embed="rId2"/>
          <a:stretch/>
        </p:blipFill>
        <p:spPr>
          <a:xfrm>
            <a:off x="7391520" y="2971800"/>
            <a:ext cx="1523880" cy="8715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C1793-A6D8-4CB1-8A37-CBE6B542C7B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ops.ietf.org/lists/radiusext/2007/msg00906.html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RADEXT WG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3047760"/>
            <a:ext cx="68580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raft-aboba-radext-wlan-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rnard Abo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vember 14, 20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ETF 82, Taipe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2209680" y="5791320"/>
            <a:ext cx="579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ease join the Jabber roo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ext@jabber.ietf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urpose of the Documen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velopment of additional attributes for RADIUS use on IEEE 802 networks, including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EEE 802.1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EEE 802.1X-20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ew Attributes Define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owed-Called-Station-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P-Peer-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P-Server-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bility-Domain-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auth-Timeou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twork-Id-Na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-Inf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ocument Histor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ll for Adoption” issued on November 13, 2007: </a:t>
            </a:r>
            <a:r>
              <a:rPr b="0" lang="en-US" sz="3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http://ops.ietf.org/lists/radiusext/2007/msg00906.htm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esterday is the 4 year anniversary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 we think the draft is “ready” for adoption ye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0 revisions since the original “call for adoption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r does it need “more time to ripen”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pe01496_"/>
          <p:cNvPicPr/>
          <p:nvPr/>
        </p:nvPicPr>
        <p:blipFill>
          <a:blip r:embed="rId1"/>
          <a:stretch/>
        </p:blipFill>
        <p:spPr>
          <a:xfrm>
            <a:off x="2944800" y="1941480"/>
            <a:ext cx="2922480" cy="34686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3"/>
          <p:cNvSpPr/>
          <p:nvPr/>
        </p:nvSpPr>
        <p:spPr>
          <a:xfrm>
            <a:off x="2881800" y="838080"/>
            <a:ext cx="2948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66"/>
                </a:solidFill>
                <a:latin typeface="Arial"/>
              </a:rPr>
              <a:t>Feedbac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3T02:41:14Z</dcterms:created>
  <dc:creator>EAP Keying</dc:creator>
  <dc:description/>
  <dc:language>en-US</dc:language>
  <cp:lastModifiedBy>bernarda</cp:lastModifiedBy>
  <dcterms:modified xsi:type="dcterms:W3CDTF">2011-11-13T15:17:03Z</dcterms:modified>
  <cp:revision>325</cp:revision>
  <dc:subject/>
  <dc:title>EAP WG</dc:title>
</cp:coreProperties>
</file>