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015E-728B-462B-8CEF-D02E09469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18CD-4FBD-4591-9B95-ACD38984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FEB2-560E-4F48-90D4-F485F340E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E291-83C1-40F1-A49D-BD6F0A803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C74C-B3CB-45D5-AA91-6C7FBD387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5B55-3BED-45D9-AE79-DE922187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006E-C129-4BD0-A657-BB3959F0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5A2A-1B26-4516-8290-7A31F3C0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BE67-49CE-46B2-9D31-EF0E448A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041F-6429-44E4-9B30-810B8391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C01C-7E24-4348-8CC1-2D4876FA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EA75-BB63-4906-A254-F8A996FD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E594-C585-4667-91DF-4D82A512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75F9-1B00-4842-8197-40E7210D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B661-74F3-46F9-8A2D-0F3ADA33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C1FB-7C80-4F45-B87D-C87A9C98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71DB-E4FD-40D9-B517-AB811A956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D7C3-5B21-4062-A9E4-9B6914DA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A964-3E57-4689-8B21-276013FA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252B-70F1-473E-86EE-FC41ABB6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D1D1-2BB5-48C8-9EF1-8F63D285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EFF1-56E6-40CF-B48A-C31274AD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0A7A-FA9C-4C62-B34E-0F6A9A3E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3D46-51BF-40C3-A0B0-EF3F66C7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6F84-F3C3-4FA9-BCC5-DA8383D153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40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1" descr="ietflogo"/>
          <p:cNvPicPr/>
          <p:nvPr/>
        </p:nvPicPr>
        <p:blipFill>
          <a:blip r:embed="rId2"/>
          <a:stretch/>
        </p:blipFill>
        <p:spPr>
          <a:xfrm>
            <a:off x="7391520" y="29718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F2C5-7EC5-4340-9FC1-5267146CCF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ops.ietf.org/lists/radiusext/2007/msg00906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RADEXT W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3047760"/>
            <a:ext cx="6858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ft-aboba-radext-wlan-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rnard Abo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vember 14,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ETF 82, Taip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2209680" y="579132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join the Jabber ro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ext@jabber.ietf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urpose of the Docu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ment of additional attributes for RADIUS use on IEEE 802 networks, includ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EEE 802.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EEE 802.1X-20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w Attributes Defin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owed-Called-Station-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P-Peer-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P-Server-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bility-Domain-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auth-Timeo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twork-Id-Na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-Inf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ocument Histo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ll for Adoption” issued on November 13, 2007: </a:t>
            </a: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ops.ietf.org/lists/radiusext/2007/msg00906.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terday is the 4 year anniversary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we think the draft is “ready” for adoption ye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 revisions since the original “call for adoption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 does it need “more time to ripen”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pe01496_"/>
          <p:cNvPicPr/>
          <p:nvPr/>
        </p:nvPicPr>
        <p:blipFill>
          <a:blip r:embed="rId1"/>
          <a:stretch/>
        </p:blipFill>
        <p:spPr>
          <a:xfrm>
            <a:off x="2944800" y="1941480"/>
            <a:ext cx="2922480" cy="34686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2881800" y="838080"/>
            <a:ext cx="294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66"/>
                </a:solidFill>
                <a:latin typeface="Arial"/>
              </a:rPr>
              <a:t>Feedbac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02:41:14Z</dcterms:created>
  <dc:creator>EAP Keying</dc:creator>
  <dc:description/>
  <dc:language>en-US</dc:language>
  <cp:lastModifiedBy>bernarda</cp:lastModifiedBy>
  <dcterms:modified xsi:type="dcterms:W3CDTF">2011-11-13T15:17:03Z</dcterms:modified>
  <cp:revision>325</cp:revision>
  <dc:subject/>
  <dc:title>EAP WG</dc:title>
</cp:coreProperties>
</file>