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720263" cy="64801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142-A3F3-4AE5-9E45-3CA40079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C67-F480-4806-9F8D-3BC5D37F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B63F-81C6-406C-8FFA-931E8C77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160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92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160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92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BC50-CBA2-4D38-9452-A83214ED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BDC4-39FD-4F1C-9FBD-1E50D44E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5F81-1ED8-45E6-8274-1CB5C8FC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1EF3-7CA4-4F56-9B67-5AEED3BD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7F0-AA46-4BB7-975F-7A9B1320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4404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EAF-96A6-4DE6-B21E-DABACB2B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17E-C96C-4BAB-A542-C176EA1D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647D-1429-4D8F-B46C-CD9EA34D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4D1C-5520-4188-BDB2-26BB7F07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80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604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A6695-22B1-4215-A1B6-79F68DFD082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3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REPUTE Working Group / Taipe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88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86000"/>
          </a:bodyPr>
          <a:p>
            <a:pPr marL="3711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Hello and Agenda Bashing (5 m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Status of Drafts (Murray, 15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ment on 3 'categories' and ass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URI template for Repute queries  (Murray / 15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tutorial &amp;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DNS vs. New UDP-based (Dave, 5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pparent controver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 DNS vs. HTTP - Which to use &amp; when? (Murray, 5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for each mechanism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88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6.  JSON vs. XML (5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Summary of online discussion, noting tradeo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7.  AOB, e.g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SAMPLE-SIZE parameter currently has no units; is this a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Ditch the plain text format and always go with XM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Are RFC5322.FROM and RFC5321.MAILFROM identity tags n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Need or want to distinguish between DKIM and SPF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S vs. New UDP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 fontScale="98000"/>
          </a:bodyPr>
          <a:p>
            <a:pPr marL="335880" indent="0" algn="ctr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Short Transaction query mo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3000"/>
              </a:lnSpc>
              <a:spcAft>
                <a:spcPts val="975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 protocol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3000"/>
              </a:lnSpc>
              <a:spcAft>
                <a:spcPts val="975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3000"/>
              </a:lnSpc>
              <a:spcAft>
                <a:spcPts val="975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ve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ew UDP-based protoc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3000"/>
              </a:lnSpc>
              <a:spcAft>
                <a:spcPts val="975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he DNS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3000"/>
              </a:lnSpc>
              <a:spcAft>
                <a:spcPts val="975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needs new protocol and operations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o constituency in favor of new protocol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640" y="30276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5640" y="1515600"/>
            <a:ext cx="42688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67280" y="1515600"/>
            <a:ext cx="42688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02:00:32Z</dcterms:created>
  <dc:creator>Dave Crocker</dc:creator>
  <dc:description/>
  <dc:language>en-US</dc:language>
  <cp:lastModifiedBy/>
  <cp:revision>1</cp:revision>
  <dc:subject/>
  <dc:title/>
</cp:coreProperties>
</file>