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720263" cy="64801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B51-EEAC-46B2-BAD7-1028CF11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406-FBC1-4DC3-ABD9-A375E13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6C2-BF45-4473-B766-D322ABFE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846-704D-478F-860A-D812A1DB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E12-20B7-433F-B10A-CAC464F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44C-E1DE-424B-AB75-7543C788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294-D609-4566-95B1-66F7AB07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26A-C971-42EF-B078-F9AE714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4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F4B-4A0A-4CF6-B770-AECB7443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441-D02D-4CB4-B36B-A2667E1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601-98FC-46BB-93A1-75B5ED0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117-6E27-444B-B146-937F4A4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C7ED-765D-47D0-BFA4-C27FA7A11B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PUTE Working Group / Taipe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Hello and Agenda Bashing (5 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Status of Drafts (Murray, 1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on 3 'categories' and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URI template for Repute queries  (Murray / 1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tutorial &amp;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DNS vs. New UDP-based (Dave, 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pparent controver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DNS vs. HTTP - Which to use &amp; when? (Murray, 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for each mechanis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6.  JSON vs. XML (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ummary of online discussion, noting trade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7.  AOB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AMPLE-SIZE parameter currently has no units; is this a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itch the plain text format and always go with XM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re RFC5322.FROM and RFC5321.MAILFROM identity tags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Need or want to distinguish between DKIM and SPF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 vs. New UDP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 fontScale="98000"/>
          </a:bodyPr>
          <a:p>
            <a:pPr marL="335880" indent="0" algn="ctr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hort Transaction query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protoco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w UDP-based protoc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DNS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3000"/>
              </a:lnSpc>
              <a:spcAft>
                <a:spcPts val="975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needs new protocol and operation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 constituency in favor of new protocol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42688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2:00:32Z</dcterms:created>
  <dc:creator>Dave Crocker</dc:creator>
  <dc:description/>
  <dc:language>en-US</dc:language>
  <cp:lastModifiedBy/>
  <cp:revision>1</cp:revision>
  <dc:subject/>
  <dc:title/>
</cp:coreProperties>
</file>