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8C6-5F4D-426B-86C7-B1B20B36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AE8-F833-4979-A794-E69F902F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DBD-52C2-40AC-AEAD-0024D568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85D-3455-4349-8BB4-E419B59B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502-2534-41FD-AAB6-40A8BAA3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0F1-5778-46A9-9062-C56199C4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440-BD52-46D0-927D-09D16F9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105-1C8A-4AF5-8C67-2B50FB2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D15-76B0-41F7-A4B6-B5BCD9B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3B8-570E-4F60-8785-FE3A6C0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4F6-15A5-4B89-8E03-832F3C4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80E-9F13-473B-BA94-3FAB83D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2D8-B23D-4E60-B1B2-9C71D7C69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TE Document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rray S. Kuche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&lt;msk@cloudmark.com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1: draft-kucherawy-reputation-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Nathaniel Borenstein’s framework model posted to the domainrep list some time 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s out the framework for REPUTE protocols and gives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bring this in as a WG item, with Nathaniel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2: draft-kucherawy-reputation-media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an object called a “reputon” and registers a media type for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s out a simple text format for including one in a MIME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s a basic parameter 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reates a registry for reputation applications and sets out what needs to go i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bring this in as a WG item, with me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#3: draft-kucherawy-reputation-query-htt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es how to ask for a reputon over an HTTP or HTTPS qu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es an XML form for a reput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ers a well-known URI (see RFC5785) for getting a query template (see draft-gregorio-uri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es a required but extensible set of parameters for completing the templ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mmend we bring this in as a WG item, with me ed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4: draft-kucherawy-reputation-vocab-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the email identity reputation application, per the other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reporting of reputations about identities found in e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ent IP address, DKIM domain, SPF domain, envelope sender domain, From: field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s various related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bring this in as a WG item, with me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5: draft-kucherawy-reputation-vocab-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the email property reputation application, per the other dr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reporting of reputations about arbitrary properties found in e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ly not needed, at least not for this cha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 we let this ex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ocumen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#6: draft-kucherawy-reputation-query-dns and draft-kucherawy-reputation-query-u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holders for the “lightweight” query mechanism that we’re debating on a couple of lev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competing views about whether or not the DNS is the right place for this kind of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the usual argument against the likely success of a new service (i.e., port number) that people will have to sup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mmend we figure out which one we want and adopt it as a WG item, with someone other than me ed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ne We Don’t Hav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rter requires us to produce a draft including guidelines about “data transparency, redress, meta-reputation and other important operational considera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have an initial document for this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omeone want to edit that one?  It shouldn’t be 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00:14Z</dcterms:created>
  <dc:creator>Murray S. Kucherawy</dc:creator>
  <dc:description/>
  <dc:language>en-US</dc:language>
  <cp:lastModifiedBy>Murray S. Kucherawy</cp:lastModifiedBy>
  <dcterms:modified xsi:type="dcterms:W3CDTF">2011-11-12T04:59:05Z</dcterms:modified>
  <cp:revision>6</cp:revision>
  <dc:subject/>
  <dc:title>REPUTE Document Status</dc:title>
</cp:coreProperties>
</file>