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C48-587E-4E60-B010-FBE4EA0C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9237-7558-413B-9ADD-3A714605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468-4837-423D-BE1A-707D3F8B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77A-D3CF-4BD3-B535-515C4D7E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CB5-1D0C-427D-87BD-734320FC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EB2F-A3F9-4078-ACAE-D067D0F6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CA8-92DF-4D57-A9F1-135F6DCC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256-AD4F-4A36-B2C0-81118662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C02-5EBF-417A-96B2-F176D29C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FDF-233C-48BB-991E-421E248C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06E-3E21-4539-A814-DBA85065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726-35E9-42B7-8399-40F5BA63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F7FB-9798-4756-AD23-4EABDFD19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UTE Document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rray S. Kuchera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&lt;msk@cloudmark.com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Document 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1: draft-kucherawy-reputation-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Nathaniel Borenstein’s framework model posted to the domainrep list some time a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ys out the framework for REPUTE protocols and gives 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mmend we bring this in as a WG item, with Nathaniel ed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Document 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2: draft-kucherawy-reputation-media-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s an object called a “reputon” and registers a media type for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ys out a simple text format for including one in a MIME 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s a basic parameter s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creates a registry for reputation applications and sets out what needs to go in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mmend we bring this in as a WG item, with me ed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Document 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#3: draft-kucherawy-reputation-query-htt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cifies how to ask for a reputon over an HTTP or HTTPS que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fines an XML form for a reput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gisters a well-known URI (see RFC5785) for getting a query template (see draft-gregorio-uritempla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fines a required but extensible set of parameters for completing the templ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ommend we bring this in as a WG item, with me edi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Document 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4: draft-kucherawy-reputation-vocab-ide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s the email identity reputation application, per the other dr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reporting of reputations about identities found in em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ent IP address, DKIM domain, SPF domain, envelope sender domain, From: field do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s various related 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mmend we bring this in as a WG item, with me ed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Document 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5: draft-kucherawy-reputation-vocab-e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s the email property reputation application, per the other dr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reporting of reputations about arbitrary properties found in em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ly not needed, at least not for this char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mmend we let this exp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Document 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#6: draft-kucherawy-reputation-query-dns and draft-kucherawy-reputation-query-ud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ceholders for the “lightweight” query mechanism that we’re debating on a couple of lev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are competing views about whether or not the DNS is the right place for this kind of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’s the usual argument against the likely success of a new service (i.e., port number) that people will have to sup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ommend we figure out which one we want and adopt it as a WG item, with someone other than me edi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ne We Don’t Hav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rter requires us to produce a draft including guidelines about “data transparency, redress, meta-reputation and other important operational consideration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don’t have an initial document for this y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someone want to edit that one?  It shouldn’t be m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08:00:14Z</dcterms:created>
  <dc:creator>Murray S. Kucherawy</dc:creator>
  <dc:description/>
  <dc:language>en-US</dc:language>
  <cp:lastModifiedBy>Murray S. Kucherawy</cp:lastModifiedBy>
  <dcterms:modified xsi:type="dcterms:W3CDTF">2011-11-12T04:59:05Z</dcterms:modified>
  <cp:revision>6</cp:revision>
  <dc:subject/>
  <dc:title>REPUTE Document Status</dc:title>
</cp:coreProperties>
</file>