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765-7B9D-4A2B-9B8A-05A15DBB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05D-9C87-4946-ACEE-165509A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623-7467-42E5-BAD3-65EA847B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D5B-8DA0-4F2B-8D3B-3A532633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884-2BB7-490C-A2E9-6A41F1A3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485-D0A2-41D3-BB6B-44009E7C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B7F-DD1D-45B7-8821-D8E4A733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A80-17DA-40CC-9DF9-B36F3EC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44F-8BD3-4987-B1F1-1829FBA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035-C73B-48E7-91B7-8E3A1A7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D13-1F7A-4F51-92A8-57E76FC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ECC-C3DD-4179-941B-7832621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E15-7AC9-45EB-A13D-8D51CA5BA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and URI Tem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ory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kucherawy-reputation-query-http specified, given a hostname where a reputation service lived, a fixed URL for formatting the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considered “unfortunate” by someone more knowledgeable in this space than I 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pointed at a new thing called URI templates as a more modern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this fit into REPU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-kucherawy-reputation-query-http specifies how to ask for a reputon over an HTTP or HTTPS 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you need to know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send the query and what format it should h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so, different services might want or permit you to specify parameters with your query in addition to just the question you’re as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details about the subject (maybe DKIM domain plus IP addre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dentials to access the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ing.  Now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a well-known URI (RFC5785) so that, given the hostname of a reputation service, one can query that URI for a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hat you have the template, you can fill it in with standard REPUTE parameters or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 reputation service based a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repute.example.c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you query: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repute.example.com/.well-known/repute_templ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Answer comes back: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{service}/repute.php?subject={subject}&amp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application={application}&amp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assertion={assertion}&amp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service={service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Our query draft gives you the values for those symbols, and draft-gregorio-uritemplate tells you how to expand this into a complete U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ourier New"/>
              </a:rPr>
              <a:t>There are interesting expansion tricks, go check it ou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ty m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ur query document enumerates a couple of parameters that are required for all qu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Our IANA stuff lets an application registration specify additional parameters to the URI templates that are either required or optional for that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Reputation service providers then post the template they want you to use in your qu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s it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mplemented in OpenDKIM now, along with all the rest of the initial document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is flexibility, I’m left wondering how one might encode something this robust in a DNS query, where the name and RRTYPE have to encode the entir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we really do need a UDP query, with some kind of template support, painful as that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DNS is also fine where the query has few (or no) addition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 the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4:58:55Z</dcterms:modified>
  <cp:revision>6</cp:revision>
  <dc:subject/>
  <dc:title>REPUTE Document Status</dc:title>
</cp:coreProperties>
</file>