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B3F-0466-445B-A365-66770435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0D3-C5BC-44E1-8D48-648A86A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9C7-24C8-43C4-81D9-7BD783E0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EAA-A184-47FC-ADFB-F6531926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638-4112-492F-AA1B-A099ECE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C2F-3ADF-4BF3-871E-E08FDC9D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498-AF00-46D0-B628-CE2B2117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914-C74C-4CAA-92DD-E803528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C86-FCA4-4536-869D-64C8363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11E-2866-4B08-9249-1BE5155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527-AFE1-4084-8A0B-93CDDD5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A7E-6368-40E2-B2E8-6972358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041-8E2E-4574-903A-1072D84AA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and URI Tem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ory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ucherawy-reputation-query-http specified, given a hostname where a reputation service lived, a fixed URL for formatting th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considered “unfortunate” by someone more knowledgeable in this space than I 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pointed at a new thing called URI templates as a more modern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this fit into REPU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kucherawy-reputation-query-http specifies how to ask for a reputon over an HTTP or HTTPS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you need to know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end the query and what format it should h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, different services might want or permit you to specify parameters with your query in addition to just the question you’re as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details about the subject (maybe DKIM domain plus IP addre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dentials to access the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.  Now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a well-known URI (RFC5785) so that, given the hostname of a reputation service, one can query that URI for a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at you have the template, you can fill it in with standard REPUTE parameters or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 reputation service based 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repute.example.c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you query: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epute.example.com/.well-known/repute_templ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Answer comes back: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{service}/repute.php?subject={subject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application={application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assertion={assertion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service={service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Our query draft gives you the values for those symbols, and draft-gregorio-uritemplate tells you how to expand this into a complete U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ourier New"/>
              </a:rPr>
              <a:t>There are interesting expansion tricks, go check it ou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ty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ur query document enumerates a couple of parameters that are required for all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ur IANA stuff lets an application registration specify additional parameters to the URI templates that are either required or optional for that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Reputation service providers then post the template they want you to use in your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mplemented in OpenDKIM now, along with all the rest of the initial document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is flexibility, I’m left wondering how one might encode something this robust in a DNS query, where the name and RRTYPE have to encode the entir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we really do need a UDP query, with some kind of template support, painful as that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DNS is also fine where the query has few (or no) addition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 the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4:58:55Z</dcterms:modified>
  <cp:revision>6</cp:revision>
  <dc:subject/>
  <dc:title>REPUTE Document Status</dc:title>
</cp:coreProperties>
</file>