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B9D-F611-4577-88E2-4CA66D1B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675-F63B-4BAC-BE7A-E939E0B8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96A-41C5-422D-9DBF-7E09CBF9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417-B3B2-4A55-BE4D-987B9CD4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267-E54C-4CAB-ABAF-7C2E5F23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8381-C458-4656-9408-9559165B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D5D-9E6E-4809-824B-E08ECD97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A6B-44AD-4CFF-A5AA-24977E72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44C-B44C-4E8A-8D7B-CD95FD95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6A8-C72D-44F8-9B76-6364D09C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434-498C-4010-9F24-BF8BC5BF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046-9A26-4F07-81A0-093A765E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252E-88CB-446A-9E90-023468C02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TE Query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rray S. Kuchera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&lt;msk@cloudmark.com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tory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 pretty much always assumed that there will be a need for a lightweight query (just give me the reputation) and a heavyweight query (complex questions with detailed answ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itial assumptions were XML over HTTP for heavyweight and DNS TXT RRs for lightw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n there’s the “new UDP service” deb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To U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ppear to be several classes of cl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ose that need robust answers vs. those that don’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the former, probably because they have complex evaluation algorithms or acceptance criteria and want as much data as possi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ose that want to ask lots of questions for a single transaction vs. those that don’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xample, SpamAssassin might query a dozen RBLs for a single mess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o S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might want to provide some operational guidelines about which ones to use (as clients) and which ones to provide (as servers) for given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might that advice b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8:00:14Z</dcterms:created>
  <dc:creator>Murray S. Kucherawy</dc:creator>
  <dc:description/>
  <dc:language>en-US</dc:language>
  <cp:lastModifiedBy>Murray S. Kucherawy</cp:lastModifiedBy>
  <dcterms:modified xsi:type="dcterms:W3CDTF">2011-11-12T05:00:23Z</dcterms:modified>
  <cp:revision>9</cp:revision>
  <dc:subject/>
  <dc:title>REPUTE Document Status</dc:title>
</cp:coreProperties>
</file>