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35C-4842-4AC8-8969-958AEC62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4CB-2616-4E75-AEBC-ACE1A5A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44F-894D-4F12-BE07-3432F870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787-F421-4EA0-A865-A63202C7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37C-E6C4-4188-82C2-D36531BE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ED7-D5D1-4938-A3A1-D8618BDA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1F7-5323-4911-AA7F-41E1916D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0EC-5C5A-4129-963E-0E2C2B64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6B3-0868-42A7-BF83-5CA7986D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54F-CF26-4F9D-AEC0-111647BB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6A1-B564-43CF-BD92-01DEC5D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2F1-0591-4B25-A5A0-B72FDB28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5541-5E94-4895-9468-22273CBAF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TE Query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rray S. Kuche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&lt;msk@cloudmark.com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tory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pretty much always assumed that there will be a need for a lightweight query (just give me the reputation) and a heavyweight query (complex questions with detailed answ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assumptions were XML over HTTP for heavyweight and DNS TXT RRs for lightw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n there’s the “new UDP service” deb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To U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ppear to be several classes of cl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se that need robust answers vs. those that don’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the former, probably because they have complex evaluation algorithms or acceptance criteria and want as much data as poss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se that want to ask lots of questions for a single transaction vs. those that don’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xample, SpamAssassin might query a dozen RBLs for a single mess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o S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ight want to provide some operational guidelines about which ones to use (as clients) and which ones to provide (as servers) for given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might that advice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8:00:14Z</dcterms:created>
  <dc:creator>Murray S. Kucherawy</dc:creator>
  <dc:description/>
  <dc:language>en-US</dc:language>
  <cp:lastModifiedBy>Murray S. Kucherawy</cp:lastModifiedBy>
  <dcterms:modified xsi:type="dcterms:W3CDTF">2011-11-12T05:00:23Z</dcterms:modified>
  <cp:revision>9</cp:revision>
  <dc:subject/>
  <dc:title>REPUTE Document Status</dc:title>
</cp:coreProperties>
</file>