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8D46-AD56-461B-822F-4283EF4E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BE2B-6939-4A4A-B842-52B92B16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9B99-C7EE-4B94-BDC5-3DD362CE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5109-F8B8-4496-89E6-8E5565A2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6297-E0E0-41E4-BEC9-11F457C2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56AD-C5BA-4C9D-AE17-3E76AC14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FE27-58C2-4043-8FF1-5FB0453A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D33A-DB34-4985-A2AE-24179914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8697-BACE-480E-822C-2C3B12C0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60F2-7AAF-4723-B01D-03A140C7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A388-CA3D-4BA9-BC21-46A82455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7A77-1967-454C-8D7E-60426ABE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5B7E-C9C3-4857-BE90-5F5F0A15A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UTE Extra To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urray S. Kucheraw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&lt;msk@cloudmark.com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it useful to report a SAMPLE-SIZE parameter, which contains the number of data points upon which the reported reputation is bas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wo different providers may use different un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example, number of messages vs. number of days of 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ust reveal the units so the client is fully informed?  Or let the client figure it out out-of-b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tricted set, or free-form string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person suggested making it optional anyw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vs. XM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dia-type document defines a plain text (header field style) repu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ry-http document defines an XML repu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one suggested moving the XML definition to the media-type document, and throwing away the text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’s more parsing code for XML than for header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 Identity S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ocab-identity document an IDENTITY extension that indicates to the client what identity is referenced by the repu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KIM domain, SPF domain, IP address, RFC5321.MailFrom, RFC5322.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we need those last two?  Someone might actually want to develop reputation on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should we limit ourselves to what we know people will actually build (or already have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vacy Consid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AB is mulling a document about privacy considerations in protocol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be we should start paying attention to this and plan to say something about it in REPUTE spe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KIM and SP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ocab-identity document an IDENTITY extension that indicates to the client what identity is referenced by the repu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KIM domain, SPF domain,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it important to be able to distinguish?  Or is just saying “Authenticated domain” good enoug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is that the right ter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 Consid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ingle evaluating client might want to ask lots of reputation providers the same question to establish consen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amAssassin does something like th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support for the need for a lightweight protocol, and for the “portability” 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ably should discuss this in the “model” document, or in the operational guidelines doc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08:00:14Z</dcterms:created>
  <dc:creator>Murray S. Kucherawy</dc:creator>
  <dc:description/>
  <dc:language>en-US</dc:language>
  <cp:lastModifiedBy>Murray S. Kucherawy</cp:lastModifiedBy>
  <dcterms:modified xsi:type="dcterms:W3CDTF">2011-11-12T05:06:56Z</dcterms:modified>
  <cp:revision>9</cp:revision>
  <dc:subject/>
  <dc:title>REPUTE Document Status</dc:title>
</cp:coreProperties>
</file>