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2E48-CD96-4600-9D27-0B7CDA6B1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90CB-2502-40C9-9001-79E1DD06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88B7-95F0-4707-A8E3-E59E369B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7333-EBB1-4397-BEA0-BD707CD7D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EA9F-C651-4EB3-ADFF-BEE024B7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8F46-49B6-4868-A854-2E0B0FD5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71D4-525D-4D6C-B3E9-A23CAAF7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BDF1-3B4E-4243-9EE7-B963B4F7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6FFE-A7BC-43D5-9D5A-3420017F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79A3-2168-478B-93DB-A4EFF76D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18DB-7A83-44F5-BE2F-2647B4B2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9D85-A4AA-49D5-9BCC-1E101B11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6EAD-26A7-4E0E-A5B1-CD9E4E995C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UTE Extra Top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urray S. Kucheraw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&lt;msk@cloudmark.com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it useful to report a SAMPLE-SIZE parameter, which contains the number of data points upon which the reported reputation is bas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wo different providers may use different un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example, number of messages vs. number of days of 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ust reveal the units so the client is fully informed?  Or let the client figure it out out-of-b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tricted set, or free-form string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e person suggested making it optional anywa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vs. XM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edia-type document defines a plain text (header field style) repu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query-http document defines an XML repu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one suggested moving the XML definition to the media-type document, and throwing away the text 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’s more parsing code for XML than for header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 Identity S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ocab-identity document an IDENTITY extension that indicates to the client what identity is referenced by the repu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KIM domain, SPF domain, IP address, RFC5321.MailFrom, RFC5322.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we need those last two?  Someone might actually want to develop reputation on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should we limit ourselves to what we know people will actually build (or already have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vacy Consid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AB is mulling a document about privacy considerations in protocol doc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be we should start paying attention to this and plan to say something about it in REPUTE spe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KIM and SP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ocab-identity document an IDENTITY extension that indicates to the client what identity is referenced by the repu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KIM domain, SPF domain,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it important to be able to distinguish?  Or is just saying “Authenticated domain” good enoug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is that the right ter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ral Consid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ingle evaluating client might want to ask lots of reputation providers the same question to establish consen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amAssassin does something like th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support for the need for a lightweight protocol, and for the “portability” iss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ably should discuss this in the “model” document, or in the operational guidelines doc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08:00:14Z</dcterms:created>
  <dc:creator>Murray S. Kucherawy</dc:creator>
  <dc:description/>
  <dc:language>en-US</dc:language>
  <cp:lastModifiedBy>Murray S. Kucherawy</cp:lastModifiedBy>
  <dcterms:modified xsi:type="dcterms:W3CDTF">2011-11-12T05:06:56Z</dcterms:modified>
  <cp:revision>9</cp:revision>
  <dc:subject/>
  <dc:title>REPUTE Document Status</dc:title>
</cp:coreProperties>
</file>