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467E-B40C-44D9-96DD-E7DD4A55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AC55-F6C3-44C4-9D08-594DF8A26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65B7-0EE4-4F69-ABA4-3E5E75514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1FCB-6701-4886-B55D-142D23C8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8D4B-F8A3-43CA-8B5D-9DC9A2CE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801-346D-47BA-B5E0-90F83956D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ECE1-3936-4BF4-85CF-EF273633D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889-ADC0-461E-935C-A547834D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334-5AD0-4475-9462-9F741B36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1A0-8BEE-4D8C-A0E3-5E51A801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6C1-3C32-418E-99EA-5D826EA9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EFA-8FA5-432F-953A-DCEA8CAD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5F5-D2CC-4AB5-841C-17061DBC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660-7130-49B6-928F-090C7B00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7F9-8810-407F-AF0A-7ADA9F74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ACE-2CAB-486D-81BC-9ED1524E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D1D-2910-425D-88C2-C78F17E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E19-A48C-4913-875E-8815420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835-BA88-42E9-8ED4-9E9F5C3B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BC63A5C6-7EE2-4D00-91CB-2B5FCF37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0 – Roll WG –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AE89C13D-C3F6-4E80-973A-942D4A7BC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887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PL adap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asymmetrical lin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TF 82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52556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-thubert-roll-asym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cal Thub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00 published in Octo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s Bi-directionality but not metrics 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early discussions in the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ed by the industrial applicabilit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from PCE-computed DAG to classical RPL D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6D68F384-7DC4-4EC9-B9E0-BA883192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576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s 2 RPL instances (DAGs), “up” and “dow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use bidirectiona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wards” DAG optimized for metric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wards” DAG optimized for metrics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can jump from “upwards” to “downwar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routing initially occurs along “upwards” DA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r match looked up on “downwards” DAG at each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ound, the packet continues on the “downwards”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ascading i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into a default spanning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A5E16D2E-8C25-4D84-9A78-BEFA7326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DAG Information Object (DIO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576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RPLInstanceID |Version Number |             Rank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G|D| MOP | Prf |     DTSN      |     Flags     |   Reserved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                                                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               DODAGID                          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                                                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Option(s)..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3E2FF3F9-3394-4DBE-ACCB-048229624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"/>
          <p:cNvSpPr/>
          <p:nvPr/>
        </p:nvSpPr>
        <p:spPr>
          <a:xfrm rot="13777200">
            <a:off x="1468800" y="2891160"/>
            <a:ext cx="777960" cy="31932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 flag and MOP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576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al (D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al (D) flag is set to indicate that the instance is intended for directional operation, and reset otherwi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‘D’ is s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P of 0 indicates the upwards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values of MOP will be considered downwards unless explicitly specified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ED87C8CA-E67E-406F-A598-AB17BE0B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46280"/>
            <a:ext cx="818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ugh need / interest to progress thi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BB781786-9236-404C-8C58-B73E5EED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05:29:50Z</dcterms:created>
  <dc:creator/>
  <dc:description/>
  <dc:language>en-US</dc:language>
  <cp:lastModifiedBy/>
  <dcterms:modified xsi:type="dcterms:W3CDTF">2011-11-09T10:58:01Z</dcterms:modified>
  <cp:revision>13</cp:revision>
  <dc:subject>RPL - ROLL</dc:subject>
  <dc:title>RPL (pronounced ripple) Routing Protocol for Low Power and Lossy Networks  IETF 81 status</dc:title>
</cp:coreProperties>
</file>