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CE64-AA6C-4B94-AABA-4C5449E0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3B52-EB5F-447B-921A-45EF40B6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7F52-0A4C-4125-A8B7-900A7F33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9B66-EA63-436D-9046-24DF1773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171A-1C2E-4E32-B3EF-5EBF1BB2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ABE-CD2C-4059-AFA1-0995DDAB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003-98C5-4261-B942-65D8F2370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651-9C07-4FE4-AAF2-25D3DD5F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F44-3BDD-4493-93DD-5A019924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006-E041-4F22-8553-BD68F7F2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C0F-2D54-46D7-8D67-7AC19716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C73-3423-40D8-A00F-422B299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39E-BA00-4850-8066-4DC66E2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5E1-D101-4C97-8D0C-29B8732C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AF1-70C2-4001-84A2-B472506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DBD-6394-4E69-8FB3-66DE3D2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D25-408D-4FBA-A720-7C5338DD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2E3-FBE0-4E30-B31E-A4749E7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2CF-3EC3-4E9B-8BC8-AE22F69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46EF915E-582F-4826-9D0F-9453F5DD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0 – Roll WG –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7A188843-71D7-44C5-B343-DA847197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887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L adap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asymmetrical lin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TF 82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2556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thubert-roll-a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0 published in Octo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s Bi-directionality but not metrics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arly discussions in the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ed by the industrial applicabilit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from PCE-computed DAG to classical RPL D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086B0577-DC72-4E79-B4DD-0BB4F5187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576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s 2 RPL instances (DAGs), “up” and “d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use bidirectiona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s” DAG optimized for metric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wards” DAG optimized for metric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can jump from “upwards” to “downwar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routing initially occurs along “upwards” DA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 match looked up on “downwards” DAG at each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und, the packet continues on the “downwards”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ascading i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nto a default spanning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FA4BBBB6-7878-47DB-9B7B-444FF64F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DAG Information Object (DIO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576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RPLInstanceID |Version Number |             Rank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G|D| MOP | Prf |     DTSN      |     Flags     |   Reserved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                        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               DODAGID  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                        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Option(s)..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C45EDAF6-B9EC-4944-8CBC-6C3E486E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"/>
          <p:cNvSpPr/>
          <p:nvPr/>
        </p:nvSpPr>
        <p:spPr>
          <a:xfrm rot="13777200">
            <a:off x="1468800" y="2891160"/>
            <a:ext cx="777960" cy="3193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 flag and MOP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576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al (D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al (D) flag is set to indicate that the instance is intended for directional operation, and reset otherwi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‘D’ is s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P of 0 indicates the upwards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values of MOP will be considered downwards unless explicitly specified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41AD1078-3EA4-446F-A66B-E26E23B1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4628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ugh need / interest to progress thi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88F377A0-77D3-4E9F-9691-8E478286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 – ROLL WG –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05:29:50Z</dcterms:created>
  <dc:creator/>
  <dc:description/>
  <dc:language>en-US</dc:language>
  <cp:lastModifiedBy/>
  <dcterms:modified xsi:type="dcterms:W3CDTF">2011-11-09T10:58:01Z</dcterms:modified>
  <cp:revision>13</cp:revision>
  <dc:subject>RPL - ROLL</dc:subject>
  <dc:title>RPL (pronounced ripple) Routing Protocol for Low Power and Lossy Networks  IETF 81 status</dc:title>
</cp:coreProperties>
</file>