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00468-5C2A-45F6-9322-317354E06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9E25-7F15-4586-84CB-4CDF971D5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26202-98F6-4974-8C63-B53197707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0EBF33-F650-46DD-9865-04BB03A39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A18E4B-40B3-416C-9825-823ED1A444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1FCD7-D884-4ED3-9C37-CA31C3FE2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4D91B3-9426-44AB-B4A5-CE41E9211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7059C-4E5E-4B44-B451-6B300C292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AAD5B-A8F5-4A31-B457-8D87F7B148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AD0675-3930-423F-BD7B-6AEC8E37F4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030186-48B5-4A32-AEF3-609F8A642F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A11D19-AA76-4EAA-A007-7558915A0C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89982-F878-4E7F-8C6F-C00C1EB1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8A5F74-9C36-4714-8DAF-E48C2ADB43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6FC465-626A-4071-B713-735482F2D3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3129CD-36CD-4B96-A8C3-8FAA44354B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3300BC-2756-4558-8453-9084190D44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E8E8D5-C32C-4AE9-8D0E-BB9525DF33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51C4DD-1A7C-4B92-A974-EBE3C235F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68385D-260C-4A16-AD61-7EA8FA10D2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FEF40C-5C9F-4CD6-BED7-542B87C3F7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5953C8-99A0-42C7-A491-52B5D9D8B3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3EC42C-3FA5-49DF-BF01-BB07928C50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19411-1B85-4276-9E01-033DFF26C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E05B38-E67C-40E8-A3EB-2245754FFC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B521B4-A4CC-4E50-BC89-060E277742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3B7E88-0BD3-43AE-A5FD-64FB82A225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B407CC-FE3D-41E9-A2F2-F996AAA3BC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AD9AB5-2E6A-411A-A26F-39D9251AE6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35FBDE-A8BE-4069-BC43-70D87DFD3E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6AAFDD-FD12-49A5-B10B-B260AB4416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67DCD9-01D1-4E8A-AABD-9FA6C19220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9D2C6E-AE6E-40FA-8E22-9D8174929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B6D772-0FB1-4D2B-8481-5612DE30FC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1E786-CA0E-4D61-B867-5F2AE0C55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AE509A-11D0-46D6-B477-C6D34DCAC5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1256D9-02B0-4CEF-8D1A-FCFB4C6072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4E0758-2D81-4978-BBEA-4A9E14C95D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81443B-140D-4F9B-8194-6B19A3D4F2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88D8EB-DEC0-4559-A483-428693E863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15D0C3-65D4-4423-84FF-E803A774B8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D0D6E1-7B34-4035-B3FD-675059B57F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93600B-41A5-4501-B637-E2F5A909B0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C2FD76-10BC-4C8E-9376-4252088F06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B3EC38-A857-4E20-9563-67BC6C9552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5B01C-33DB-402A-A3A1-97F1E5B60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C2ECB0-1E20-46F8-8CF4-F92193BE08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88753-F703-4E48-9C4D-F3FB6C2B18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F688C5-B3BE-4936-AF9C-EC48F0310C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75F0FD-CF83-4419-BFC5-2F3969DAFA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F1CDEB-297C-4DAC-B740-6CF561AE83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AF8FC-A1D8-477D-A0A3-BC21FAA61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19DCA-EFFD-49CE-9306-1952AA09E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9E6C9-D2BB-490E-B78D-DDE501CF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3ACCA-3921-454C-A3F1-6FE552166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A2BAD-65C3-444D-8ECA-A7D931A5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2653-01B4-44B5-A332-99BD69AA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ACF0B-51DF-421D-B96C-C0D111FFF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E9D67-305A-4A0D-9710-416B75D07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8BEDE-6BD9-4A97-8EAE-3872F06F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74C1F-F6F7-46FB-8D8E-155014DE0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91962-D6CA-4930-BF51-D6B741C7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C7233-CEA2-48AE-B4B9-176BDBF45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81347-12EB-463A-AC4D-C00D0A50D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C94BB-089E-43A9-9948-DB38F6DE8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5F743-3A05-4CF0-905A-C22D6B429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03114-5F90-400F-81FC-335DD97D3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898E-D534-43BE-AE7B-1DFE6B60D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04B5D-52EE-4987-A2AC-0FF1FCD8B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DC220-3261-4307-B84F-807E3DE7F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6378E-E46E-4016-A18C-BD103D739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68CB9-0893-413D-8C61-73277ACAF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AAF1E-9366-4C15-A88D-10DB2FF1E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F9467-2393-4279-9E01-E822AB11D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F7151E-74CF-42D3-8EBD-319200B87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B8AC2-EC58-4491-803E-BA8ECD893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1109F-A32C-469B-A9E3-BC0A224B0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E31DF-0940-44C0-B292-2F68D4CD6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CFFC-DADE-4702-B87D-7DD5DEDB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E0450-6A3C-456A-B5CD-71385DF8E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CD4C2-7DE7-417D-91CA-276477E90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4E1B7-3FF5-45F5-B50D-50FF8380F4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D5B16-C71B-42B6-A063-163422C2C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CD113-E4F0-4896-992F-9B59950CC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1DDD1-C359-4E10-A581-C2AD63D5B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26249-23BF-4517-85DA-9882CAD86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53BBDC-EBA1-49DF-A03D-816C1BB856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10F06B-8A12-44B6-A4C6-BC31D0C65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30B9D1-1F9C-4FB6-BA54-74F9EEE2B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7862-FBEE-498F-86FA-7FE0511FD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A9CD24-AD9E-4D25-8304-94F33EEFE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93DCE-9A8F-44E2-984E-963910520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AB465-01FA-40B0-BF3D-CBCBEA356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B1CC5-4217-43D2-A282-E5B79101E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A44141-5EB7-4E66-8338-00CDC7C88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2527A-FCAE-410D-9311-CE03CA49B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49D83-90BE-4C7F-9901-F3FA3F096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F94A4-CBCC-4241-8FF1-A8DF7A308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10A75-F8B7-42EB-BD6C-6040F6E67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CC288D-B9F2-4A5E-85A1-F792AF5F73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CAF2-1061-4AC5-A2D7-096A1DBD5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0C94C-577B-49EE-BACC-58EDAEAC6A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B2938-8DFF-4BD4-852A-C17B855D03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37422-7073-4148-B1EE-7ADF4AB0BF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7CA5C5-56DF-43C7-B0B8-5F1FC6AE1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05B1C-34A4-4B54-98A2-FD79D0F59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F364C-EB29-4A15-9C32-81B648C41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848FC-9233-4E13-A67C-17C1A6E002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C8D72-B0F1-4141-8F7F-57A7F0FC1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58F852-A742-4D95-89A3-2E942B6EC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11DF0-5A4B-45A8-A1D6-243FD3F89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AA73-CC6C-4661-A5E6-7080B2B3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B53F6-8AE3-439F-8405-92A6C3B71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4C82E4-55F3-407D-9E6E-43A60D7EB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13E7F8-31F6-4712-AE32-07D3CE5C3E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AE5656-29BF-4DAF-A4DC-D9B6D1FBA5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EA029-624D-465B-8678-D24100B733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D75FC-0683-4F7B-8707-6F7790E486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2E062-55AF-4205-8514-64FEAB7AA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9C6971-849F-4D4C-9B13-1C13AB89F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0EFEF-7AD8-4A5F-83C7-19375F697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92A67-2587-4127-8E96-158D11E0C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DD0AF-F93C-4BEB-86C1-84E219F5E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0589A-CC9D-4E48-9F8F-4094DB947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E6BBF-BC3F-4737-8B77-7580FD69B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62081-9A12-42F3-8EDC-58DCC8602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8C2857-3C02-4D12-9CD1-D21BBF9FDB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8805AD-593E-4322-A1CD-A37E3B2C33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2E75DD-1B12-475A-86CE-B4CF1EFAD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6B52E-C177-4702-A6B7-0D7299DE55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6FA1B-88CB-46F9-A819-D9FE0EEEB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AD9FE-8308-4D5D-94D0-20784595A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0A0D7C-AF74-4710-961A-F7B13A7C8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067E-D6FA-4BC9-A30E-37869AAC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B1B53-6030-45EC-9081-AA2480817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307D5-5CE9-423E-A9E6-37A3F86F3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6FC38-99DF-449F-9869-EB0A0C760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F4AEE-04F2-4933-A06A-B95A10D6F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90100-9BEF-4914-813D-C4AEC20AD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24727C-A021-467E-B76D-72492465F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6583F-BEEE-41A5-9620-225C5B7E24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4D7F86-6EFD-4CEC-8FA1-1DC72585C7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6F66E9-938F-4858-B6A2-8297CB3CEA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A0FA12-EE64-4B30-A8F2-F118224728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92E6E030-F2A6-40B8-ACB9-1DD4FCA9A1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A836-7B85-44A5-A440-7BF3F5AC53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E09A-2D67-4C6D-A2EA-6C14772470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0BC3-E589-4CD2-8217-1F329A0629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438E-9250-44BA-A2CF-F6CC52C72F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5183-5900-466E-81F1-4D52179071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2AA1-F24D-41D5-B547-F86091985D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EF15-D769-43A5-AD58-CA88C7BF62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519F-3DC0-405A-86CA-7868E46538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D908-C53C-4FDB-B1F6-08153FFD2B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98D9-093E-4155-92A4-D26C0824B6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55CE-EA0F-40E3-B8B0-9FB0DDEF55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9E59-A3E2-4296-8A08-F94B150184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BE56-B664-4B83-85E8-C767C1F4A5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62FB-5FB4-4599-913A-9F7AFFAD58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r>
              <a:rPr b="0" lang="en-GB" sz="4000" spc="-1" strike="noStrike">
                <a:solidFill>
                  <a:srgbClr val="000000"/>
                </a:solidFill>
                <a:latin typeface="Arial"/>
              </a:rPr>
              <a:t>Taipei, November 2011</a:t>
            </a:r>
            <a:endParaRPr b="0" lang="en-US" sz="4000" spc="-1" strike="noStrike">
              <a:solidFill>
                <a:srgbClr val="000000"/>
              </a:solidFill>
              <a:latin typeface="Arial"/>
            </a:endParaRPr>
          </a:p>
        </p:txBody>
      </p:sp>
      <p:sp>
        <p:nvSpPr>
          <p:cNvPr id="493" name="PlaceHolder 2"/>
          <p:cNvSpPr>
            <a:spLocks noGrp="1"/>
          </p:cNvSpPr>
          <p:nvPr>
            <p:ph type="subTitle"/>
          </p:nvPr>
        </p:nvSpPr>
        <p:spPr>
          <a:xfrm>
            <a:off x="611280" y="3886200"/>
            <a:ext cx="813744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95"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97"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499"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iv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Routing Directorate Progr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to stochastic routing (Dimitr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Discussion / Any Othe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1"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p:txBody>
      </p:sp>
      <p:sp>
        <p:nvSpPr>
          <p:cNvPr id="502" name="Rectangle 4"/>
          <p:cNvSpPr/>
          <p:nvPr/>
        </p:nvSpPr>
        <p:spPr>
          <a:xfrm>
            <a:off x="4788000" y="113508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N B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uting Directorate</a:t>
            </a:r>
            <a:endParaRPr b="0" lang="en-US" sz="4400" spc="-1" strike="noStrike">
              <a:solidFill>
                <a:srgbClr val="000000"/>
              </a:solidFill>
              <a:latin typeface="Arial"/>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ormed March 20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members March 20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bers and char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ietf.org/iesg/directorate/routing.ht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g Thanks from the A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so thanks to Deborah Brungard and Dan Li, our ad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outing Directorate – Some Statistics</a:t>
            </a:r>
            <a:endParaRPr b="0" lang="en-US" sz="3600" spc="-1" strike="noStrike">
              <a:solidFill>
                <a:srgbClr val="000000"/>
              </a:solidFill>
              <a:latin typeface="Arial"/>
            </a:endParaRPr>
          </a:p>
        </p:txBody>
      </p:sp>
      <p:pic>
        <p:nvPicPr>
          <p:cNvPr id="50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chastic Routing</a:t>
            </a:r>
            <a:endParaRPr b="0" lang="en-US" sz="4400" spc="-1" strike="noStrike">
              <a:solidFill>
                <a:srgbClr val="000000"/>
              </a:solidFill>
              <a:latin typeface="Arial"/>
            </a:endParaRPr>
          </a:p>
        </p:txBody>
      </p:sp>
      <p:pic>
        <p:nvPicPr>
          <p:cNvPr id="50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OB</a:t>
            </a:r>
            <a:endParaRPr b="0" lang="en-US" sz="4400" spc="-1" strike="noStrike">
              <a:solidFill>
                <a:srgbClr val="000000"/>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ing at other lay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ion in Pa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1-11-13T05:23:22Z</dcterms:modified>
  <cp:revision>63</cp:revision>
  <dc:subject/>
  <dc:title>RoutingAreaOpenMeeting</dc:title>
</cp:coreProperties>
</file>