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A40DE-3963-44D5-85A6-7EF8B8E7C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F789-DFC2-49F5-9956-2EA45B691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D50C0A-77DE-4544-8B69-7A8427FA0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11C91-C6C4-4557-8084-9C6399E60E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C7C980-BE46-4316-8F95-3283C4184A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85887-6FE6-4A96-BBCD-99CB86B3F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0F0E8-9F61-4725-B64C-05A92F846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F3BBB-69A8-4DE4-85D5-3793BAC138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F10977-C8FD-49DB-A13B-91705E8E03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126BC6-36B4-452E-98A6-4493F7292E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3938EB-9D6F-4828-A54D-A2E7DE2293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443BC1-F03E-451A-8578-A1DCE57E6F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0509E-8EB3-40AA-B784-E11E00BBE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59ABB8-C959-42E5-AD61-354A298139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DCFDBD-8F24-4188-AF2B-854D0A1EE3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05EBEC-0D4B-48BE-8C6C-F507375090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CB9D6F-F305-4622-A997-F0EAE5C1FD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10CB80-3EE4-4528-8280-5915BD67D7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649314-8E4E-4B1E-BCE0-3889D0F154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F1E91F-6DEA-40FD-99AD-DD217A3D00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266FA4-9C48-416C-B5F0-80FBBAA422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D33E0A-B057-43AD-97E3-A1774C0209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C13674-43D6-4E1A-A31B-304370D66B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A9BA3-CD1B-4899-944C-47300843C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AE72A3-8C83-426C-B83B-3E4F86E7A7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FBB102-3350-47D8-8BEB-89E8E246A2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724014-8CB7-42A2-BF15-BC70B820E1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4E2FDA-C48C-4C20-849E-48CD060196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2D2844-F714-46FF-A52A-0E3487F8EA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D5B913-6316-4DB2-9716-4B2B53449E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A46DD1-FBD8-4596-B51B-701060FC4B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A6E375-3ED7-44A9-BB82-B726A07AED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3AAE1C-5A59-4EE7-8301-8775D9138D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710DD8-1D74-4868-9E25-DD0963D230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A7E67-85D2-4575-BA7D-4BD9DB548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F15377-4A6B-4EA2-AB5D-A5D484F810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827A00-E0D1-4D7D-9D28-9E1CF3C661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C4C8E1-4188-4839-BFAD-E64D4FC8B0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3EA718-9211-4F01-86E9-F9E4C919DE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C9516B-30C8-49CC-BEFF-278ACF6178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99E434-822F-4673-AA38-AC3AD19525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B39CDF-C5CF-4EE3-961D-187411D02D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207045-CFFF-4EC5-908B-E950B77C63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80E18E-AD8B-4839-BFF8-8B45EED19B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9728B5-6509-43D7-B56D-F1F231FB27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1B59C-64FD-47C4-8635-BD9358AED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C7385F-5AE4-45E5-BD52-639C2A6694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805FA7-9A74-45C3-9F07-C3053122BC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7986D3-FE2D-4FCA-8F90-EDDDB371F5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919FDC-A912-49F4-9B96-F24E947C79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27390A-F6EA-4476-8833-1828A77164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6A026-D876-44EB-ACB6-F299B3B41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42A34-49E2-4871-870F-E47A742C6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88CD6-0B13-43C4-A894-52D975498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6F000-ADE6-4F30-A728-656D1F685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F91BC-770C-4A9B-97E1-8A4882F28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7531F-EF9A-4392-8044-A02038A71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20871-26D0-44B5-97E2-FBA69E59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6B371-D846-4072-A72D-6D2B063C3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46BBE-9DEA-43CF-A8FC-CFC8C8642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A9049-7FD9-4C84-80C9-9CEE3F3C3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19860-8F81-46F9-BFBC-C7109225C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72507-7641-4993-9297-EFD04957C9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B47B5C-6C1E-4859-ACD9-33F230255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850BA-FB6F-4063-B2D3-6E9A077C0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C36B8-431E-401B-892F-224FEB27F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35021-E666-40F9-96DD-03CC0757FB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F20A-012F-4D59-BB69-8319EB28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42BA8-65BD-48B2-9A7F-A60BCDE78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7C359-2A5E-43DC-B981-F96BD6694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F4F83-EC44-4213-89C7-43FE780C7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C2B03-573D-4F0F-8473-9EF9ABD21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718C9-D0A4-4F50-8F08-FA9A19945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FADAD5-DA65-4AF3-9776-342FFC13BD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5C855-70CD-4D35-945F-BA886CB4C0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FF749D-D51F-47C8-8333-91F65D8AD2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CF75DF-EE76-48AF-BF42-03F9ED9D6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51BC0-911F-40EB-97C1-B5564709B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E70E9-52B4-4991-B0FB-8263D3AD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0E4F69-D91A-40FD-9B8E-1809E4DC5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52C38-2063-4635-880D-3472D91BF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C8BE0-0E96-441F-A067-D58305F63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84C11-5B9A-491E-AA18-53408FAD3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18A95-BDF8-414A-8C8F-6B029DE33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1FEC4-0246-495A-AD22-B4E222BD4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8107A-47EB-443B-8B24-128661E26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7B0CDB-3265-4316-9BF8-4DE8A4D82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40BEF1-269E-44CA-8EC7-11DDB8BCEB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691C4B-E684-4220-931F-6C867A1093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B0201-E061-446F-A8CC-E633EAF2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EB16F-D917-4B8A-BDB8-03B9340110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715D7-D93F-4E5C-A2AF-152C55E9A3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E409B-B56E-456D-8843-96518D8C4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D2AE3-27F2-4B79-9F3B-C651072F4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0FB766-0951-49E3-8733-E0D5B62F2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905FF-1E99-4CE5-8CFB-F6EC56661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58DBA-BEE0-419A-A5C0-D3C89BF00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0F037-409F-43C0-9EEA-699A08D75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82628-027B-49C9-9F88-4B1E92CEE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1F3FB1-D532-4825-AAD5-EBA4D7F5B6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62A0D-E50C-44F1-8103-64171008F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2804A0-6F2A-4E7E-BA25-D68BF8E439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17DEE9-C37B-4EA8-A794-C7C8C5D767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456385-DE2A-43D6-9526-A5C0FC4D8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D7D8F-02F6-4AB8-95B2-A5377C3BA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F002B-BDEC-48B4-9F27-35F965A8E2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FBDE9-B8A8-46E3-9511-7842FBA10D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E4F491-9833-4393-BC97-A3F2881DB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2BF83-8E58-4503-BC4B-87958326B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994B9-250D-44BB-9CBF-0F26759F5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46B0B-2265-42CD-A3E2-AC5F08EEB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9A29C-09F3-4270-8D72-8A1252E3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662129-CD47-4D73-8856-9119A89B3A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B84DF-E4A0-4FCC-ACC0-994D6B1680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76B4EC-FB9B-49BE-A22C-E2892DC281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E191B0-69B8-40AA-B4FF-08B5D87FE5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BE588-DDB3-41B8-B698-50B8E4BEC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1B5AD-7A95-4B04-9620-F45DC1980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9C92F-861A-4C7B-A76E-3A116FB81F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BF1BDB-DFA1-4607-A5C7-9ACB5B9CD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600A4-B4D8-4BFD-834A-37D6893D62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98B2C-E1DE-48D5-AA8C-B0E0426D1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7A4C-0158-4E1B-A6A5-4DB5F370F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EC3620-1FA3-4BA7-A5E6-899D08DC7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EA58F-BD9E-4A7F-9621-8A8CFD273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64CC05-B064-463B-A9C5-BA53B91BD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A01D82-9CC5-4736-A621-EA04DB0559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7E8E57-2259-4D2D-AF0A-3D6F2EC18C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FBBAC6-1E17-4577-8FDC-9B7547BFFA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4FA85-2FCE-4D7E-92CA-C2A26AA914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F64440-4193-4CFE-BEDE-041079983F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FF28B4-8305-47B3-8F39-BF5BE736F8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7957A-3303-4027-AEA8-A8E6E1078A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0DFA5-5613-4D6C-A5BE-CAE30961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BEFAA3-1423-4F60-B177-C79670387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22EDD-1615-4CE2-8CA7-E3204FAC0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885706-352C-47BD-8932-5F7438B73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02D5C5-2D08-40B0-A095-D04B56D116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52FC6-D0BF-40A5-BACB-17174DB879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564E70-4F54-4F6C-927D-B9945BA14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F5B6B3-550A-4236-BD4F-F1D3BB6DD2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1F2D2C-CEE0-4A37-8333-885B4B03FE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28E33C-A645-48B7-BB90-9DBFC7789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E49470-E24F-46EA-9ABA-E052E7C1C7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A72BAFF7-A7D9-4034-9BAD-076AD5CA44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2803-67BE-4E33-81F8-9170635218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E754-3DA5-4AD0-A026-5EF61137C3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7A45-07C0-4F4E-B1D2-C0E4C3DE63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86A5-CDD7-404F-8D13-B0176C3B23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635A-7105-4D2C-99AA-5B790BF74B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8D71-85DA-4386-9097-FB9D110AE5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27F1-28A9-4B05-8666-8C607E76C5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7EDE-D867-4BE3-89BC-248EA2BFBB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02F4-EFD9-4638-B4EB-17DE283F8C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B7CF-D61C-4CAC-B632-F7F5F61063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E917-57EE-43A2-A09B-051B54202F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0A68-5340-4DC8-8FB3-938593CAF3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FDEC-8E94-43A0-A8C2-AAFAFCF928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5C77-F618-4047-A7FA-F05C4AD072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outing Area Open Meeting</a:t>
            </a:r>
            <a:br>
              <a:rPr sz="4000"/>
            </a:br>
            <a:r>
              <a:rPr b="0" lang="en-GB" sz="4000" spc="-1" strike="noStrike">
                <a:solidFill>
                  <a:srgbClr val="000000"/>
                </a:solidFill>
                <a:latin typeface="Arial"/>
              </a:rPr>
              <a:t>Taipei, November 2011</a:t>
            </a:r>
            <a:endParaRPr b="0" lang="en-US" sz="4000" spc="-1" strike="noStrike">
              <a:solidFill>
                <a:srgbClr val="000000"/>
              </a:solidFill>
              <a:latin typeface="Arial"/>
            </a:endParaRPr>
          </a:p>
        </p:txBody>
      </p:sp>
      <p:sp>
        <p:nvSpPr>
          <p:cNvPr id="493" name="PlaceHolder 2"/>
          <p:cNvSpPr>
            <a:spLocks noGrp="1"/>
          </p:cNvSpPr>
          <p:nvPr>
            <p:ph type="subTitle"/>
          </p:nvPr>
        </p:nvSpPr>
        <p:spPr>
          <a:xfrm>
            <a:off x="611280" y="3886200"/>
            <a:ext cx="813744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 Director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rian Farrel &lt;adrian@olddog.co.uk&g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wart Bryant &lt;stbryant@cisco.com&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5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te Well</a:t>
            </a:r>
            <a:endParaRPr b="0" lang="en-US" sz="4000" spc="-1" strike="noStrike">
              <a:solidFill>
                <a:srgbClr val="000000"/>
              </a:solidFill>
              <a:latin typeface="Arial"/>
            </a:endParaRPr>
          </a:p>
        </p:txBody>
      </p:sp>
      <p:sp>
        <p:nvSpPr>
          <p:cNvPr id="495"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TF plenary sess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ESG, or any member thereof on behalf of the IESG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mailing list, including the IETF list itself, any working group or design team list, or any other list functioning under IETF auspic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IETF working group or portion thereof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B or any member thereof on behalf of the IAB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FC Editor or the Internet-Drafts func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ETF Contributions are subject to the rules of RFC 5378 and RFC 3979 (updated by RFC 487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ease consult RFC 5378 and RFC 3979 for detai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is deemed to accept all IETF rules of process, as documented in Best Current Practices RFCs and IESG Stat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articipant in any IETF activity acknowledges that written, audio and video records of meetings may be made and may be available to the publi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Also…</a:t>
            </a:r>
            <a:endParaRPr b="0" lang="en-US" sz="4400" spc="-1" strike="noStrike">
              <a:solidFill>
                <a:srgbClr val="000000"/>
              </a:solidFill>
              <a:latin typeface="Arial"/>
            </a:endParaRPr>
          </a:p>
        </p:txBody>
      </p:sp>
      <p:sp>
        <p:nvSpPr>
          <p:cNvPr id="497"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tate your name clearly before speaking at the microph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o streams and jabber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ools.ietf.org/agenda/8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eting at rtgarea@jabber.ietf.or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mailing l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ing-discussion@ietf.or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ting Area wik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trac.tools.ietf.org/area/rtg/trac/wiki/WikiSta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 She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15920"/>
            <a:ext cx="82296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day’s Agenda</a:t>
            </a:r>
            <a:endParaRPr b="0" lang="en-US" sz="4400" spc="-1" strike="noStrike">
              <a:solidFill>
                <a:srgbClr val="000000"/>
              </a:solidFill>
              <a:latin typeface="Arial"/>
            </a:endParaRPr>
          </a:p>
        </p:txBody>
      </p:sp>
      <p:sp>
        <p:nvSpPr>
          <p:cNvPr id="499" name="PlaceHolder 2"/>
          <p:cNvSpPr>
            <a:spLocks noGrp="1"/>
          </p:cNvSpPr>
          <p:nvPr>
            <p:ph/>
          </p:nvPr>
        </p:nvSpPr>
        <p:spPr>
          <a:xfrm>
            <a:off x="250920" y="981000"/>
            <a:ext cx="86421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ministrivi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ing Group Repo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Routing Directorate Progr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to stochastic routing (Dimitr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Discussion / Any Other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Group Reports</a:t>
            </a:r>
            <a:endParaRPr b="0" lang="en-US" sz="4400" spc="-1" strike="noStrike">
              <a:solidFill>
                <a:srgbClr val="000000"/>
              </a:solidFill>
              <a:latin typeface="Arial"/>
            </a:endParaRPr>
          </a:p>
        </p:txBody>
      </p:sp>
      <p:sp>
        <p:nvSpPr>
          <p:cNvPr id="501" name="PlaceHolder 2"/>
          <p:cNvSpPr>
            <a:spLocks noGrp="1"/>
          </p:cNvSpPr>
          <p:nvPr>
            <p:ph/>
          </p:nvPr>
        </p:nvSpPr>
        <p:spPr>
          <a:xfrm>
            <a:off x="457200" y="981000"/>
            <a:ext cx="3898800" cy="4525920"/>
          </a:xfrm>
          <a:prstGeom prst="rect">
            <a:avLst/>
          </a:prstGeom>
          <a:noFill/>
          <a:ln w="0">
            <a:noFill/>
          </a:ln>
        </p:spPr>
        <p:txBody>
          <a:bodyPr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D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AMP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R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P</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VPN</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3VPN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T </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LS</a:t>
            </a:r>
            <a:endParaRPr b="0" lang="en-US" sz="3200" spc="-1" strike="noStrike">
              <a:solidFill>
                <a:srgbClr val="000000"/>
              </a:solidFill>
              <a:latin typeface="Arial"/>
            </a:endParaRPr>
          </a:p>
        </p:txBody>
      </p:sp>
      <p:sp>
        <p:nvSpPr>
          <p:cNvPr id="502" name="Rectangle 4"/>
          <p:cNvSpPr/>
          <p:nvPr/>
        </p:nvSpPr>
        <p:spPr>
          <a:xfrm>
            <a:off x="4788000" y="1135080"/>
            <a:ext cx="3609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P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E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GW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N B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uting Directorate</a:t>
            </a:r>
            <a:endParaRPr b="0" lang="en-US" sz="4400" spc="-1" strike="noStrike">
              <a:solidFill>
                <a:srgbClr val="000000"/>
              </a:solidFill>
              <a:latin typeface="Arial"/>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ormed March 20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members March 20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bers and char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ietf.org/iesg/directorate/routing.ht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g Thanks from the A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so thanks to Deborah Brungard and Dan Li, our adm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outing Directorate – Some Statistics</a:t>
            </a:r>
            <a:endParaRPr b="0" lang="en-US" sz="3600" spc="-1" strike="noStrike">
              <a:solidFill>
                <a:srgbClr val="000000"/>
              </a:solidFill>
              <a:latin typeface="Arial"/>
            </a:endParaRPr>
          </a:p>
        </p:txBody>
      </p:sp>
      <p:pic>
        <p:nvPicPr>
          <p:cNvPr id="50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chastic Routing</a:t>
            </a:r>
            <a:endParaRPr b="0" lang="en-US" sz="4400" spc="-1" strike="noStrike">
              <a:solidFill>
                <a:srgbClr val="000000"/>
              </a:solidFill>
              <a:latin typeface="Arial"/>
            </a:endParaRPr>
          </a:p>
        </p:txBody>
      </p:sp>
      <p:pic>
        <p:nvPicPr>
          <p:cNvPr id="50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OB</a:t>
            </a:r>
            <a:endParaRPr b="0" lang="en-US" sz="4400" spc="-1" strike="noStrike">
              <a:solidFill>
                <a:srgbClr val="000000"/>
              </a:solidFill>
              <a:latin typeface="Arial"/>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ing at other lay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ion in Par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00:00Z</dcterms:created>
  <dc:creator>Adrian Farrel</dc:creator>
  <dc:description/>
  <dc:language>en-US</dc:language>
  <cp:lastModifiedBy>Adrian Farrel</cp:lastModifiedBy>
  <dcterms:modified xsi:type="dcterms:W3CDTF">2011-11-13T05:23:22Z</dcterms:modified>
  <cp:revision>63</cp:revision>
  <dc:subject/>
  <dc:title>RoutingAreaOpenMeeting</dc:title>
</cp:coreProperties>
</file>