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CCA-707C-4F77-830A-63FFC0E7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85D1-19DD-4253-BCEC-7623418D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A45-16CF-41E9-9975-98761F06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9D3-17E8-4863-9659-F71E1832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826-9C47-4F2D-8059-8EAB5971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A3C-3D99-4459-9C84-666D5EE6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99D-B142-45A8-9B2C-5DD5E34F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2F6-3C50-44F0-B785-20E7FF87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359-9C6D-456F-8332-BB2310D7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E68-E36A-4800-96C5-F834CD1E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7C2-F17C-4CE5-9DA6-BF43BAC6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431-4DC5-4043-B262-31B69639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B83B-D522-4915-891B-FD6CEE2FC1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dage" TargetMode="External"/><Relationship Id="rId2" Type="http://schemas.openxmlformats.org/officeDocument/2006/relationships/hyperlink" Target="http://en.wikipedia.org/wiki/Computer" TargetMode="External"/><Relationship Id="rId3" Type="http://schemas.openxmlformats.org/officeDocument/2006/relationships/hyperlink" Target="http://en.wikipedia.org/wiki/Programmer" TargetMode="External"/><Relationship Id="rId4" Type="http://schemas.openxmlformats.org/officeDocument/2006/relationships/hyperlink" Target="http://en.wikipedia.org/wiki/Melvin_Conway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ochastic Ro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 Area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82 (Taipe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.15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way's 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d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med after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pu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ogram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elvin Con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o introduced the idea in 196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...organizations which design systems ... are constrained to produce designs which are copies of the communication structures of these organization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078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ology modeled as grap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 = (V,E,A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vertices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dg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set of attributes associated to each ed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.g., residual capacit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dela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los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s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), ... ,(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rc-dst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ociated to each pai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emand with known non-negative valu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siz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uting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for each unrouted dem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routing path from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it that maximizes the value of these demands without violating edg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ptive routing: routing decisions depend on the instantiated sizes of the previously routed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hastic Ro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ochastic routing probl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which one or several of the parameters are not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mands si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stochastic: probability distribution is specified for the demand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move between nodes are random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Simultaneous) failur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randomly distributed according to time and spac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Challenge: routing information and decision-ma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in any other stochastic problem, a key issue is: "How do the revelation of information on the uncertain parameters and decision-making (optimization) interact 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do values taken by the uncertain parameters become know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hanges can each router (must each router) make on prior-routing decisions on basis of newly obtained informa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&gt; How to make correct local dec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router must know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meth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global state (inherently large, dynamic, and costly to coll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routing protocol must intelligently summarize releva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ing Paradigms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-time optimization (re-optim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ption: information is revealed over time as traffic follow their assigned routes/paths (also referred to as dynamic stochastic rou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: routes are created piece by piece on the basis of the information currently available (at each n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: dynamic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ing Paradigm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iori optim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olution must be determined beforeh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solution is “confronted” to the realization of the stochastic parameters in a second st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ce-constrained programm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relies on the introduction of probabilistic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{total demand assigned to route r ≤ capacity } ≥ 1-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Two-stage) stochastic programming with re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obust optimiz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ncertainty is represented by an uncertain parameter vector that must belong to a given polyhedral set (without any probability defined) together with, e.g., lower/upper bound for each demand and upper bound on total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 hoc”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-based Stochastic Adaptive Ro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inforcement learning (RL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 what to do--how to map situations (deduced from feedback from the environment) to actions--so as to maximize a numerical reward signa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er is not told which actions to take, it must discover which actions yield the most reward by trying them (note: actions may affect not only the immediate reward but also the next situation and, through that, all subsequent rewa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ial-and-error 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rn from interactions: obtain examples of desired behavior that are both correct and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e-off between exploration and exploi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ed r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-based Stochastic Adaptive Ro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uting probl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multi-agent R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 rou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earning) agent which adapts its routing decisions according to rewards/penalty base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bal parame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local parameters (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parameters (determined by local observation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5516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5373720"/>
            <a:ext cx="36036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03280" y="4365720"/>
            <a:ext cx="647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45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638172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6165720"/>
            <a:ext cx="36036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157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6014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5516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4360" y="5373720"/>
            <a:ext cx="36036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308720" y="57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4292640"/>
            <a:ext cx="36036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450864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5373720"/>
            <a:ext cx="36036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00000" y="6453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465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6237360"/>
            <a:ext cx="36036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0920" y="450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5516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393372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ward/pena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47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4286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54920" y="5294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9200" y="4505400"/>
            <a:ext cx="4475160" cy="1011240"/>
          </a:xfrm>
          <a:custGeom>
            <a:avLst/>
            <a:gdLst/>
            <a:ahLst/>
            <a:rect l="l" t="t" r="r" b="b"/>
            <a:pathLst>
              <a:path w="2819" h="637">
                <a:moveTo>
                  <a:pt x="0" y="0"/>
                </a:moveTo>
                <a:lnTo>
                  <a:pt x="914" y="2"/>
                </a:lnTo>
                <a:lnTo>
                  <a:pt x="914" y="637"/>
                </a:lnTo>
                <a:lnTo>
                  <a:pt x="2819" y="637"/>
                </a:lnTo>
              </a:path>
            </a:pathLst>
          </a:custGeom>
          <a:noFill/>
          <a:ln w="507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4508640"/>
            <a:ext cx="4608360" cy="1873080"/>
          </a:xfrm>
          <a:custGeom>
            <a:avLst/>
            <a:gdLst/>
            <a:ahLst/>
            <a:rect l="l" t="t" r="r" b="b"/>
            <a:pathLst>
              <a:path w="2903" h="1180">
                <a:moveTo>
                  <a:pt x="0" y="0"/>
                </a:moveTo>
                <a:lnTo>
                  <a:pt x="907" y="0"/>
                </a:lnTo>
                <a:lnTo>
                  <a:pt x="907" y="1180"/>
                </a:lnTo>
                <a:lnTo>
                  <a:pt x="2903" y="1180"/>
                </a:lnTo>
                <a:lnTo>
                  <a:pt x="2903" y="772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4508640"/>
            <a:ext cx="4680000" cy="1944720"/>
          </a:xfrm>
          <a:custGeom>
            <a:avLst/>
            <a:gdLst/>
            <a:ahLst/>
            <a:rect l="l" t="t" r="r" b="b"/>
            <a:pathLst>
              <a:path w="2948" h="1225">
                <a:moveTo>
                  <a:pt x="0" y="0"/>
                </a:moveTo>
                <a:lnTo>
                  <a:pt x="0" y="1225"/>
                </a:lnTo>
                <a:lnTo>
                  <a:pt x="2948" y="1225"/>
                </a:lnTo>
                <a:lnTo>
                  <a:pt x="2948" y="772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32000" y="4761000"/>
            <a:ext cx="936360" cy="2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ing Spac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84360" y="1073160"/>
            <a:ext cx="0" cy="451656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5589720"/>
            <a:ext cx="7920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566100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stance/Path or Topology              (and associated attrib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88000" y="568152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tection-Identification-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7080" y="56815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ules-Decision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400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6400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5164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3892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6000" y="568152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arameters (and ext.attributes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88952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337644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9368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5226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at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6360" y="3016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ll/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764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stributed files/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476360" y="48891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33764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8895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1989000"/>
            <a:ext cx="0" cy="347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48164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33051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4437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olas"/>
              </a:rPr>
              <a:t>IGP/B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30099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olas"/>
              </a:rPr>
              <a:t>RS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8360" y="46004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0720" y="107316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Routed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4360" y="517032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Routing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600440"/>
            <a:ext cx="863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4600440"/>
            <a:ext cx="863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84000" y="191628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184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155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olas"/>
              </a:rPr>
              <a:t>D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8:59:26Z</dcterms:created>
  <dc:creator>papadimitriou dimitri</dc:creator>
  <dc:description/>
  <dc:language>en-US</dc:language>
  <cp:lastModifiedBy>papadimitriou dimitri</cp:lastModifiedBy>
  <dcterms:modified xsi:type="dcterms:W3CDTF">2011-11-15T07:25:38Z</dcterms:modified>
  <cp:revision>9</cp:revision>
  <dc:subject/>
  <dc:title>Slide 1</dc:title>
</cp:coreProperties>
</file>