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9E94-C433-4CBA-92D1-1919C3308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155D-D5D1-4D38-BDBD-C2AC28BF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2A3A-EB99-44E0-A8D2-DD34EAE39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CC08-130C-4103-BF9F-2243FDBA6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E05E-B53B-4CA1-9394-35307006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FAF0-349C-4465-9CE1-66E103ED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0E1C-B931-489C-9AFC-953CE927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DC6A-D599-491E-AC08-7874BCD6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C062-BB93-4B45-9754-40291DAD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732B-8E92-42F7-8909-AB4FE30C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D661-4650-4E9B-900A-24F3D964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857E-F09C-4199-B97D-C2C01DA0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7205-BC18-4FF0-A1B8-669C968597D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dage" TargetMode="External"/><Relationship Id="rId2" Type="http://schemas.openxmlformats.org/officeDocument/2006/relationships/hyperlink" Target="http://en.wikipedia.org/wiki/Computer" TargetMode="External"/><Relationship Id="rId3" Type="http://schemas.openxmlformats.org/officeDocument/2006/relationships/hyperlink" Target="http://en.wikipedia.org/wiki/Programmer" TargetMode="External"/><Relationship Id="rId4" Type="http://schemas.openxmlformats.org/officeDocument/2006/relationships/hyperlink" Target="http://en.wikipedia.org/wiki/Melvin_Conway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ochastic Rout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ing Area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F 82 (Taipe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.15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way's L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d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med after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mpu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rogramm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Melvin Conw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o introduced the idea in 196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...organizations which design systems ... are constrained to produce designs which are copies of the communication structures of these organizations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0788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pology modeled as grap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 = (V,E,A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vertices 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edg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set of attributes associated to each edg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e.g., residual capacit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dela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los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se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(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,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), ... ,(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,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rc-dst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ociated to each pai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(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,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emand with known non-negative valu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siz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uting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 for each unrouted dem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(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,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 routing path from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 it that maximizes the value of these demands without violating edge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aptive routing: routing decisions depend on the instantiated sizes of the previously routed de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chastic Rou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ochastic routing proble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which one or several of the parameters are not determin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mands siz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stochastic: probability distribution is specified for the demand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l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move between nodes are random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Simultaneous) failur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randomly distributed according to time and spac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 Challenge: routing information and decision-mak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7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in any other stochastic problem, a key issue is: "How do the revelation of information on the uncertain parameters and decision-making (optimization) interact ?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do values taken by the uncertain parameters become know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changes can each router (must each router) make on prior-routing decisions on basis of newly obtained informatio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&gt; How to make correct local decis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ch router must know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ometh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bout global state (inherently large, dynamic, and costly to coll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routing protocol must intelligently summarize relevan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ing Paradigms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l-time optimization (re-optimiz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ption: information is revealed over time as traffic follow their assigned routes/paths (also referred to as dynamic stochastic rou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tion: routes are created piece by piece on the basis of the information currently available (at each n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ach: dynamic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ing Paradigms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iori optim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olution must be determined beforeh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solution is “confronted” to the realization of the stochastic parameters in a second ste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nce-constrained programm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relies on the introduction of probabilistic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{total demand assigned to route r ≤ capacity } ≥ 1-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Two-stage) stochastic programming with re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obust optimiz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uncertainty is represented by an uncertain parameter vector that must belong to a given polyhedral set (without any probability defined) together with, e.g., lower/upper bound for each demand and upper bound on total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 hoc” appro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rning-based Stochastic Adaptive Rou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inforcement learning (RL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rn what to do--how to map situations (deduced from feedback from the environment) to actions--so as to maximize a numerical reward signal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rner is not told which actions to take, it must discover which actions yield the most reward by trying them (note: actions may affect not only the immediate reward but also the next situation and, through that, all subsequent rewar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ial-and-error sear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arn from interactions: obtain examples of desired behavior that are both correct and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de-off between exploration and exploi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layed re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rning-based Stochastic Adaptive Rou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uting proble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multi-agent RL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vidual rout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learning) agent which adapts its routing decisions according to rewards/penalty based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lobal paramet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-local parameters (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l parameters (determined by local observation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84720" y="551664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80000" y="5373720"/>
            <a:ext cx="360360" cy="360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203280" y="4365720"/>
            <a:ext cx="647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6360" y="4508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40360" y="6381720"/>
            <a:ext cx="31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80000" y="6165720"/>
            <a:ext cx="360360" cy="360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5157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60148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40360" y="5516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64360" y="5373720"/>
            <a:ext cx="360360" cy="360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308720" y="5733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56000" y="4292640"/>
            <a:ext cx="360360" cy="360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4508640"/>
            <a:ext cx="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24360" y="5373720"/>
            <a:ext cx="360360" cy="360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700000" y="6453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00360" y="465300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56000" y="6237360"/>
            <a:ext cx="360360" cy="360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0920" y="4508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24720" y="5516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59280" y="3933720"/>
            <a:ext cx="20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ward/penal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2360" y="4797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19280" y="4286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954920" y="5294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89200" y="4505400"/>
            <a:ext cx="4475160" cy="1011240"/>
          </a:xfrm>
          <a:custGeom>
            <a:avLst/>
            <a:gdLst/>
            <a:ahLst/>
            <a:rect l="l" t="t" r="r" b="b"/>
            <a:pathLst>
              <a:path w="2819" h="637">
                <a:moveTo>
                  <a:pt x="0" y="0"/>
                </a:moveTo>
                <a:lnTo>
                  <a:pt x="914" y="2"/>
                </a:lnTo>
                <a:lnTo>
                  <a:pt x="914" y="637"/>
                </a:lnTo>
                <a:lnTo>
                  <a:pt x="2819" y="637"/>
                </a:lnTo>
              </a:path>
            </a:pathLst>
          </a:custGeom>
          <a:noFill/>
          <a:ln w="507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00360" y="4508640"/>
            <a:ext cx="4608360" cy="1873080"/>
          </a:xfrm>
          <a:custGeom>
            <a:avLst/>
            <a:gdLst/>
            <a:ahLst/>
            <a:rect l="l" t="t" r="r" b="b"/>
            <a:pathLst>
              <a:path w="2903" h="1180">
                <a:moveTo>
                  <a:pt x="0" y="0"/>
                </a:moveTo>
                <a:lnTo>
                  <a:pt x="907" y="0"/>
                </a:lnTo>
                <a:lnTo>
                  <a:pt x="907" y="1180"/>
                </a:lnTo>
                <a:lnTo>
                  <a:pt x="2903" y="1180"/>
                </a:lnTo>
                <a:lnTo>
                  <a:pt x="2903" y="772"/>
                </a:ln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00360" y="4508640"/>
            <a:ext cx="4680000" cy="1944720"/>
          </a:xfrm>
          <a:custGeom>
            <a:avLst/>
            <a:gdLst/>
            <a:ahLst/>
            <a:rect l="l" t="t" r="r" b="b"/>
            <a:pathLst>
              <a:path w="2948" h="1225">
                <a:moveTo>
                  <a:pt x="0" y="0"/>
                </a:moveTo>
                <a:lnTo>
                  <a:pt x="0" y="1225"/>
                </a:lnTo>
                <a:lnTo>
                  <a:pt x="2948" y="1225"/>
                </a:lnTo>
                <a:lnTo>
                  <a:pt x="2948" y="772"/>
                </a:ln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332000" y="4761000"/>
            <a:ext cx="936360" cy="25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uting Spac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84360" y="1073160"/>
            <a:ext cx="0" cy="451656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5589720"/>
            <a:ext cx="7920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76360" y="546588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5661000"/>
            <a:ext cx="244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istance/Path or Topology              (and associated attribu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88000" y="568152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etection-Identification-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77080" y="56815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ules-Decisions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76360" y="546588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546588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64000" y="546588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64000" y="546588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51640" y="546588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1640" y="546588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51640" y="546588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738920" y="546588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56000" y="568152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arameters (and ext.attributes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488952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337644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193680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5226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at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6360" y="30160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all/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57644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istributed files/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476360" y="48891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337644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488952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64000" y="1989000"/>
            <a:ext cx="0" cy="347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03280" y="48164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92360" y="33051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60360" y="4437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olas"/>
              </a:rPr>
              <a:t>IGP/BG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40000" y="30099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olas"/>
              </a:rPr>
              <a:t>RS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48360" y="460044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0720" y="107316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Routed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64360" y="517032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Routing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4600440"/>
            <a:ext cx="863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4600440"/>
            <a:ext cx="863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84000" y="191628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2360" y="1844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155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olas"/>
              </a:rPr>
              <a:t>D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08:59:26Z</dcterms:created>
  <dc:creator>papadimitriou dimitri</dc:creator>
  <dc:description/>
  <dc:language>en-US</dc:language>
  <cp:lastModifiedBy>papadimitriou dimitri</cp:lastModifiedBy>
  <dcterms:modified xsi:type="dcterms:W3CDTF">2011-11-15T07:25:38Z</dcterms:modified>
  <cp:revision>9</cp:revision>
  <dc:subject/>
  <dc:title>Slide 1</dc:title>
</cp:coreProperties>
</file>