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IPFRR with Fast Notification  |  IETF82, Taipei  |  draft-csaszar-ipfrr-fn-02  |  2011-11-17  |  Page </a:t>
            </a:r>
            <a:fld id="{5D3ACE40-5C95-45F9-90A4-47F6E2D4EE4E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dras.Csaszar@ericsson.com" TargetMode="External"/><Relationship Id="rId2" Type="http://schemas.openxmlformats.org/officeDocument/2006/relationships/hyperlink" Target="mailto:Gabor.Sandor.Enyedi@ericsson.com" TargetMode="External"/><Relationship Id="rId3" Type="http://schemas.openxmlformats.org/officeDocument/2006/relationships/hyperlink" Target="mailto:Jeff.Tantsura@ericsson.com" TargetMode="External"/><Relationship Id="rId4" Type="http://schemas.openxmlformats.org/officeDocument/2006/relationships/hyperlink" Target="mailto:Sriganesh.Kini@ericsson.com" TargetMode="External"/><Relationship Id="rId5" Type="http://schemas.openxmlformats.org/officeDocument/2006/relationships/hyperlink" Target="mailto:sucecj@telcordia.com" TargetMode="External"/><Relationship Id="rId6" Type="http://schemas.openxmlformats.org/officeDocument/2006/relationships/hyperlink" Target="mailto:sdas2@telcordia.com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FRR for IP and LDP based on Fast Notification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473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8585a"/>
                </a:solidFill>
                <a:latin typeface="Arial"/>
              </a:rPr>
              <a:t>draft-csaszar-ipfrr-fn-02</a:t>
            </a:r>
            <a:r>
              <a:rPr b="0" lang="en-GB" sz="3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58585a"/>
                </a:solidFill>
                <a:latin typeface="Arial"/>
              </a:rPr>
              <a:t>  IETF82, Taipei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8585a"/>
                </a:solidFill>
                <a:latin typeface="Arial"/>
              </a:rPr>
              <a:t>András Császár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Andras.Csaszar@ericsson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8585a"/>
                </a:solidFill>
                <a:latin typeface="Arial"/>
              </a:rPr>
              <a:t>Gábor Enyedi</a:t>
            </a:r>
            <a:r>
              <a:rPr b="0" lang="hu-HU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2"/>
              </a:rPr>
              <a:t>Gabor.Sandor.Enyedi@ericsson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Jeff Tantsura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3"/>
              </a:rPr>
              <a:t>Jeff.Tantsura@ericsson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Sriganesh Kini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4"/>
              </a:rPr>
              <a:t>Sriganesh.Kini@ericsson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John Sucec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5"/>
              </a:rPr>
              <a:t>sucecj@telcordia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Subir Das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a9d4"/>
                </a:solidFill>
                <a:uFillTx/>
                <a:latin typeface="Arial"/>
                <a:hlinkClick r:id="rId6"/>
              </a:rPr>
              <a:t>sdas2@telcordia.co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acket Flow Disrup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4560" y="1384200"/>
            <a:ext cx="14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Timelines: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03040" y="3092400"/>
            <a:ext cx="142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43000" y="297504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49120" y="481176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822240" y="3138480"/>
            <a:ext cx="6531120" cy="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822240" y="4981680"/>
            <a:ext cx="7954920" cy="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739880" y="2549520"/>
            <a:ext cx="1379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10ms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e.g. BFD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3896640" y="2829600"/>
            <a:ext cx="155520" cy="417600"/>
          </a:xfrm>
          <a:custGeom>
            <a:avLst/>
            <a:gdLst>
              <a:gd name="textAreaLeft" fmla="*/ 0 w 155520"/>
              <a:gd name="textAreaRight" fmla="*/ 56160 w 155520"/>
              <a:gd name="textAreaTop" fmla="*/ 10800 h 417600"/>
              <a:gd name="textAreaBottom" fmla="*/ 40680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3662280" y="2533680"/>
            <a:ext cx="617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250</a:t>
            </a:r>
            <a:r>
              <a:rPr b="0" lang="en-US" sz="1000" spc="-1" strike="noStrike">
                <a:solidFill>
                  <a:srgbClr val="58585a"/>
                </a:solidFill>
                <a:latin typeface="Arial"/>
                <a:ea typeface="Arial"/>
              </a:rPr>
              <a:t>µs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FN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orig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149480" y="2941560"/>
            <a:ext cx="0" cy="143676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3740040" y="2941560"/>
            <a:ext cx="0" cy="143676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208400" y="2941560"/>
            <a:ext cx="0" cy="143676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6848640" y="2941560"/>
            <a:ext cx="0" cy="143676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835520" y="2549520"/>
            <a:ext cx="1379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10ms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FIB update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728640" y="3490920"/>
            <a:ext cx="81612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ailure happen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6440400" y="3490920"/>
            <a:ext cx="81612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IB updated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 flipH="1" rot="5400000">
            <a:off x="4906800" y="4620240"/>
            <a:ext cx="185760" cy="384120"/>
          </a:xfrm>
          <a:custGeom>
            <a:avLst/>
            <a:gdLst>
              <a:gd name="textAreaLeft" fmla="*/ 0 w 185760"/>
              <a:gd name="textAreaRight" fmla="*/ 66960 w 185760"/>
              <a:gd name="textAreaTop" fmla="*/ 9720 h 384120"/>
              <a:gd name="textAreaBottom" fmla="*/ 37440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657680" y="4324320"/>
            <a:ext cx="627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180</a:t>
            </a:r>
            <a:r>
              <a:rPr b="0" lang="en-US" sz="1000" spc="-1" strike="noStrike">
                <a:solidFill>
                  <a:srgbClr val="58585a"/>
                </a:solidFill>
                <a:latin typeface="Arial"/>
                <a:ea typeface="Arial"/>
              </a:rPr>
              <a:t>µ</a:t>
            </a: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s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FN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forwarding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3357720" y="3490920"/>
            <a:ext cx="81576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ailure detected locally</a:t>
            </a:r>
            <a:br>
              <a:rPr sz="12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by A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051440" y="3490920"/>
            <a:ext cx="38736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N</a:t>
            </a:r>
            <a:br>
              <a:rPr sz="12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sen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4200480" y="4146480"/>
            <a:ext cx="590760" cy="0"/>
          </a:xfrm>
          <a:prstGeom prst="line">
            <a:avLst/>
          </a:prstGeom>
          <a:ln w="38160">
            <a:solidFill>
              <a:srgbClr val="58585a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100400" y="3843360"/>
            <a:ext cx="816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85a"/>
                </a:solidFill>
                <a:latin typeface="Arial"/>
              </a:rPr>
              <a:t>Link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58585a"/>
                </a:solidFill>
                <a:latin typeface="Arial"/>
              </a:rPr>
              <a:t>delay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4792680" y="3817800"/>
            <a:ext cx="0" cy="239868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5205240" y="3817800"/>
            <a:ext cx="0" cy="239868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7823160" y="3849840"/>
            <a:ext cx="0" cy="2377800"/>
          </a:xfrm>
          <a:prstGeom prst="line">
            <a:avLst/>
          </a:prstGeom>
          <a:ln w="12600">
            <a:solidFill>
              <a:srgbClr val="5858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2340720" y="1755000"/>
            <a:ext cx="185760" cy="2533680"/>
          </a:xfrm>
          <a:custGeom>
            <a:avLst/>
            <a:gdLst>
              <a:gd name="textAreaLeft" fmla="*/ 0 w 185760"/>
              <a:gd name="textAreaRight" fmla="*/ 66960 w 185760"/>
              <a:gd name="textAreaTop" fmla="*/ 65880 h 2533680"/>
              <a:gd name="textAreaBottom" fmla="*/ 2467800 h 25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5434560" y="1753200"/>
            <a:ext cx="185760" cy="2536920"/>
          </a:xfrm>
          <a:custGeom>
            <a:avLst/>
            <a:gdLst>
              <a:gd name="textAreaLeft" fmla="*/ 0 w 185760"/>
              <a:gd name="textAreaRight" fmla="*/ 66960 w 185760"/>
              <a:gd name="textAreaTop" fmla="*/ 65880 h 2536920"/>
              <a:gd name="textAreaBottom" fmla="*/ 2471040 h 25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 flipH="1" rot="5400000">
            <a:off x="6435000" y="3561480"/>
            <a:ext cx="185760" cy="2533680"/>
          </a:xfrm>
          <a:custGeom>
            <a:avLst/>
            <a:gdLst>
              <a:gd name="textAreaLeft" fmla="*/ 0 w 185760"/>
              <a:gd name="textAreaRight" fmla="*/ 66960 w 185760"/>
              <a:gd name="textAreaTop" fmla="*/ 65880 h 2533680"/>
              <a:gd name="textAreaBottom" fmla="*/ 2467800 h 25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5835600" y="4308480"/>
            <a:ext cx="1379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10ms</a:t>
            </a:r>
            <a:br>
              <a:rPr sz="1000"/>
            </a:b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FIB update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136520" y="3138480"/>
            <a:ext cx="5686200" cy="293760"/>
            <a:chOff x="1136520" y="3138480"/>
            <a:chExt cx="5686200" cy="293760"/>
          </a:xfrm>
        </p:grpSpPr>
        <p:sp>
          <p:nvSpPr>
            <p:cNvPr id="250" name=""/>
            <p:cNvSpPr/>
            <p:nvPr/>
          </p:nvSpPr>
          <p:spPr>
            <a:xfrm>
              <a:off x="2826720" y="3157560"/>
              <a:ext cx="14202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acket loss</a:t>
              </a:r>
              <a:endParaRPr b="0" lang="en-US" sz="20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36520" y="3138480"/>
              <a:ext cx="5686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136520" y="4967280"/>
            <a:ext cx="6678360" cy="306720"/>
            <a:chOff x="1136520" y="4967280"/>
            <a:chExt cx="6678360" cy="306720"/>
          </a:xfrm>
        </p:grpSpPr>
        <p:sp>
          <p:nvSpPr>
            <p:cNvPr id="253" name=""/>
            <p:cNvSpPr/>
            <p:nvPr/>
          </p:nvSpPr>
          <p:spPr>
            <a:xfrm>
              <a:off x="2902320" y="4968720"/>
              <a:ext cx="2537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9d4"/>
                  </a:solidFill>
                  <a:latin typeface="Arial"/>
                </a:rPr>
                <a:t>forwarding towards A</a:t>
              </a:r>
              <a:endParaRPr b="0" lang="en-US" sz="20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36520" y="4967280"/>
              <a:ext cx="6678360" cy="0"/>
            </a:xfrm>
            <a:prstGeom prst="line">
              <a:avLst/>
            </a:prstGeom>
            <a:ln w="76320">
              <a:solidFill>
                <a:srgbClr val="00a9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718760" y="5006880"/>
            <a:ext cx="133488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ba17"/>
                </a:solidFill>
                <a:latin typeface="Arial"/>
              </a:rPr>
              <a:t>forwarding</a:t>
            </a:r>
            <a:br>
              <a:rPr sz="2000"/>
            </a:br>
            <a:r>
              <a:rPr b="0" lang="en-US" sz="2000" spc="-1" strike="noStrike">
                <a:solidFill>
                  <a:srgbClr val="89ba17"/>
                </a:solidFill>
                <a:latin typeface="Arial"/>
              </a:rPr>
              <a:t>towards B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7824960" y="4979880"/>
            <a:ext cx="1141200" cy="0"/>
          </a:xfrm>
          <a:prstGeom prst="line">
            <a:avLst/>
          </a:prstGeom>
          <a:ln w="76320">
            <a:solidFill>
              <a:srgbClr val="89ba1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489560" y="5624640"/>
            <a:ext cx="606240" cy="44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N</a:t>
            </a:r>
            <a:br>
              <a:rPr sz="12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recv’d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5052960" y="5624640"/>
            <a:ext cx="308160" cy="44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N sent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7416720" y="5656320"/>
            <a:ext cx="81612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FIB updated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143840" y="25560"/>
            <a:ext cx="1946880" cy="3138480"/>
            <a:chOff x="7143840" y="25560"/>
            <a:chExt cx="1946880" cy="3138480"/>
          </a:xfrm>
        </p:grpSpPr>
        <p:sp>
          <p:nvSpPr>
            <p:cNvPr id="261" name=""/>
            <p:cNvSpPr/>
            <p:nvPr/>
          </p:nvSpPr>
          <p:spPr>
            <a:xfrm>
              <a:off x="7828200" y="716040"/>
              <a:ext cx="360360" cy="360360"/>
            </a:xfrm>
            <a:prstGeom prst="ellipse">
              <a:avLst/>
            </a:prstGeom>
            <a:solidFill>
              <a:srgbClr val="89ba17"/>
            </a:solidFill>
            <a:ln w="93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12200" y="1724040"/>
              <a:ext cx="360360" cy="360360"/>
            </a:xfrm>
            <a:prstGeom prst="ellipse">
              <a:avLst/>
            </a:prstGeom>
            <a:solidFill>
              <a:srgbClr val="89ba17"/>
            </a:solidFill>
            <a:ln w="93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64560" y="2803680"/>
              <a:ext cx="360360" cy="360360"/>
            </a:xfrm>
            <a:prstGeom prst="ellipse">
              <a:avLst/>
            </a:prstGeom>
            <a:solidFill>
              <a:srgbClr val="89ba17"/>
            </a:solidFill>
            <a:ln w="93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43840" y="1327320"/>
              <a:ext cx="360360" cy="360360"/>
            </a:xfrm>
            <a:prstGeom prst="ellipse">
              <a:avLst/>
            </a:prstGeom>
            <a:solidFill>
              <a:srgbClr val="89ba17"/>
            </a:solidFill>
            <a:ln w="93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43840" y="2119320"/>
              <a:ext cx="360360" cy="360360"/>
            </a:xfrm>
            <a:prstGeom prst="ellipse">
              <a:avLst/>
            </a:prstGeom>
            <a:solidFill>
              <a:srgbClr val="89ba17"/>
            </a:solidFill>
            <a:ln w="93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cxnSp>
          <p:nvCxnSpPr>
            <p:cNvPr id="266" name=""/>
            <p:cNvCxnSpPr>
              <a:stCxn id="264" idx="7"/>
              <a:endCxn id="261" idx="3"/>
            </p:cNvCxnSpPr>
            <p:nvPr/>
          </p:nvCxnSpPr>
          <p:spPr>
            <a:xfrm flipV="1">
              <a:off x="7452000" y="1023480"/>
              <a:ext cx="429120" cy="356400"/>
            </a:xfrm>
            <a:prstGeom prst="straightConnector1">
              <a:avLst/>
            </a:prstGeom>
            <a:ln w="9360">
              <a:solidFill>
                <a:srgbClr val="58585a"/>
              </a:solidFill>
              <a:miter/>
            </a:ln>
          </p:spPr>
        </p:cxnSp>
        <p:cxnSp>
          <p:nvCxnSpPr>
            <p:cNvPr id="267" name=""/>
            <p:cNvCxnSpPr>
              <a:stCxn id="261" idx="5"/>
              <a:endCxn id="262" idx="1"/>
            </p:cNvCxnSpPr>
            <p:nvPr/>
          </p:nvCxnSpPr>
          <p:spPr>
            <a:xfrm>
              <a:off x="8135640" y="1023480"/>
              <a:ext cx="429480" cy="753480"/>
            </a:xfrm>
            <a:prstGeom prst="straightConnector1">
              <a:avLst/>
            </a:prstGeom>
            <a:ln w="9360">
              <a:solidFill>
                <a:srgbClr val="58585a"/>
              </a:solidFill>
              <a:miter/>
            </a:ln>
          </p:spPr>
        </p:cxnSp>
        <p:cxnSp>
          <p:nvCxnSpPr>
            <p:cNvPr id="268" name=""/>
            <p:cNvCxnSpPr>
              <a:stCxn id="262" idx="4"/>
              <a:endCxn id="263" idx="7"/>
            </p:cNvCxnSpPr>
            <p:nvPr/>
          </p:nvCxnSpPr>
          <p:spPr>
            <a:xfrm flipH="1">
              <a:off x="8172360" y="2084040"/>
              <a:ext cx="521280" cy="772200"/>
            </a:xfrm>
            <a:prstGeom prst="straightConnector1">
              <a:avLst/>
            </a:prstGeom>
            <a:ln w="9360">
              <a:solidFill>
                <a:srgbClr val="58585a"/>
              </a:solidFill>
              <a:miter/>
            </a:ln>
          </p:spPr>
        </p:cxnSp>
        <p:cxnSp>
          <p:nvCxnSpPr>
            <p:cNvPr id="269" name=""/>
            <p:cNvCxnSpPr>
              <a:stCxn id="263" idx="1"/>
              <a:endCxn id="265" idx="5"/>
            </p:cNvCxnSpPr>
            <p:nvPr/>
          </p:nvCxnSpPr>
          <p:spPr>
            <a:xfrm flipH="1" flipV="1">
              <a:off x="7451640" y="2427120"/>
              <a:ext cx="465840" cy="429120"/>
            </a:xfrm>
            <a:prstGeom prst="straightConnector1">
              <a:avLst/>
            </a:prstGeom>
            <a:ln w="9360">
              <a:solidFill>
                <a:srgbClr val="58585a"/>
              </a:solidFill>
              <a:miter/>
            </a:ln>
          </p:spPr>
        </p:cxnSp>
        <p:cxnSp>
          <p:nvCxnSpPr>
            <p:cNvPr id="270" name=""/>
            <p:cNvCxnSpPr>
              <a:stCxn id="264" idx="4"/>
              <a:endCxn id="265" idx="0"/>
            </p:cNvCxnSpPr>
            <p:nvPr/>
          </p:nvCxnSpPr>
          <p:spPr>
            <a:xfrm>
              <a:off x="7324560" y="1687320"/>
              <a:ext cx="1080" cy="432360"/>
            </a:xfrm>
            <a:prstGeom prst="straightConnector1">
              <a:avLst/>
            </a:prstGeom>
            <a:ln w="9360">
              <a:solidFill>
                <a:srgbClr val="58585a"/>
              </a:solidFill>
              <a:miter/>
            </a:ln>
          </p:spPr>
        </p:cxnSp>
        <p:grpSp>
          <p:nvGrpSpPr>
            <p:cNvPr id="271" name=""/>
            <p:cNvGrpSpPr/>
            <p:nvPr/>
          </p:nvGrpSpPr>
          <p:grpSpPr>
            <a:xfrm>
              <a:off x="8188560" y="1255680"/>
              <a:ext cx="287280" cy="287280"/>
              <a:chOff x="8188560" y="1255680"/>
              <a:chExt cx="287280" cy="287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8188560" y="1326960"/>
                <a:ext cx="287280" cy="108000"/>
              </a:xfrm>
              <a:prstGeom prst="line">
                <a:avLst/>
              </a:prstGeom>
              <a:ln w="19080">
                <a:solidFill>
                  <a:srgbClr val="f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8585a"/>
                  </a:solidFill>
                  <a:latin typeface="Tahom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332920" y="1255680"/>
                <a:ext cx="0" cy="287280"/>
              </a:xfrm>
              <a:prstGeom prst="line">
                <a:avLst/>
              </a:prstGeom>
              <a:ln w="19080">
                <a:solidFill>
                  <a:srgbClr val="f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8585a"/>
                  </a:solidFill>
                  <a:latin typeface="Tahoma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8259840" y="787320"/>
              <a:ext cx="763560" cy="2303640"/>
            </a:xfrm>
            <a:custGeom>
              <a:avLst/>
              <a:gdLst/>
              <a:ahLst/>
              <a:rect l="l" t="t" r="r" b="b"/>
              <a:pathLst>
                <a:path w="481" h="1451">
                  <a:moveTo>
                    <a:pt x="23" y="1451"/>
                  </a:moveTo>
                  <a:cubicBezTo>
                    <a:pt x="252" y="1220"/>
                    <a:pt x="481" y="990"/>
                    <a:pt x="477" y="748"/>
                  </a:cubicBezTo>
                  <a:cubicBezTo>
                    <a:pt x="473" y="506"/>
                    <a:pt x="236" y="253"/>
                    <a:pt x="0" y="0"/>
                  </a:cubicBezTo>
                </a:path>
              </a:pathLst>
            </a:custGeom>
            <a:noFill/>
            <a:ln w="9360">
              <a:solidFill>
                <a:srgbClr val="58585a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87480" y="25560"/>
              <a:ext cx="9032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58585a"/>
                  </a:solidFill>
                  <a:latin typeface="Arial"/>
                </a:rPr>
                <a:t>Default</a:t>
              </a:r>
              <a:br>
                <a:rPr sz="1600"/>
              </a:br>
              <a:r>
                <a:rPr b="0" lang="en-GB" sz="1600" spc="-1" strike="noStrike">
                  <a:solidFill>
                    <a:srgbClr val="58585a"/>
                  </a:solidFill>
                  <a:latin typeface="Arial"/>
                </a:rPr>
                <a:t>shortest</a:t>
              </a:r>
              <a:br>
                <a:rPr sz="1600"/>
              </a:br>
              <a:r>
                <a:rPr b="0" lang="en-GB" sz="1600" spc="-1" strike="noStrike">
                  <a:solidFill>
                    <a:srgbClr val="58585a"/>
                  </a:solidFill>
                  <a:latin typeface="Arial"/>
                </a:rPr>
                <a:t>path</a:t>
              </a:r>
              <a:endParaRPr b="0" lang="en-US" sz="16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</p:spTree>
  </p:cSld>
  <p:transition>
    <p:pull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E2E Packet Flow Impac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raffic flow: 1 pkt / m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Varying delay of “bold” links (D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N results in re-routing</a:t>
            </a:r>
            <a:br>
              <a:rPr sz="2400"/>
            </a:b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10 hops away!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42000" y="3029040"/>
            <a:ext cx="495360" cy="269640"/>
          </a:xfrm>
          <a:prstGeom prst="roundRect">
            <a:avLst>
              <a:gd name="adj" fmla="val 166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6642000" y="4199040"/>
            <a:ext cx="495360" cy="269640"/>
          </a:xfrm>
          <a:prstGeom prst="roundRect">
            <a:avLst>
              <a:gd name="adj" fmla="val 166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7272360" y="491796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040600" y="491796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8532720" y="293832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7861320" y="212868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6958080" y="2128680"/>
            <a:ext cx="35856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8532720" y="4199040"/>
            <a:ext cx="358920" cy="35856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286" name=""/>
          <p:cNvCxnSpPr>
            <a:stCxn id="278" idx="2"/>
            <a:endCxn id="279" idx="0"/>
          </p:cNvCxnSpPr>
          <p:nvPr/>
        </p:nvCxnSpPr>
        <p:spPr>
          <a:xfrm>
            <a:off x="6889320" y="3298320"/>
            <a:ext cx="1080" cy="901080"/>
          </a:xfrm>
          <a:prstGeom prst="straightConnector1">
            <a:avLst/>
          </a:prstGeom>
          <a:ln w="76320">
            <a:solidFill>
              <a:srgbClr val="58585a"/>
            </a:solidFill>
            <a:miter/>
          </a:ln>
        </p:spPr>
      </p:cxnSp>
      <p:cxnSp>
        <p:nvCxnSpPr>
          <p:cNvPr id="287" name=""/>
          <p:cNvCxnSpPr>
            <a:stCxn id="279" idx="2"/>
            <a:endCxn id="280" idx="1"/>
          </p:cNvCxnSpPr>
          <p:nvPr/>
        </p:nvCxnSpPr>
        <p:spPr>
          <a:xfrm>
            <a:off x="6889680" y="4468680"/>
            <a:ext cx="435600" cy="5025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88" name=""/>
          <p:cNvCxnSpPr>
            <a:stCxn id="280" idx="6"/>
            <a:endCxn id="281" idx="2"/>
          </p:cNvCxnSpPr>
          <p:nvPr/>
        </p:nvCxnSpPr>
        <p:spPr>
          <a:xfrm>
            <a:off x="7630920" y="5097240"/>
            <a:ext cx="41004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89" name=""/>
          <p:cNvCxnSpPr>
            <a:stCxn id="281" idx="7"/>
            <a:endCxn id="285" idx="4"/>
          </p:cNvCxnSpPr>
          <p:nvPr/>
        </p:nvCxnSpPr>
        <p:spPr>
          <a:xfrm flipV="1">
            <a:off x="8346600" y="4556880"/>
            <a:ext cx="366120" cy="413640"/>
          </a:xfrm>
          <a:prstGeom prst="straightConnector1">
            <a:avLst/>
          </a:prstGeom>
          <a:ln w="12600">
            <a:solidFill>
              <a:srgbClr val="58585a"/>
            </a:solidFill>
            <a:prstDash val="dash"/>
            <a:miter/>
          </a:ln>
        </p:spPr>
      </p:cxnSp>
      <p:cxnSp>
        <p:nvCxnSpPr>
          <p:cNvPr id="290" name=""/>
          <p:cNvCxnSpPr>
            <a:stCxn id="285" idx="0"/>
            <a:endCxn id="282" idx="4"/>
          </p:cNvCxnSpPr>
          <p:nvPr/>
        </p:nvCxnSpPr>
        <p:spPr>
          <a:xfrm flipV="1">
            <a:off x="8712000" y="3296520"/>
            <a:ext cx="1080" cy="902520"/>
          </a:xfrm>
          <a:prstGeom prst="straightConnector1">
            <a:avLst/>
          </a:prstGeom>
          <a:ln w="76320">
            <a:solidFill>
              <a:srgbClr val="58585a"/>
            </a:solidFill>
            <a:miter/>
          </a:ln>
        </p:spPr>
      </p:cxnSp>
      <p:cxnSp>
        <p:nvCxnSpPr>
          <p:cNvPr id="291" name=""/>
          <p:cNvCxnSpPr>
            <a:stCxn id="282" idx="1"/>
            <a:endCxn id="283" idx="5"/>
          </p:cNvCxnSpPr>
          <p:nvPr/>
        </p:nvCxnSpPr>
        <p:spPr>
          <a:xfrm flipH="1" flipV="1">
            <a:off x="8167320" y="2434680"/>
            <a:ext cx="418320" cy="556200"/>
          </a:xfrm>
          <a:prstGeom prst="straightConnector1">
            <a:avLst/>
          </a:prstGeom>
          <a:ln w="12600">
            <a:solidFill>
              <a:srgbClr val="58585a"/>
            </a:solidFill>
            <a:prstDash val="dash"/>
            <a:miter/>
          </a:ln>
        </p:spPr>
      </p:cxnSp>
      <p:cxnSp>
        <p:nvCxnSpPr>
          <p:cNvPr id="292" name=""/>
          <p:cNvCxnSpPr>
            <a:stCxn id="283" idx="2"/>
            <a:endCxn id="284" idx="6"/>
          </p:cNvCxnSpPr>
          <p:nvPr/>
        </p:nvCxnSpPr>
        <p:spPr>
          <a:xfrm flipH="1">
            <a:off x="7315920" y="2307960"/>
            <a:ext cx="54540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93" name=""/>
          <p:cNvCxnSpPr>
            <a:stCxn id="284" idx="3"/>
            <a:endCxn id="278" idx="0"/>
          </p:cNvCxnSpPr>
          <p:nvPr/>
        </p:nvCxnSpPr>
        <p:spPr>
          <a:xfrm flipH="1">
            <a:off x="6888960" y="2435040"/>
            <a:ext cx="121320" cy="5943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6040800" y="4514760"/>
            <a:ext cx="119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   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7361640" y="527688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5964480" y="243540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 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7066440" y="161136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7181640" y="3479760"/>
            <a:ext cx="12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Delay=Dms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095960" y="3749760"/>
            <a:ext cx="438480" cy="0"/>
          </a:xfrm>
          <a:prstGeom prst="line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8040600" y="3749760"/>
            <a:ext cx="441360" cy="0"/>
          </a:xfrm>
          <a:prstGeom prst="line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5903640" y="3533760"/>
            <a:ext cx="10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000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8220240" y="360000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3419640"/>
          <a:ext cx="5494320" cy="264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19640"/>
                    <a:ext cx="549432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 rot="20527800">
            <a:off x="2627280" y="3087360"/>
            <a:ext cx="1517760" cy="70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cket los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ow 20ms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227720" y="2624040"/>
            <a:ext cx="1214640" cy="2235240"/>
          </a:xfrm>
          <a:custGeom>
            <a:avLst/>
            <a:gdLst/>
            <a:ahLst/>
            <a:rect l="l" t="t" r="r" b="b"/>
            <a:pathLst>
              <a:path w="765" h="1408">
                <a:moveTo>
                  <a:pt x="56" y="1111"/>
                </a:moveTo>
                <a:cubicBezTo>
                  <a:pt x="129" y="1217"/>
                  <a:pt x="203" y="1324"/>
                  <a:pt x="283" y="1366"/>
                </a:cubicBezTo>
                <a:cubicBezTo>
                  <a:pt x="363" y="1408"/>
                  <a:pt x="467" y="1408"/>
                  <a:pt x="538" y="1366"/>
                </a:cubicBezTo>
                <a:cubicBezTo>
                  <a:pt x="609" y="1324"/>
                  <a:pt x="680" y="1229"/>
                  <a:pt x="708" y="1111"/>
                </a:cubicBezTo>
                <a:cubicBezTo>
                  <a:pt x="736" y="993"/>
                  <a:pt x="708" y="799"/>
                  <a:pt x="708" y="657"/>
                </a:cubicBezTo>
                <a:cubicBezTo>
                  <a:pt x="708" y="515"/>
                  <a:pt x="765" y="350"/>
                  <a:pt x="708" y="260"/>
                </a:cubicBezTo>
                <a:cubicBezTo>
                  <a:pt x="651" y="170"/>
                  <a:pt x="462" y="156"/>
                  <a:pt x="368" y="118"/>
                </a:cubicBezTo>
                <a:cubicBezTo>
                  <a:pt x="274" y="80"/>
                  <a:pt x="202" y="0"/>
                  <a:pt x="141" y="33"/>
                </a:cubicBezTo>
                <a:cubicBezTo>
                  <a:pt x="80" y="66"/>
                  <a:pt x="40" y="191"/>
                  <a:pt x="0" y="317"/>
                </a:cubicBezTo>
              </a:path>
            </a:pathLst>
          </a:custGeom>
          <a:noFill/>
          <a:ln w="38160">
            <a:solidFill>
              <a:srgbClr val="89ba1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7309080" y="3238560"/>
            <a:ext cx="11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ba17"/>
                </a:solidFill>
                <a:latin typeface="Arial"/>
              </a:rPr>
              <a:t>Default path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 rot="17103000">
            <a:off x="6724800" y="2346120"/>
            <a:ext cx="4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32119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7272360" y="3164040"/>
            <a:ext cx="0" cy="1125360"/>
          </a:xfrm>
          <a:prstGeom prst="line">
            <a:avLst/>
          </a:prstGeom>
          <a:ln w="38160">
            <a:solidFill>
              <a:srgbClr val="e32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445520" y="2061720"/>
            <a:ext cx="317520" cy="198720"/>
            <a:chOff x="7445520" y="2061720"/>
            <a:chExt cx="317520" cy="198720"/>
          </a:xfrm>
        </p:grpSpPr>
        <p:sp>
          <p:nvSpPr>
            <p:cNvPr id="311" name=""/>
            <p:cNvSpPr/>
            <p:nvPr/>
          </p:nvSpPr>
          <p:spPr>
            <a:xfrm>
              <a:off x="7445520" y="2259000"/>
              <a:ext cx="3175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5360" bIns="-4536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77200" y="20617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8246520" y="2268000"/>
            <a:ext cx="295920" cy="348120"/>
            <a:chOff x="8246520" y="2268000"/>
            <a:chExt cx="295920" cy="348120"/>
          </a:xfrm>
        </p:grpSpPr>
        <p:sp>
          <p:nvSpPr>
            <p:cNvPr id="314" name=""/>
            <p:cNvSpPr/>
            <p:nvPr/>
          </p:nvSpPr>
          <p:spPr>
            <a:xfrm>
              <a:off x="8246520" y="2354760"/>
              <a:ext cx="180360" cy="261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3305400">
              <a:off x="8307720" y="23119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8523720" y="2594520"/>
            <a:ext cx="308880" cy="353880"/>
            <a:chOff x="8523720" y="2594520"/>
            <a:chExt cx="308880" cy="353880"/>
          </a:xfrm>
        </p:grpSpPr>
        <p:sp>
          <p:nvSpPr>
            <p:cNvPr id="317" name=""/>
            <p:cNvSpPr/>
            <p:nvPr/>
          </p:nvSpPr>
          <p:spPr>
            <a:xfrm>
              <a:off x="8523720" y="2683080"/>
              <a:ext cx="173880" cy="265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9591800">
              <a:off x="8595720" y="263520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8920080" y="3533760"/>
            <a:ext cx="223560" cy="317520"/>
            <a:chOff x="8920080" y="3533760"/>
            <a:chExt cx="223560" cy="317520"/>
          </a:xfrm>
        </p:grpSpPr>
        <p:sp>
          <p:nvSpPr>
            <p:cNvPr id="320" name=""/>
            <p:cNvSpPr/>
            <p:nvPr/>
          </p:nvSpPr>
          <p:spPr>
            <a:xfrm flipH="1">
              <a:off x="8920080" y="3533760"/>
              <a:ext cx="144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940600" y="35744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449920" y="4710240"/>
            <a:ext cx="352800" cy="316080"/>
            <a:chOff x="8449920" y="4710240"/>
            <a:chExt cx="352800" cy="316080"/>
          </a:xfrm>
        </p:grpSpPr>
        <p:sp>
          <p:nvSpPr>
            <p:cNvPr id="323" name=""/>
            <p:cNvSpPr/>
            <p:nvPr/>
          </p:nvSpPr>
          <p:spPr>
            <a:xfrm flipH="1">
              <a:off x="8449920" y="4710240"/>
              <a:ext cx="198000" cy="248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280000">
              <a:off x="8564760" y="479988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657920" y="5163480"/>
            <a:ext cx="317160" cy="202320"/>
            <a:chOff x="7657920" y="5163480"/>
            <a:chExt cx="317160" cy="202320"/>
          </a:xfrm>
        </p:grpSpPr>
        <p:sp>
          <p:nvSpPr>
            <p:cNvPr id="326" name=""/>
            <p:cNvSpPr/>
            <p:nvPr/>
          </p:nvSpPr>
          <p:spPr>
            <a:xfrm flipH="1" flipV="1">
              <a:off x="7657920" y="5163480"/>
              <a:ext cx="317160" cy="2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3920" bIns="-4392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40720" y="51829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104240" y="4606560"/>
            <a:ext cx="339480" cy="210240"/>
            <a:chOff x="7104240" y="4606560"/>
            <a:chExt cx="339480" cy="210240"/>
          </a:xfrm>
        </p:grpSpPr>
        <p:sp>
          <p:nvSpPr>
            <p:cNvPr id="329" name=""/>
            <p:cNvSpPr/>
            <p:nvPr/>
          </p:nvSpPr>
          <p:spPr>
            <a:xfrm flipH="1" flipV="1">
              <a:off x="7104240" y="4628880"/>
              <a:ext cx="168840" cy="187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40680" y="460656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331" name=""/>
          <p:cNvSpPr/>
          <p:nvPr/>
        </p:nvSpPr>
        <p:spPr>
          <a:xfrm rot="20527800">
            <a:off x="2724120" y="3706560"/>
            <a:ext cx="3089160" cy="70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cket loss largel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pendent of link delays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7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1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9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300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nstraining FN Scop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6720" y="1274760"/>
            <a:ext cx="8352000" cy="5253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a9d4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Static pre-configuration the TTL for FN messages in routers based on best current practices and related studies of available ISP and enterprise network topologi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a9d4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Dynamically pre-calculate the TTL valu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a9d4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Dynamically pre-calculate the set of neighbours for which a particular FN message should be forwarde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20712000">
            <a:off x="4636800" y="528120"/>
            <a:ext cx="452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y ideas/collaboration is welcome!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928800" y="2166840"/>
            <a:ext cx="7489800" cy="3316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Application to Provider Provisioned VP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6360" y="1375920"/>
            <a:ext cx="8595000" cy="5146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roviding FRR for egress PE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xisting approach: PEs running multi-hop BFD between in each other in (full) mesh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.g. 100 PEs, could be 10k multi-hop BFD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ssions (each transmitting BFD packets every,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ay, 10ms), continuously, all time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gress PE router changes egress PE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o alternative egress P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W-redundancy: new egress PE needs to</a:t>
            </a:r>
            <a:br>
              <a:rPr sz="2400"/>
            </a:b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ctivate standby PW with LDP, too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hy not let the network inform the PEs</a:t>
            </a:r>
            <a:br>
              <a:rPr sz="2400"/>
            </a:b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quickly that a failure happened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N can distinguish link and node failures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Both ingress and new egress PE receive FN, can modify their routes/PWs upon primary PE node failur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96240" y="2173320"/>
            <a:ext cx="2011320" cy="3240000"/>
          </a:xfrm>
          <a:prstGeom prst="cloudCallout">
            <a:avLst>
              <a:gd name="adj1" fmla="val -7379"/>
              <a:gd name="adj2" fmla="val 33782"/>
            </a:avLst>
          </a:prstGeom>
          <a:solidFill>
            <a:srgbClr val="89b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7240680" y="232740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7763040" y="214308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8220240" y="214308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3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8664480" y="2717640"/>
            <a:ext cx="34308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4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7488360" y="507060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8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8207280" y="4834080"/>
            <a:ext cx="34308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7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7043760" y="466560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9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8558280" y="430056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6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8775720" y="369900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5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7031160" y="2811600"/>
            <a:ext cx="342720" cy="317520"/>
          </a:xfrm>
          <a:prstGeom prst="ellipse">
            <a:avLst/>
          </a:prstGeom>
          <a:solidFill>
            <a:srgbClr val="f08a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85a"/>
                </a:solidFill>
                <a:latin typeface="Arial"/>
              </a:rPr>
              <a:t>PE0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7284960" y="2646000"/>
            <a:ext cx="128520" cy="1825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284960" y="2455920"/>
            <a:ext cx="585720" cy="3967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345440" y="2448000"/>
            <a:ext cx="982440" cy="4507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369200" y="2921040"/>
            <a:ext cx="1263600" cy="302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16560" bIns="-1656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7337520" y="3035160"/>
            <a:ext cx="1425600" cy="8226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23120" y="3081240"/>
            <a:ext cx="1287360" cy="12574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7254720" y="3119400"/>
            <a:ext cx="1051200" cy="17287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7223040" y="3127320"/>
            <a:ext cx="419040" cy="19494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7178760" y="3149640"/>
            <a:ext cx="44280" cy="15080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551720" y="2409840"/>
            <a:ext cx="274680" cy="842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3744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7566120" y="2433600"/>
            <a:ext cx="717480" cy="1065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7551720" y="2577960"/>
            <a:ext cx="1135080" cy="2509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7505640" y="2624040"/>
            <a:ext cx="1432080" cy="10749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7467480" y="2646360"/>
            <a:ext cx="1241640" cy="16239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7421400" y="2654280"/>
            <a:ext cx="922680" cy="21877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7391520" y="2616120"/>
            <a:ext cx="296640" cy="24606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7292880" y="2624040"/>
            <a:ext cx="76320" cy="20653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8099280" y="2265480"/>
            <a:ext cx="108000" cy="79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8107200" y="2349360"/>
            <a:ext cx="579600" cy="4032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8077320" y="2395440"/>
            <a:ext cx="876240" cy="13035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8047080" y="2425680"/>
            <a:ext cx="745920" cy="18748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7985160" y="2441520"/>
            <a:ext cx="374760" cy="23684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718040" y="2448000"/>
            <a:ext cx="198360" cy="26146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331040" y="2455920"/>
            <a:ext cx="547560" cy="22176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353000" y="2463840"/>
            <a:ext cx="1028520" cy="22320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7750080" y="2433240"/>
            <a:ext cx="669960" cy="26370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383600" y="4490640"/>
            <a:ext cx="1150920" cy="2509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7407360" y="4803840"/>
            <a:ext cx="806400" cy="1746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7369200" y="4910040"/>
            <a:ext cx="174600" cy="1904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7826400" y="5032080"/>
            <a:ext cx="372960" cy="1206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474040" y="4605120"/>
            <a:ext cx="136440" cy="2365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8831160" y="3995280"/>
            <a:ext cx="68400" cy="3193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8839080" y="3051000"/>
            <a:ext cx="122400" cy="6321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8511840" y="2441160"/>
            <a:ext cx="228600" cy="2811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369200" y="3949200"/>
            <a:ext cx="1423800" cy="8082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315200" y="3005280"/>
            <a:ext cx="1387440" cy="17064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788240" y="3034800"/>
            <a:ext cx="982800" cy="21034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818480" y="3949200"/>
            <a:ext cx="990720" cy="11970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826400" y="4520880"/>
            <a:ext cx="746280" cy="6253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394840" y="2438280"/>
            <a:ext cx="37800" cy="24004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8496360" y="2438280"/>
            <a:ext cx="355680" cy="128268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5760" y="1368360"/>
            <a:ext cx="893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58585a"/>
                </a:solidFill>
                <a:latin typeface="Arial"/>
              </a:rPr>
              <a:t>If I haven’t been</a:t>
            </a:r>
            <a:br>
              <a:rPr sz="7800"/>
            </a:br>
            <a:r>
              <a:rPr b="1" lang="en-US" sz="7800" spc="-1" strike="noStrike">
                <a:solidFill>
                  <a:srgbClr val="58585a"/>
                </a:solidFill>
                <a:latin typeface="Arial"/>
              </a:rPr>
              <a:t>shot down (yet)</a:t>
            </a:r>
            <a:endParaRPr b="0" lang="en-US" sz="7800" spc="-1" strike="noStrike">
              <a:solidFill>
                <a:srgbClr val="58585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8585a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800" spc="-1" strike="noStrike">
                <a:solidFill>
                  <a:srgbClr val="58585a"/>
                </a:solidFill>
                <a:latin typeface="Arial"/>
              </a:rPr>
              <a:t>And still have time</a:t>
            </a:r>
            <a:endParaRPr b="0" lang="en-US" sz="78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Incremental Deploymen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50720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he more router support IPFRR-FN, the bette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But even two routers can make wonde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Advertisement of FN capabilit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.g. Router Capability TLV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SPF [RFC4970]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S-IS [RFC4971]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Let’s take the example on the first slide</a:t>
            </a:r>
            <a:br>
              <a:rPr sz="24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hat LFA could not solv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ven if only A and S support FN, they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an start solving failure cases left by LF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Remember: TTL=1 or 2 can already</a:t>
            </a:r>
            <a:br>
              <a:rPr sz="24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greatly improve coverage! (slide 12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83600" y="3902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8067600" y="491004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7419960" y="598968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6699240" y="4513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6699240" y="53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398" name=""/>
          <p:cNvCxnSpPr>
            <a:stCxn id="396" idx="7"/>
            <a:endCxn id="393" idx="3"/>
          </p:cNvCxnSpPr>
          <p:nvPr/>
        </p:nvCxnSpPr>
        <p:spPr>
          <a:xfrm flipV="1">
            <a:off x="7007400" y="4209480"/>
            <a:ext cx="429120" cy="35604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399" name=""/>
          <p:cNvCxnSpPr>
            <a:stCxn id="393" idx="5"/>
            <a:endCxn id="394" idx="1"/>
          </p:cNvCxnSpPr>
          <p:nvPr/>
        </p:nvCxnSpPr>
        <p:spPr>
          <a:xfrm>
            <a:off x="7691040" y="4210200"/>
            <a:ext cx="429480" cy="75312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400" name=""/>
          <p:cNvCxnSpPr>
            <a:stCxn id="394" idx="4"/>
            <a:endCxn id="395" idx="7"/>
          </p:cNvCxnSpPr>
          <p:nvPr/>
        </p:nvCxnSpPr>
        <p:spPr>
          <a:xfrm flipH="1">
            <a:off x="7727760" y="5270040"/>
            <a:ext cx="521280" cy="77220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401" name=""/>
          <p:cNvCxnSpPr>
            <a:stCxn id="395" idx="1"/>
            <a:endCxn id="397" idx="5"/>
          </p:cNvCxnSpPr>
          <p:nvPr/>
        </p:nvCxnSpPr>
        <p:spPr>
          <a:xfrm flipH="1" flipV="1">
            <a:off x="7007040" y="5613120"/>
            <a:ext cx="465840" cy="42912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402" name=""/>
          <p:cNvCxnSpPr>
            <a:stCxn id="396" idx="4"/>
            <a:endCxn id="397" idx="0"/>
          </p:cNvCxnSpPr>
          <p:nvPr/>
        </p:nvCxnSpPr>
        <p:spPr>
          <a:xfrm>
            <a:off x="6879960" y="4873320"/>
            <a:ext cx="1080" cy="43236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grpSp>
        <p:nvGrpSpPr>
          <p:cNvPr id="403" name=""/>
          <p:cNvGrpSpPr/>
          <p:nvPr/>
        </p:nvGrpSpPr>
        <p:grpSpPr>
          <a:xfrm>
            <a:off x="7743960" y="4441680"/>
            <a:ext cx="287280" cy="287280"/>
            <a:chOff x="7743960" y="4441680"/>
            <a:chExt cx="287280" cy="287280"/>
          </a:xfrm>
        </p:grpSpPr>
        <p:sp>
          <p:nvSpPr>
            <p:cNvPr id="404" name=""/>
            <p:cNvSpPr/>
            <p:nvPr/>
          </p:nvSpPr>
          <p:spPr>
            <a:xfrm flipH="1">
              <a:off x="7743960" y="4512960"/>
              <a:ext cx="287280" cy="108000"/>
            </a:xfrm>
            <a:prstGeom prst="line">
              <a:avLst/>
            </a:prstGeom>
            <a:ln w="190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88320" y="4441680"/>
              <a:ext cx="0" cy="287280"/>
            </a:xfrm>
            <a:prstGeom prst="line">
              <a:avLst/>
            </a:prstGeom>
            <a:ln w="190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815240" y="3973680"/>
            <a:ext cx="763560" cy="2303280"/>
          </a:xfrm>
          <a:custGeom>
            <a:avLst/>
            <a:gdLst/>
            <a:ahLst/>
            <a:rect l="l" t="t" r="r" b="b"/>
            <a:pathLst>
              <a:path w="481" h="1451">
                <a:moveTo>
                  <a:pt x="23" y="1451"/>
                </a:moveTo>
                <a:cubicBezTo>
                  <a:pt x="252" y="1220"/>
                  <a:pt x="481" y="990"/>
                  <a:pt x="477" y="748"/>
                </a:cubicBezTo>
                <a:cubicBezTo>
                  <a:pt x="473" y="506"/>
                  <a:pt x="236" y="253"/>
                  <a:pt x="0" y="0"/>
                </a:cubicBezTo>
              </a:path>
            </a:pathLst>
          </a:custGeom>
          <a:noFill/>
          <a:ln w="9360">
            <a:solidFill>
              <a:srgbClr val="58585a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8210520" y="3795840"/>
            <a:ext cx="9334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Default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shortest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6215400" y="5373720"/>
            <a:ext cx="5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585a"/>
                </a:solidFill>
                <a:latin typeface="Arial"/>
              </a:rPr>
              <a:t>legacy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215400" y="4560840"/>
            <a:ext cx="5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585a"/>
                </a:solidFill>
                <a:latin typeface="Arial"/>
              </a:rPr>
              <a:t>legacy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6901200" y="3938760"/>
            <a:ext cx="5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585a"/>
                </a:solidFill>
                <a:latin typeface="Arial"/>
              </a:rPr>
              <a:t>legacy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3840" y="199080"/>
            <a:ext cx="858816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Incremental Deployment – Few Legacy Nodes</a:t>
            </a:r>
            <a:br>
              <a:rPr sz="32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Legacy Node Bypas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6360" y="1375920"/>
            <a:ext cx="8604360" cy="4753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Legac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It can at least forward the multicast packets of FN (static conf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FN packets are not recognised/processed </a:t>
            </a:r>
            <a:r>
              <a:rPr b="0" lang="en-GB" sz="20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 routes are not changed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FN-capable nod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When pre-calculating backups, have to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onsider that legacy nodes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won’t change rout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If B is FN capable: it will re-rout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If B is legacy: C can re-rout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43840" y="3211560"/>
            <a:ext cx="216000" cy="21744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7359480" y="3211560"/>
            <a:ext cx="216000" cy="21744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6640560" y="3211560"/>
            <a:ext cx="216000" cy="21744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416" name=""/>
          <p:cNvCxnSpPr>
            <a:stCxn id="415" idx="6"/>
            <a:endCxn id="414" idx="2"/>
          </p:cNvCxnSpPr>
          <p:nvPr/>
        </p:nvCxnSpPr>
        <p:spPr>
          <a:xfrm>
            <a:off x="6856200" y="3320640"/>
            <a:ext cx="503640" cy="1080"/>
          </a:xfrm>
          <a:prstGeom prst="straightConnector1">
            <a:avLst/>
          </a:prstGeom>
          <a:ln w="19080">
            <a:solidFill>
              <a:srgbClr val="58585a"/>
            </a:solidFill>
            <a:miter/>
          </a:ln>
        </p:spPr>
      </p:cxnSp>
      <p:cxnSp>
        <p:nvCxnSpPr>
          <p:cNvPr id="417" name=""/>
          <p:cNvCxnSpPr>
            <a:stCxn id="414" idx="6"/>
            <a:endCxn id="413" idx="2"/>
          </p:cNvCxnSpPr>
          <p:nvPr/>
        </p:nvCxnSpPr>
        <p:spPr>
          <a:xfrm>
            <a:off x="7575120" y="3320640"/>
            <a:ext cx="469080" cy="1080"/>
          </a:xfrm>
          <a:prstGeom prst="straightConnector1">
            <a:avLst/>
          </a:prstGeom>
          <a:ln w="19080">
            <a:solidFill>
              <a:srgbClr val="58585a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8582760" y="3164040"/>
            <a:ext cx="5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Des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419" name=""/>
          <p:cNvCxnSpPr>
            <a:stCxn id="413" idx="6"/>
            <a:endCxn id="418" idx="1"/>
          </p:cNvCxnSpPr>
          <p:nvPr/>
        </p:nvCxnSpPr>
        <p:spPr>
          <a:xfrm>
            <a:off x="8259480" y="3320640"/>
            <a:ext cx="324360" cy="11880"/>
          </a:xfrm>
          <a:prstGeom prst="straightConnector1">
            <a:avLst/>
          </a:prstGeom>
          <a:ln w="19080">
            <a:solidFill>
              <a:srgbClr val="58585a"/>
            </a:solidFill>
            <a:prstDash val="sysDot"/>
            <a:miter/>
          </a:ln>
        </p:spPr>
      </p:cxnSp>
      <p:cxnSp>
        <p:nvCxnSpPr>
          <p:cNvPr id="420" name=""/>
          <p:cNvCxnSpPr>
            <a:stCxn id="414" idx="7"/>
            <a:endCxn id="418" idx="0"/>
          </p:cNvCxnSpPr>
          <p:nvPr/>
        </p:nvCxnSpPr>
        <p:spPr>
          <a:xfrm flipH="1" flipV="1" rot="5400000">
            <a:off x="8163720" y="2543040"/>
            <a:ext cx="79920" cy="1321200"/>
          </a:xfrm>
          <a:prstGeom prst="curvedConnector5">
            <a:avLst>
              <a:gd name="adj1" fmla="val 715837"/>
              <a:gd name="adj2" fmla="val 49986"/>
              <a:gd name="adj3" fmla="val 715837"/>
            </a:avLst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21" name=""/>
          <p:cNvCxnSpPr>
            <a:stCxn id="415" idx="7"/>
            <a:endCxn id="418" idx="0"/>
          </p:cNvCxnSpPr>
          <p:nvPr/>
        </p:nvCxnSpPr>
        <p:spPr>
          <a:xfrm flipH="1" flipV="1" rot="5400000">
            <a:off x="7804440" y="2183040"/>
            <a:ext cx="79920" cy="2040840"/>
          </a:xfrm>
          <a:prstGeom prst="curvedConnector5">
            <a:avLst>
              <a:gd name="adj1" fmla="val 871945"/>
              <a:gd name="adj2" fmla="val 50000"/>
              <a:gd name="adj3" fmla="val 871945"/>
            </a:avLst>
          </a:prstGeom>
          <a:ln w="12600">
            <a:solidFill>
              <a:srgbClr val="58585a"/>
            </a:solidFill>
            <a:miter/>
          </a:ln>
        </p:spPr>
      </p:cxnSp>
      <p:grpSp>
        <p:nvGrpSpPr>
          <p:cNvPr id="422" name=""/>
          <p:cNvGrpSpPr/>
          <p:nvPr/>
        </p:nvGrpSpPr>
        <p:grpSpPr>
          <a:xfrm>
            <a:off x="8330760" y="3225960"/>
            <a:ext cx="141120" cy="187560"/>
            <a:chOff x="8330760" y="3225960"/>
            <a:chExt cx="141120" cy="187560"/>
          </a:xfrm>
        </p:grpSpPr>
        <p:sp>
          <p:nvSpPr>
            <p:cNvPr id="423" name=""/>
            <p:cNvSpPr/>
            <p:nvPr/>
          </p:nvSpPr>
          <p:spPr>
            <a:xfrm flipH="1">
              <a:off x="8330760" y="3225960"/>
              <a:ext cx="141120" cy="171720"/>
            </a:xfrm>
            <a:prstGeom prst="line">
              <a:avLst/>
            </a:prstGeom>
            <a:ln w="19080">
              <a:solidFill>
                <a:srgbClr val="e321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56320" y="3233160"/>
              <a:ext cx="104040" cy="180360"/>
            </a:xfrm>
            <a:prstGeom prst="line">
              <a:avLst/>
            </a:prstGeom>
            <a:ln w="19080">
              <a:solidFill>
                <a:srgbClr val="e321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7467480" y="3427560"/>
            <a:ext cx="649440" cy="323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8585a"/>
                </a:solidFill>
                <a:latin typeface="Arial"/>
              </a:rPr>
              <a:t>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6711840" y="3427560"/>
            <a:ext cx="649440" cy="323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8585a"/>
                </a:solidFill>
                <a:latin typeface="Arial"/>
              </a:rPr>
              <a:t>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7589880" y="3068640"/>
            <a:ext cx="177840" cy="216000"/>
          </a:xfrm>
          <a:custGeom>
            <a:avLst/>
            <a:gdLst/>
            <a:ahLst/>
            <a:rect l="l" t="t" r="r" b="b"/>
            <a:pathLst>
              <a:path w="75" h="91">
                <a:moveTo>
                  <a:pt x="45" y="91"/>
                </a:moveTo>
                <a:cubicBezTo>
                  <a:pt x="60" y="75"/>
                  <a:pt x="75" y="60"/>
                  <a:pt x="68" y="45"/>
                </a:cubicBezTo>
                <a:cubicBezTo>
                  <a:pt x="61" y="30"/>
                  <a:pt x="30" y="15"/>
                  <a:pt x="0" y="0"/>
                </a:cubicBezTo>
              </a:path>
            </a:pathLst>
          </a:custGeom>
          <a:noFill/>
          <a:ln w="19080">
            <a:solidFill>
              <a:srgbClr val="e3211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8028000" y="4832280"/>
            <a:ext cx="216000" cy="21744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7343640" y="4832280"/>
            <a:ext cx="216000" cy="217440"/>
          </a:xfrm>
          <a:prstGeom prst="ellipse">
            <a:avLst/>
          </a:prstGeom>
          <a:solidFill>
            <a:srgbClr val="e32119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6624720" y="4832280"/>
            <a:ext cx="215640" cy="21744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8585a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431" name=""/>
          <p:cNvCxnSpPr>
            <a:stCxn id="430" idx="6"/>
            <a:endCxn id="429" idx="2"/>
          </p:cNvCxnSpPr>
          <p:nvPr/>
        </p:nvCxnSpPr>
        <p:spPr>
          <a:xfrm>
            <a:off x="6840360" y="4941360"/>
            <a:ext cx="504000" cy="1080"/>
          </a:xfrm>
          <a:prstGeom prst="straightConnector1">
            <a:avLst/>
          </a:prstGeom>
          <a:ln w="19080">
            <a:solidFill>
              <a:srgbClr val="58585a"/>
            </a:solidFill>
            <a:miter/>
          </a:ln>
        </p:spPr>
      </p:cxnSp>
      <p:cxnSp>
        <p:nvCxnSpPr>
          <p:cNvPr id="432" name=""/>
          <p:cNvCxnSpPr>
            <a:stCxn id="429" idx="6"/>
            <a:endCxn id="428" idx="2"/>
          </p:cNvCxnSpPr>
          <p:nvPr/>
        </p:nvCxnSpPr>
        <p:spPr>
          <a:xfrm>
            <a:off x="7559280" y="4941360"/>
            <a:ext cx="469080" cy="1080"/>
          </a:xfrm>
          <a:prstGeom prst="straightConnector1">
            <a:avLst/>
          </a:prstGeom>
          <a:ln w="19080">
            <a:solidFill>
              <a:srgbClr val="58585a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8566920" y="4784760"/>
            <a:ext cx="5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Des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434" name=""/>
          <p:cNvCxnSpPr>
            <a:stCxn id="428" idx="6"/>
            <a:endCxn id="433" idx="1"/>
          </p:cNvCxnSpPr>
          <p:nvPr/>
        </p:nvCxnSpPr>
        <p:spPr>
          <a:xfrm>
            <a:off x="8243640" y="4941360"/>
            <a:ext cx="324360" cy="11880"/>
          </a:xfrm>
          <a:prstGeom prst="straightConnector1">
            <a:avLst/>
          </a:prstGeom>
          <a:ln w="19080">
            <a:solidFill>
              <a:srgbClr val="58585a"/>
            </a:solidFill>
            <a:prstDash val="sysDot"/>
            <a:miter/>
          </a:ln>
        </p:spPr>
      </p:cxnSp>
      <p:cxnSp>
        <p:nvCxnSpPr>
          <p:cNvPr id="435" name=""/>
          <p:cNvCxnSpPr>
            <a:stCxn id="429" idx="5"/>
            <a:endCxn id="433" idx="2"/>
          </p:cNvCxnSpPr>
          <p:nvPr/>
        </p:nvCxnSpPr>
        <p:spPr>
          <a:xfrm flipH="1" rot="16200000">
            <a:off x="8135280" y="4408920"/>
            <a:ext cx="104040" cy="1321200"/>
          </a:xfrm>
          <a:prstGeom prst="curvedConnector5">
            <a:avLst>
              <a:gd name="adj1" fmla="val 409027"/>
              <a:gd name="adj2" fmla="val 49986"/>
              <a:gd name="adj3" fmla="val 409027"/>
            </a:avLst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36" name=""/>
          <p:cNvCxnSpPr>
            <a:stCxn id="430" idx="5"/>
            <a:endCxn id="433" idx="2"/>
          </p:cNvCxnSpPr>
          <p:nvPr/>
        </p:nvCxnSpPr>
        <p:spPr>
          <a:xfrm flipH="1" rot="16200000">
            <a:off x="7776000" y="4049280"/>
            <a:ext cx="104040" cy="2040840"/>
          </a:xfrm>
          <a:prstGeom prst="curvedConnector5">
            <a:avLst>
              <a:gd name="adj1" fmla="val 581250"/>
              <a:gd name="adj2" fmla="val 50000"/>
              <a:gd name="adj3" fmla="val 581250"/>
            </a:avLst>
          </a:prstGeom>
          <a:ln w="12600">
            <a:solidFill>
              <a:srgbClr val="58585a"/>
            </a:solidFill>
            <a:miter/>
          </a:ln>
        </p:spPr>
      </p:cxnSp>
      <p:grpSp>
        <p:nvGrpSpPr>
          <p:cNvPr id="437" name=""/>
          <p:cNvGrpSpPr/>
          <p:nvPr/>
        </p:nvGrpSpPr>
        <p:grpSpPr>
          <a:xfrm>
            <a:off x="8314920" y="4846680"/>
            <a:ext cx="141120" cy="187560"/>
            <a:chOff x="8314920" y="4846680"/>
            <a:chExt cx="141120" cy="187560"/>
          </a:xfrm>
        </p:grpSpPr>
        <p:sp>
          <p:nvSpPr>
            <p:cNvPr id="438" name=""/>
            <p:cNvSpPr/>
            <p:nvPr/>
          </p:nvSpPr>
          <p:spPr>
            <a:xfrm flipH="1">
              <a:off x="8314920" y="4846680"/>
              <a:ext cx="141120" cy="171720"/>
            </a:xfrm>
            <a:prstGeom prst="line">
              <a:avLst/>
            </a:prstGeom>
            <a:ln w="19080">
              <a:solidFill>
                <a:srgbClr val="e321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40480" y="4853880"/>
              <a:ext cx="104040" cy="180360"/>
            </a:xfrm>
            <a:prstGeom prst="line">
              <a:avLst/>
            </a:prstGeom>
            <a:ln w="19080">
              <a:solidFill>
                <a:srgbClr val="e321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451640" y="4389480"/>
            <a:ext cx="649440" cy="323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8585a"/>
                </a:solidFill>
                <a:latin typeface="Arial"/>
              </a:rPr>
              <a:t>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6696000" y="4389480"/>
            <a:ext cx="649440" cy="323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8585a"/>
                </a:solidFill>
                <a:latin typeface="Arial"/>
              </a:rPr>
              <a:t>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877080" y="4976640"/>
            <a:ext cx="177840" cy="216000"/>
          </a:xfrm>
          <a:custGeom>
            <a:avLst/>
            <a:gdLst/>
            <a:ahLst/>
            <a:rect l="l" t="t" r="r" b="b"/>
            <a:pathLst>
              <a:path w="75" h="91">
                <a:moveTo>
                  <a:pt x="45" y="91"/>
                </a:moveTo>
                <a:cubicBezTo>
                  <a:pt x="60" y="75"/>
                  <a:pt x="75" y="60"/>
                  <a:pt x="68" y="45"/>
                </a:cubicBezTo>
                <a:cubicBezTo>
                  <a:pt x="61" y="30"/>
                  <a:pt x="30" y="15"/>
                  <a:pt x="0" y="0"/>
                </a:cubicBezTo>
              </a:path>
            </a:pathLst>
          </a:custGeom>
          <a:noFill/>
          <a:ln w="19080">
            <a:solidFill>
              <a:srgbClr val="e3211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7231680" y="4624560"/>
            <a:ext cx="5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585a"/>
                </a:solidFill>
                <a:latin typeface="Arial"/>
              </a:rPr>
              <a:t>legacy</a:t>
            </a:r>
            <a:endParaRPr b="0" lang="en-US" sz="10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511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ast Notification based IPFR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s feasibl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has good performanc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uses the same paths as detours that the IGP will use after global re-convergence (reducing micro-looping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omplete coverage fo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ll single link,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ll single node an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ll single SRLG (local and remote) failures and fo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 reasonable number of pre-configured multiple failure cases deemed important by the operato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8585a"/>
                </a:solidFill>
                <a:latin typeface="Arial"/>
              </a:rPr>
              <a:t>Does not require total network upgrade to show benefi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8585a"/>
                </a:solidFill>
                <a:latin typeface="Arial"/>
              </a:rPr>
              <a:t>SIMPLE TO GRASP: just let the routing engine pre-do what it would anyway do after the failure!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pplicable t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LDP-MPLS: liberal label retention + downstream unsolicited mod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L2VPN and L3VPN PE protec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SBR protec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45920" y="2433600"/>
            <a:ext cx="77914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58585a"/>
                </a:solidFill>
                <a:latin typeface="Times New Roman"/>
              </a:rPr>
              <a:t>BACKUP</a:t>
            </a:r>
            <a:endParaRPr b="0" lang="en-US" sz="142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93840" y="199080"/>
            <a:ext cx="782640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E2E Packet Flow Impact</a:t>
            </a:r>
            <a:br>
              <a:rPr sz="32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Scenario 2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raffic flow: 1 pkt / m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Varying delay of bold link (D) and</a:t>
            </a:r>
            <a:br>
              <a:rPr sz="2400"/>
            </a:b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    length of ring (n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642000" y="3036960"/>
            <a:ext cx="495360" cy="269640"/>
          </a:xfrm>
          <a:prstGeom prst="roundRect">
            <a:avLst>
              <a:gd name="adj" fmla="val 166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642000" y="4206960"/>
            <a:ext cx="495360" cy="269640"/>
          </a:xfrm>
          <a:prstGeom prst="roundRect">
            <a:avLst>
              <a:gd name="adj" fmla="val 16667"/>
            </a:avLst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7272360" y="492588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8040600" y="492588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8532720" y="429732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8532720" y="267804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n-2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7861320" y="213660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n-1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6958080" y="2136600"/>
            <a:ext cx="35856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8532720" y="3487680"/>
            <a:ext cx="358920" cy="358920"/>
          </a:xfrm>
          <a:prstGeom prst="ellipse">
            <a:avLst/>
          </a:prstGeom>
          <a:solidFill>
            <a:srgbClr val="89ba17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458" name=""/>
          <p:cNvCxnSpPr>
            <a:stCxn id="449" idx="2"/>
            <a:endCxn id="450" idx="0"/>
          </p:cNvCxnSpPr>
          <p:nvPr/>
        </p:nvCxnSpPr>
        <p:spPr>
          <a:xfrm>
            <a:off x="6889320" y="3306240"/>
            <a:ext cx="1080" cy="901080"/>
          </a:xfrm>
          <a:prstGeom prst="straightConnector1">
            <a:avLst/>
          </a:prstGeom>
          <a:ln w="76320">
            <a:solidFill>
              <a:srgbClr val="58585a"/>
            </a:solidFill>
            <a:miter/>
          </a:ln>
        </p:spPr>
      </p:cxnSp>
      <p:cxnSp>
        <p:nvCxnSpPr>
          <p:cNvPr id="459" name=""/>
          <p:cNvCxnSpPr>
            <a:stCxn id="450" idx="2"/>
            <a:endCxn id="451" idx="1"/>
          </p:cNvCxnSpPr>
          <p:nvPr/>
        </p:nvCxnSpPr>
        <p:spPr>
          <a:xfrm>
            <a:off x="6889680" y="4476600"/>
            <a:ext cx="435600" cy="5025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60" name=""/>
          <p:cNvCxnSpPr>
            <a:stCxn id="451" idx="6"/>
            <a:endCxn id="452" idx="2"/>
          </p:cNvCxnSpPr>
          <p:nvPr/>
        </p:nvCxnSpPr>
        <p:spPr>
          <a:xfrm>
            <a:off x="7630920" y="5105160"/>
            <a:ext cx="41004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61" name=""/>
          <p:cNvCxnSpPr>
            <a:stCxn id="452" idx="7"/>
            <a:endCxn id="453" idx="3"/>
          </p:cNvCxnSpPr>
          <p:nvPr/>
        </p:nvCxnSpPr>
        <p:spPr>
          <a:xfrm flipV="1">
            <a:off x="8346960" y="4602960"/>
            <a:ext cx="239040" cy="3754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62" name=""/>
          <p:cNvCxnSpPr>
            <a:stCxn id="453" idx="0"/>
            <a:endCxn id="457" idx="4"/>
          </p:cNvCxnSpPr>
          <p:nvPr/>
        </p:nvCxnSpPr>
        <p:spPr>
          <a:xfrm flipV="1">
            <a:off x="8712000" y="3846240"/>
            <a:ext cx="1080" cy="451440"/>
          </a:xfrm>
          <a:prstGeom prst="straightConnector1">
            <a:avLst/>
          </a:prstGeom>
          <a:ln w="12600">
            <a:solidFill>
              <a:srgbClr val="58585a"/>
            </a:solidFill>
            <a:prstDash val="dash"/>
            <a:miter/>
          </a:ln>
        </p:spPr>
      </p:cxnSp>
      <p:cxnSp>
        <p:nvCxnSpPr>
          <p:cNvPr id="463" name=""/>
          <p:cNvCxnSpPr>
            <a:stCxn id="457" idx="0"/>
            <a:endCxn id="454" idx="4"/>
          </p:cNvCxnSpPr>
          <p:nvPr/>
        </p:nvCxnSpPr>
        <p:spPr>
          <a:xfrm flipV="1">
            <a:off x="8712000" y="3036600"/>
            <a:ext cx="1080" cy="451440"/>
          </a:xfrm>
          <a:prstGeom prst="straightConnector1">
            <a:avLst/>
          </a:prstGeom>
          <a:ln w="12600">
            <a:solidFill>
              <a:srgbClr val="58585a"/>
            </a:solidFill>
            <a:prstDash val="dash"/>
            <a:miter/>
          </a:ln>
        </p:spPr>
      </p:cxnSp>
      <p:cxnSp>
        <p:nvCxnSpPr>
          <p:cNvPr id="464" name=""/>
          <p:cNvCxnSpPr>
            <a:stCxn id="454" idx="1"/>
            <a:endCxn id="455" idx="5"/>
          </p:cNvCxnSpPr>
          <p:nvPr/>
        </p:nvCxnSpPr>
        <p:spPr>
          <a:xfrm flipH="1" flipV="1">
            <a:off x="8167320" y="2442960"/>
            <a:ext cx="418320" cy="2880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65" name=""/>
          <p:cNvCxnSpPr>
            <a:stCxn id="455" idx="2"/>
            <a:endCxn id="456" idx="6"/>
          </p:cNvCxnSpPr>
          <p:nvPr/>
        </p:nvCxnSpPr>
        <p:spPr>
          <a:xfrm flipH="1">
            <a:off x="7315920" y="2315880"/>
            <a:ext cx="54540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466" name=""/>
          <p:cNvCxnSpPr>
            <a:stCxn id="456" idx="3"/>
            <a:endCxn id="449" idx="0"/>
          </p:cNvCxnSpPr>
          <p:nvPr/>
        </p:nvCxnSpPr>
        <p:spPr>
          <a:xfrm flipH="1">
            <a:off x="6888960" y="2442960"/>
            <a:ext cx="121320" cy="5943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5624280" y="3446640"/>
            <a:ext cx="124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Delay=Dms</a:t>
            </a:r>
            <a:br>
              <a:rPr sz="16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000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6040800" y="4522680"/>
            <a:ext cx="119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   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7361640" y="528480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5964480" y="244332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 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7357680" y="2406600"/>
            <a:ext cx="124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    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7066440" y="1619280"/>
            <a:ext cx="104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lay=1m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st=1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7227720" y="2624040"/>
            <a:ext cx="1214640" cy="2235240"/>
          </a:xfrm>
          <a:custGeom>
            <a:avLst/>
            <a:gdLst/>
            <a:ahLst/>
            <a:rect l="l" t="t" r="r" b="b"/>
            <a:pathLst>
              <a:path w="765" h="1408">
                <a:moveTo>
                  <a:pt x="56" y="1111"/>
                </a:moveTo>
                <a:cubicBezTo>
                  <a:pt x="129" y="1217"/>
                  <a:pt x="203" y="1324"/>
                  <a:pt x="283" y="1366"/>
                </a:cubicBezTo>
                <a:cubicBezTo>
                  <a:pt x="363" y="1408"/>
                  <a:pt x="467" y="1408"/>
                  <a:pt x="538" y="1366"/>
                </a:cubicBezTo>
                <a:cubicBezTo>
                  <a:pt x="609" y="1324"/>
                  <a:pt x="680" y="1229"/>
                  <a:pt x="708" y="1111"/>
                </a:cubicBezTo>
                <a:cubicBezTo>
                  <a:pt x="736" y="993"/>
                  <a:pt x="708" y="799"/>
                  <a:pt x="708" y="657"/>
                </a:cubicBezTo>
                <a:cubicBezTo>
                  <a:pt x="708" y="515"/>
                  <a:pt x="765" y="350"/>
                  <a:pt x="708" y="260"/>
                </a:cubicBezTo>
                <a:cubicBezTo>
                  <a:pt x="651" y="170"/>
                  <a:pt x="462" y="156"/>
                  <a:pt x="368" y="118"/>
                </a:cubicBezTo>
                <a:cubicBezTo>
                  <a:pt x="274" y="80"/>
                  <a:pt x="202" y="0"/>
                  <a:pt x="141" y="33"/>
                </a:cubicBezTo>
                <a:cubicBezTo>
                  <a:pt x="80" y="66"/>
                  <a:pt x="40" y="191"/>
                  <a:pt x="0" y="317"/>
                </a:cubicBezTo>
              </a:path>
            </a:pathLst>
          </a:custGeom>
          <a:noFill/>
          <a:ln w="38160">
            <a:solidFill>
              <a:srgbClr val="89ba1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7150320" y="3397320"/>
            <a:ext cx="11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ba17"/>
                </a:solidFill>
                <a:latin typeface="Arial"/>
              </a:rPr>
              <a:t>Default path</a:t>
            </a:r>
            <a:endParaRPr b="0" lang="en-US" sz="1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 rot="17103000">
            <a:off x="6724800" y="2346120"/>
            <a:ext cx="4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32119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272360" y="3164040"/>
            <a:ext cx="0" cy="1125360"/>
          </a:xfrm>
          <a:prstGeom prst="line">
            <a:avLst/>
          </a:prstGeom>
          <a:ln w="38160">
            <a:solidFill>
              <a:srgbClr val="e32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2876400"/>
          <a:ext cx="5600880" cy="32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76400"/>
                    <a:ext cx="560088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 rot="20527800">
            <a:off x="3351240" y="3277800"/>
            <a:ext cx="1517760" cy="70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cket los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ow 25ms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45520" y="2061720"/>
            <a:ext cx="317520" cy="198720"/>
            <a:chOff x="7445520" y="2061720"/>
            <a:chExt cx="317520" cy="198720"/>
          </a:xfrm>
        </p:grpSpPr>
        <p:sp>
          <p:nvSpPr>
            <p:cNvPr id="481" name=""/>
            <p:cNvSpPr/>
            <p:nvPr/>
          </p:nvSpPr>
          <p:spPr>
            <a:xfrm>
              <a:off x="7445520" y="2259000"/>
              <a:ext cx="3175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5360" bIns="-4536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77200" y="20617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8303760" y="2322000"/>
            <a:ext cx="304920" cy="324360"/>
            <a:chOff x="8303760" y="2322000"/>
            <a:chExt cx="304920" cy="324360"/>
          </a:xfrm>
        </p:grpSpPr>
        <p:sp>
          <p:nvSpPr>
            <p:cNvPr id="484" name=""/>
            <p:cNvSpPr/>
            <p:nvPr/>
          </p:nvSpPr>
          <p:spPr>
            <a:xfrm>
              <a:off x="8303760" y="2468160"/>
              <a:ext cx="262440" cy="178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2036400">
              <a:off x="8371800" y="23630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8771040" y="3103560"/>
            <a:ext cx="223560" cy="317520"/>
            <a:chOff x="8771040" y="3103560"/>
            <a:chExt cx="223560" cy="317520"/>
          </a:xfrm>
        </p:grpSpPr>
        <p:sp>
          <p:nvSpPr>
            <p:cNvPr id="487" name=""/>
            <p:cNvSpPr/>
            <p:nvPr/>
          </p:nvSpPr>
          <p:spPr>
            <a:xfrm flipH="1">
              <a:off x="8771040" y="3103560"/>
              <a:ext cx="144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791560" y="314460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8771040" y="3946680"/>
            <a:ext cx="223560" cy="317520"/>
            <a:chOff x="8771040" y="3946680"/>
            <a:chExt cx="223560" cy="317520"/>
          </a:xfrm>
        </p:grpSpPr>
        <p:sp>
          <p:nvSpPr>
            <p:cNvPr id="490" name=""/>
            <p:cNvSpPr/>
            <p:nvPr/>
          </p:nvSpPr>
          <p:spPr>
            <a:xfrm flipH="1">
              <a:off x="8771040" y="3946680"/>
              <a:ext cx="144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791560" y="398736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8427600" y="4689360"/>
            <a:ext cx="338760" cy="307080"/>
            <a:chOff x="8427600" y="4689360"/>
            <a:chExt cx="338760" cy="307080"/>
          </a:xfrm>
        </p:grpSpPr>
        <p:sp>
          <p:nvSpPr>
            <p:cNvPr id="493" name=""/>
            <p:cNvSpPr/>
            <p:nvPr/>
          </p:nvSpPr>
          <p:spPr>
            <a:xfrm flipH="1">
              <a:off x="8427600" y="4689360"/>
              <a:ext cx="161280" cy="27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800000">
              <a:off x="8531280" y="477468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657920" y="5163480"/>
            <a:ext cx="317160" cy="202320"/>
            <a:chOff x="7657920" y="5163480"/>
            <a:chExt cx="317160" cy="202320"/>
          </a:xfrm>
        </p:grpSpPr>
        <p:sp>
          <p:nvSpPr>
            <p:cNvPr id="496" name=""/>
            <p:cNvSpPr/>
            <p:nvPr/>
          </p:nvSpPr>
          <p:spPr>
            <a:xfrm flipH="1" flipV="1">
              <a:off x="7657920" y="5163480"/>
              <a:ext cx="317160" cy="2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3920" bIns="-4392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40720" y="51829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7104240" y="4606560"/>
            <a:ext cx="339480" cy="210240"/>
            <a:chOff x="7104240" y="4606560"/>
            <a:chExt cx="339480" cy="210240"/>
          </a:xfrm>
        </p:grpSpPr>
        <p:sp>
          <p:nvSpPr>
            <p:cNvPr id="499" name=""/>
            <p:cNvSpPr/>
            <p:nvPr/>
          </p:nvSpPr>
          <p:spPr>
            <a:xfrm flipH="1" flipV="1">
              <a:off x="7104240" y="4628880"/>
              <a:ext cx="168840" cy="187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40680" y="460656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FN</a:t>
              </a:r>
              <a:endParaRPr b="0" lang="en-US" sz="12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</p:spTree>
  </p:cSld>
  <p:transition>
    <p:pull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4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8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2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5108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IP &amp; LDP based on hop-by-hop forwardin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onsistency between hops ensured by IG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A failure creates inconsistenc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Wait for IGP global reconvergence (slow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Temporarily use faster means to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notify changed routing configur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ncode information into data packet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(bits, encaps, label change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ncode info into packet direction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(interface specific forwarding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xplicit notification not allowed due to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fears of slow performanc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02640" y="243360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8486640" y="344160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7839000" y="452124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7118280" y="304488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118280" y="3836880"/>
            <a:ext cx="360360" cy="3603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90" name=""/>
          <p:cNvCxnSpPr>
            <a:stCxn id="88" idx="7"/>
            <a:endCxn id="85" idx="3"/>
          </p:cNvCxnSpPr>
          <p:nvPr/>
        </p:nvCxnSpPr>
        <p:spPr>
          <a:xfrm flipV="1">
            <a:off x="7426440" y="2741040"/>
            <a:ext cx="429120" cy="35604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91" name=""/>
          <p:cNvCxnSpPr>
            <a:stCxn id="85" idx="5"/>
            <a:endCxn id="86" idx="1"/>
          </p:cNvCxnSpPr>
          <p:nvPr/>
        </p:nvCxnSpPr>
        <p:spPr>
          <a:xfrm>
            <a:off x="8110080" y="2741760"/>
            <a:ext cx="429480" cy="75312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92" name=""/>
          <p:cNvCxnSpPr>
            <a:stCxn id="86" idx="4"/>
            <a:endCxn id="87" idx="7"/>
          </p:cNvCxnSpPr>
          <p:nvPr/>
        </p:nvCxnSpPr>
        <p:spPr>
          <a:xfrm flipH="1">
            <a:off x="8146800" y="3801600"/>
            <a:ext cx="521280" cy="77220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93" name=""/>
          <p:cNvCxnSpPr>
            <a:stCxn id="87" idx="1"/>
            <a:endCxn id="89" idx="5"/>
          </p:cNvCxnSpPr>
          <p:nvPr/>
        </p:nvCxnSpPr>
        <p:spPr>
          <a:xfrm flipH="1" flipV="1">
            <a:off x="7426080" y="4144680"/>
            <a:ext cx="465840" cy="42912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cxnSp>
        <p:nvCxnSpPr>
          <p:cNvPr id="94" name=""/>
          <p:cNvCxnSpPr>
            <a:stCxn id="88" idx="4"/>
            <a:endCxn id="89" idx="0"/>
          </p:cNvCxnSpPr>
          <p:nvPr/>
        </p:nvCxnSpPr>
        <p:spPr>
          <a:xfrm>
            <a:off x="7299000" y="3404880"/>
            <a:ext cx="1080" cy="432360"/>
          </a:xfrm>
          <a:prstGeom prst="straightConnector1">
            <a:avLst/>
          </a:prstGeom>
          <a:ln w="9360">
            <a:solidFill>
              <a:srgbClr val="58585a"/>
            </a:solidFill>
            <a:miter/>
          </a:ln>
        </p:spPr>
      </p:cxnSp>
      <p:grpSp>
        <p:nvGrpSpPr>
          <p:cNvPr id="95" name=""/>
          <p:cNvGrpSpPr/>
          <p:nvPr/>
        </p:nvGrpSpPr>
        <p:grpSpPr>
          <a:xfrm>
            <a:off x="8163000" y="2973240"/>
            <a:ext cx="287280" cy="287280"/>
            <a:chOff x="8163000" y="2973240"/>
            <a:chExt cx="287280" cy="287280"/>
          </a:xfrm>
        </p:grpSpPr>
        <p:sp>
          <p:nvSpPr>
            <p:cNvPr id="96" name=""/>
            <p:cNvSpPr/>
            <p:nvPr/>
          </p:nvSpPr>
          <p:spPr>
            <a:xfrm flipH="1">
              <a:off x="8163000" y="3044520"/>
              <a:ext cx="287280" cy="108000"/>
            </a:xfrm>
            <a:prstGeom prst="line">
              <a:avLst/>
            </a:prstGeom>
            <a:ln w="190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07360" y="2973240"/>
              <a:ext cx="0" cy="287280"/>
            </a:xfrm>
            <a:prstGeom prst="line">
              <a:avLst/>
            </a:prstGeom>
            <a:ln w="190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8234280" y="2505240"/>
            <a:ext cx="763560" cy="2303280"/>
          </a:xfrm>
          <a:custGeom>
            <a:avLst/>
            <a:gdLst/>
            <a:ahLst/>
            <a:rect l="l" t="t" r="r" b="b"/>
            <a:pathLst>
              <a:path w="481" h="1451">
                <a:moveTo>
                  <a:pt x="23" y="1451"/>
                </a:moveTo>
                <a:cubicBezTo>
                  <a:pt x="252" y="1220"/>
                  <a:pt x="481" y="990"/>
                  <a:pt x="477" y="748"/>
                </a:cubicBezTo>
                <a:cubicBezTo>
                  <a:pt x="473" y="506"/>
                  <a:pt x="236" y="253"/>
                  <a:pt x="0" y="0"/>
                </a:cubicBezTo>
              </a:path>
            </a:pathLst>
          </a:custGeom>
          <a:noFill/>
          <a:ln w="9360">
            <a:solidFill>
              <a:srgbClr val="58585a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161920" y="1743120"/>
            <a:ext cx="903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Default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shortest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113680" y="3824280"/>
            <a:ext cx="636480" cy="781200"/>
          </a:xfrm>
          <a:custGeom>
            <a:avLst/>
            <a:gdLst/>
            <a:ahLst/>
            <a:rect l="l" t="t" r="r" b="b"/>
            <a:pathLst>
              <a:path w="401" h="492">
                <a:moveTo>
                  <a:pt x="212" y="31"/>
                </a:moveTo>
                <a:cubicBezTo>
                  <a:pt x="145" y="108"/>
                  <a:pt x="79" y="186"/>
                  <a:pt x="53" y="258"/>
                </a:cubicBezTo>
                <a:cubicBezTo>
                  <a:pt x="27" y="330"/>
                  <a:pt x="0" y="492"/>
                  <a:pt x="53" y="462"/>
                </a:cubicBezTo>
                <a:cubicBezTo>
                  <a:pt x="106" y="432"/>
                  <a:pt x="341" y="152"/>
                  <a:pt x="371" y="76"/>
                </a:cubicBezTo>
                <a:cubicBezTo>
                  <a:pt x="401" y="0"/>
                  <a:pt x="318" y="4"/>
                  <a:pt x="235" y="8"/>
                </a:cubicBezTo>
              </a:path>
            </a:pathLst>
          </a:custGeom>
          <a:noFill/>
          <a:ln w="38160">
            <a:solidFill>
              <a:srgbClr val="58585a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408440" y="3279600"/>
            <a:ext cx="10281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Without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any info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in S: loop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401400" y="3903480"/>
            <a:ext cx="1644840" cy="67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llusion of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ocal repair!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833400" y="3606840"/>
            <a:ext cx="228600" cy="1238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040 h 1238040"/>
              <a:gd name="textAreaBottom" fmla="*/ 1206000 h 123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653080" y="2809800"/>
            <a:ext cx="671400" cy="1413000"/>
          </a:xfrm>
          <a:custGeom>
            <a:avLst/>
            <a:gdLst/>
            <a:ahLst/>
            <a:rect l="l" t="t" r="r" b="b"/>
            <a:pathLst>
              <a:path w="423" h="890">
                <a:moveTo>
                  <a:pt x="0" y="0"/>
                </a:moveTo>
                <a:cubicBezTo>
                  <a:pt x="152" y="167"/>
                  <a:pt x="305" y="335"/>
                  <a:pt x="364" y="483"/>
                </a:cubicBezTo>
                <a:cubicBezTo>
                  <a:pt x="423" y="631"/>
                  <a:pt x="356" y="821"/>
                  <a:pt x="356" y="89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746680" y="4491000"/>
            <a:ext cx="430200" cy="995400"/>
          </a:xfrm>
          <a:custGeom>
            <a:avLst/>
            <a:gdLst/>
            <a:ahLst/>
            <a:rect l="l" t="t" r="r" b="b"/>
            <a:pathLst>
              <a:path w="271" h="627">
                <a:moveTo>
                  <a:pt x="0" y="627"/>
                </a:moveTo>
                <a:cubicBezTo>
                  <a:pt x="87" y="581"/>
                  <a:pt x="175" y="536"/>
                  <a:pt x="220" y="432"/>
                </a:cubicBezTo>
                <a:cubicBezTo>
                  <a:pt x="265" y="328"/>
                  <a:pt x="268" y="164"/>
                  <a:pt x="271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564520" y="415764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ny difference?</a:t>
            </a:r>
            <a:endParaRPr b="0" lang="en-US" sz="18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3840" y="199080"/>
            <a:ext cx="782640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FIB Update on Linecard from Backup DB</a:t>
            </a:r>
            <a:br>
              <a:rPr sz="32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See numbers’ origin on slide 8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96720" y="5086080"/>
            <a:ext cx="8352000" cy="13986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50k memory transaction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ssuming DRAM with 5MT/sec, and 1 memory controller: 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10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85920" y="2205000"/>
            <a:ext cx="718920" cy="449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Route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2006640" y="2205000"/>
            <a:ext cx="718920" cy="449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Route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727360" y="2205000"/>
            <a:ext cx="719280" cy="449280"/>
          </a:xfrm>
          <a:prstGeom prst="rect">
            <a:avLst/>
          </a:prstGeom>
          <a:noFill/>
          <a:ln cap="rnd" w="12600">
            <a:solidFill>
              <a:srgbClr val="58585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446640" y="2205000"/>
            <a:ext cx="718920" cy="449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Route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4167360" y="2205000"/>
            <a:ext cx="718920" cy="449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Route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4888080" y="2205000"/>
            <a:ext cx="718920" cy="449280"/>
          </a:xfrm>
          <a:prstGeom prst="rect">
            <a:avLst/>
          </a:prstGeom>
          <a:noFill/>
          <a:ln cap="rnd" w="12600">
            <a:solidFill>
              <a:srgbClr val="58585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5607000" y="2205000"/>
            <a:ext cx="719280" cy="449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Route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2613600" y="606600"/>
            <a:ext cx="225720" cy="2881440"/>
          </a:xfrm>
          <a:custGeom>
            <a:avLst/>
            <a:gdLst>
              <a:gd name="textAreaLeft" fmla="*/ 0 w 225720"/>
              <a:gd name="textAreaRight" fmla="*/ 81360 w 22572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34"/>
                </a:lnTo>
                <a:cubicBezTo>
                  <a:pt x="10800" y="9834"/>
                  <a:pt x="16200" y="10734"/>
                  <a:pt x="21600" y="10734"/>
                </a:cubicBezTo>
                <a:cubicBezTo>
                  <a:pt x="16200" y="10734"/>
                  <a:pt x="10800" y="11634"/>
                  <a:pt x="10800" y="1253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1645920" y="1655640"/>
            <a:ext cx="21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intra-area destinations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 rot="16200000">
            <a:off x="5134680" y="967320"/>
            <a:ext cx="225720" cy="2160360"/>
          </a:xfrm>
          <a:custGeom>
            <a:avLst/>
            <a:gdLst>
              <a:gd name="textAreaLeft" fmla="*/ 0 w 225720"/>
              <a:gd name="textAreaRight" fmla="*/ 81360 w 22572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34"/>
                </a:lnTo>
                <a:cubicBezTo>
                  <a:pt x="10800" y="9834"/>
                  <a:pt x="16200" y="10734"/>
                  <a:pt x="21600" y="10734"/>
                </a:cubicBezTo>
                <a:cubicBezTo>
                  <a:pt x="16200" y="10734"/>
                  <a:pt x="10800" y="11634"/>
                  <a:pt x="10800" y="1253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4157640" y="1655640"/>
            <a:ext cx="20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external prefix groups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285920" y="3051000"/>
            <a:ext cx="718920" cy="503280"/>
            <a:chOff x="1285920" y="3051000"/>
            <a:chExt cx="718920" cy="503280"/>
          </a:xfrm>
        </p:grpSpPr>
        <p:sp>
          <p:nvSpPr>
            <p:cNvPr id="515" name=""/>
            <p:cNvSpPr/>
            <p:nvPr/>
          </p:nvSpPr>
          <p:spPr>
            <a:xfrm>
              <a:off x="1285920" y="305100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85920" y="305100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285920" y="3554280"/>
            <a:ext cx="718920" cy="503280"/>
            <a:chOff x="1285920" y="3554280"/>
            <a:chExt cx="718920" cy="503280"/>
          </a:xfrm>
        </p:grpSpPr>
        <p:sp>
          <p:nvSpPr>
            <p:cNvPr id="518" name=""/>
            <p:cNvSpPr/>
            <p:nvPr/>
          </p:nvSpPr>
          <p:spPr>
            <a:xfrm>
              <a:off x="1285920" y="355428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85920" y="355428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285920" y="4057560"/>
            <a:ext cx="718920" cy="503280"/>
            <a:chOff x="1285920" y="4057560"/>
            <a:chExt cx="718920" cy="503280"/>
          </a:xfrm>
        </p:grpSpPr>
        <p:sp>
          <p:nvSpPr>
            <p:cNvPr id="521" name=""/>
            <p:cNvSpPr/>
            <p:nvPr/>
          </p:nvSpPr>
          <p:spPr>
            <a:xfrm>
              <a:off x="1285920" y="405756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85920" y="405756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008080" y="3051000"/>
            <a:ext cx="718920" cy="503280"/>
            <a:chOff x="2008080" y="3051000"/>
            <a:chExt cx="718920" cy="503280"/>
          </a:xfrm>
        </p:grpSpPr>
        <p:sp>
          <p:nvSpPr>
            <p:cNvPr id="524" name=""/>
            <p:cNvSpPr/>
            <p:nvPr/>
          </p:nvSpPr>
          <p:spPr>
            <a:xfrm>
              <a:off x="2008080" y="305100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08080" y="305100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448080" y="3051000"/>
            <a:ext cx="718920" cy="503280"/>
            <a:chOff x="3448080" y="3051000"/>
            <a:chExt cx="718920" cy="503280"/>
          </a:xfrm>
        </p:grpSpPr>
        <p:sp>
          <p:nvSpPr>
            <p:cNvPr id="527" name=""/>
            <p:cNvSpPr/>
            <p:nvPr/>
          </p:nvSpPr>
          <p:spPr>
            <a:xfrm>
              <a:off x="3448080" y="305100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48080" y="305100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448080" y="3554280"/>
            <a:ext cx="718920" cy="503280"/>
            <a:chOff x="3448080" y="3554280"/>
            <a:chExt cx="718920" cy="503280"/>
          </a:xfrm>
        </p:grpSpPr>
        <p:sp>
          <p:nvSpPr>
            <p:cNvPr id="530" name=""/>
            <p:cNvSpPr/>
            <p:nvPr/>
          </p:nvSpPr>
          <p:spPr>
            <a:xfrm>
              <a:off x="3448080" y="355428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48080" y="355428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168800" y="3051000"/>
            <a:ext cx="718920" cy="503280"/>
            <a:chOff x="4168800" y="3051000"/>
            <a:chExt cx="718920" cy="503280"/>
          </a:xfrm>
        </p:grpSpPr>
        <p:sp>
          <p:nvSpPr>
            <p:cNvPr id="533" name=""/>
            <p:cNvSpPr/>
            <p:nvPr/>
          </p:nvSpPr>
          <p:spPr>
            <a:xfrm>
              <a:off x="4168800" y="305100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68800" y="305100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608800" y="3051000"/>
            <a:ext cx="718920" cy="503280"/>
            <a:chOff x="5608800" y="3051000"/>
            <a:chExt cx="718920" cy="503280"/>
          </a:xfrm>
        </p:grpSpPr>
        <p:sp>
          <p:nvSpPr>
            <p:cNvPr id="536" name=""/>
            <p:cNvSpPr/>
            <p:nvPr/>
          </p:nvSpPr>
          <p:spPr>
            <a:xfrm>
              <a:off x="5608800" y="305100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08800" y="305100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608800" y="3554280"/>
            <a:ext cx="718920" cy="503280"/>
            <a:chOff x="5608800" y="3554280"/>
            <a:chExt cx="718920" cy="503280"/>
          </a:xfrm>
        </p:grpSpPr>
        <p:sp>
          <p:nvSpPr>
            <p:cNvPr id="539" name=""/>
            <p:cNvSpPr/>
            <p:nvPr/>
          </p:nvSpPr>
          <p:spPr>
            <a:xfrm>
              <a:off x="5608800" y="355428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08800" y="355428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608800" y="4057560"/>
            <a:ext cx="718920" cy="503280"/>
            <a:chOff x="5608800" y="4057560"/>
            <a:chExt cx="718920" cy="503280"/>
          </a:xfrm>
        </p:grpSpPr>
        <p:sp>
          <p:nvSpPr>
            <p:cNvPr id="542" name=""/>
            <p:cNvSpPr/>
            <p:nvPr/>
          </p:nvSpPr>
          <p:spPr>
            <a:xfrm>
              <a:off x="5608800" y="405756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608800" y="405756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608800" y="4560840"/>
            <a:ext cx="718920" cy="503280"/>
            <a:chOff x="5608800" y="4560840"/>
            <a:chExt cx="718920" cy="503280"/>
          </a:xfrm>
        </p:grpSpPr>
        <p:sp>
          <p:nvSpPr>
            <p:cNvPr id="545" name=""/>
            <p:cNvSpPr/>
            <p:nvPr/>
          </p:nvSpPr>
          <p:spPr>
            <a:xfrm>
              <a:off x="5608800" y="4560840"/>
              <a:ext cx="718920" cy="50328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10800" anchor="b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Alt Rt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08800" y="4560840"/>
              <a:ext cx="718920" cy="25272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8585a"/>
                  </a:solidFill>
                  <a:latin typeface="Arial"/>
                </a:rPr>
                <a:t>Fail-ID</a:t>
              </a:r>
              <a:endParaRPr b="0" lang="en-US" sz="1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cxnSp>
        <p:nvCxnSpPr>
          <p:cNvPr id="547" name=""/>
          <p:cNvCxnSpPr>
            <a:stCxn id="503" idx="2"/>
            <a:endCxn id="516" idx="0"/>
          </p:cNvCxnSpPr>
          <p:nvPr/>
        </p:nvCxnSpPr>
        <p:spPr>
          <a:xfrm>
            <a:off x="1645920" y="2654280"/>
            <a:ext cx="1080" cy="397440"/>
          </a:xfrm>
          <a:prstGeom prst="straightConnector1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04" idx="2"/>
            <a:endCxn id="525" idx="0"/>
          </p:cNvCxnSpPr>
          <p:nvPr/>
        </p:nvCxnSpPr>
        <p:spPr>
          <a:xfrm>
            <a:off x="2367000" y="2654280"/>
            <a:ext cx="2160" cy="397440"/>
          </a:xfrm>
          <a:prstGeom prst="straightConnector1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stCxn id="506" idx="2"/>
            <a:endCxn id="528" idx="0"/>
          </p:cNvCxnSpPr>
          <p:nvPr/>
        </p:nvCxnSpPr>
        <p:spPr>
          <a:xfrm>
            <a:off x="3807000" y="2654280"/>
            <a:ext cx="2160" cy="397440"/>
          </a:xfrm>
          <a:prstGeom prst="straightConnector1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07" idx="2"/>
            <a:endCxn id="534" idx="0"/>
          </p:cNvCxnSpPr>
          <p:nvPr/>
        </p:nvCxnSpPr>
        <p:spPr>
          <a:xfrm>
            <a:off x="4527720" y="2654280"/>
            <a:ext cx="2160" cy="397440"/>
          </a:xfrm>
          <a:prstGeom prst="straightConnector1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09" idx="2"/>
            <a:endCxn id="537" idx="0"/>
          </p:cNvCxnSpPr>
          <p:nvPr/>
        </p:nvCxnSpPr>
        <p:spPr>
          <a:xfrm>
            <a:off x="5967000" y="2654280"/>
            <a:ext cx="2520" cy="397440"/>
          </a:xfrm>
          <a:prstGeom prst="straightConnector1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7181640" y="3059280"/>
            <a:ext cx="154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58585a"/>
                </a:solidFill>
                <a:uFillTx/>
                <a:latin typeface="Arial"/>
              </a:rPr>
              <a:t>Main operation</a:t>
            </a: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binary search</a:t>
            </a:r>
            <a:br>
              <a:rPr sz="1600"/>
            </a:b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in </a:t>
            </a:r>
            <a:r>
              <a:rPr b="0" i="1" lang="en-GB" sz="1600" spc="-1" strike="noStrike">
                <a:solidFill>
                  <a:srgbClr val="58585a"/>
                </a:solidFill>
                <a:latin typeface="Arial"/>
              </a:rPr>
              <a:t>each</a:t>
            </a:r>
            <a:r>
              <a:rPr b="0" lang="en-GB" sz="1600" spc="-1" strike="noStrike">
                <a:solidFill>
                  <a:srgbClr val="58585a"/>
                </a:solidFill>
                <a:latin typeface="Arial"/>
              </a:rPr>
              <a:t> lis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3485520" y="5775480"/>
            <a:ext cx="11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32119"/>
                </a:solidFill>
                <a:latin typeface="Arial"/>
              </a:rPr>
              <a:t>Underestimate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FN ≠ IGP Link State Advertisemen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80" y="2465280"/>
            <a:ext cx="2746440" cy="3059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LFA local repair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370560" y="2465280"/>
            <a:ext cx="2746440" cy="305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GP global repair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6056640" y="3769560"/>
            <a:ext cx="225360" cy="315720"/>
          </a:xfrm>
          <a:prstGeom prst="downArrow">
            <a:avLst>
              <a:gd name="adj1" fmla="val 50000"/>
              <a:gd name="adj2" fmla="val 35024"/>
            </a:avLst>
          </a:prstGeom>
          <a:gradFill rotWithShape="0">
            <a:gsLst>
              <a:gs pos="0">
                <a:srgbClr val="ff0000"/>
              </a:gs>
              <a:gs pos="100000">
                <a:srgbClr val="89ba17"/>
              </a:gs>
            </a:gsLst>
            <a:lin ang="0"/>
          </a:gra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220920" y="2465280"/>
            <a:ext cx="2746440" cy="3059280"/>
          </a:xfrm>
          <a:prstGeom prst="rect">
            <a:avLst/>
          </a:prstGeom>
          <a:noFill/>
          <a:ln w="38160">
            <a:solidFill>
              <a:srgbClr val="89b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9ba17"/>
                </a:solidFill>
                <a:latin typeface="Arial"/>
              </a:rPr>
              <a:t>IPFRR-FN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2905920" y="3769560"/>
            <a:ext cx="225360" cy="316080"/>
          </a:xfrm>
          <a:prstGeom prst="downArrow">
            <a:avLst>
              <a:gd name="adj1" fmla="val 50000"/>
              <a:gd name="adj2" fmla="val 35064"/>
            </a:avLst>
          </a:prstGeom>
          <a:gradFill rotWithShape="0">
            <a:gsLst>
              <a:gs pos="0">
                <a:srgbClr val="0000ff"/>
              </a:gs>
              <a:gs pos="100000">
                <a:srgbClr val="89ba17"/>
              </a:gs>
            </a:gsLst>
            <a:lin ang="10800000"/>
          </a:gra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545520" y="4444920"/>
            <a:ext cx="68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Local or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external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462720" y="4849920"/>
            <a:ext cx="9064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369200" y="4535640"/>
            <a:ext cx="1214280" cy="944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linecard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7369200" y="3049560"/>
            <a:ext cx="1214280" cy="9446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ontrol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548480" y="3993840"/>
            <a:ext cx="0" cy="539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993080" y="3994200"/>
            <a:ext cx="0" cy="539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8442360" y="3994200"/>
            <a:ext cx="0" cy="539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577360" y="484992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50120" y="4614840"/>
            <a:ext cx="5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Local</a:t>
            </a:r>
            <a:br>
              <a:rPr sz="1200"/>
            </a:b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01520" y="4849920"/>
            <a:ext cx="9907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092240" y="4535640"/>
            <a:ext cx="1214280" cy="944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linecard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92240" y="3049560"/>
            <a:ext cx="1214280" cy="9446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ontrol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224000" y="4276800"/>
            <a:ext cx="409680" cy="428400"/>
          </a:xfrm>
          <a:custGeom>
            <a:avLst/>
            <a:gdLst/>
            <a:ahLst/>
            <a:rect l="l" t="t" r="r" b="b"/>
            <a:pathLst>
              <a:path w="258" h="270">
                <a:moveTo>
                  <a:pt x="23" y="270"/>
                </a:moveTo>
                <a:cubicBezTo>
                  <a:pt x="24" y="240"/>
                  <a:pt x="0" y="126"/>
                  <a:pt x="28" y="92"/>
                </a:cubicBezTo>
                <a:cubicBezTo>
                  <a:pt x="45" y="57"/>
                  <a:pt x="124" y="0"/>
                  <a:pt x="191" y="68"/>
                </a:cubicBezTo>
                <a:cubicBezTo>
                  <a:pt x="258" y="136"/>
                  <a:pt x="195" y="217"/>
                  <a:pt x="196" y="256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108440" y="4624560"/>
            <a:ext cx="731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local</a:t>
            </a:r>
            <a:br>
              <a:rPr sz="1200"/>
            </a:b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reconfig.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722600" y="3994200"/>
            <a:ext cx="0" cy="539640"/>
          </a:xfrm>
          <a:prstGeom prst="line">
            <a:avLst/>
          </a:prstGeom>
          <a:ln cap="rnd" w="1908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673280" y="3963960"/>
            <a:ext cx="113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Pre-configure</a:t>
            </a:r>
            <a:br>
              <a:rPr sz="1200"/>
            </a:b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backup entrie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442360" y="4535640"/>
            <a:ext cx="135000" cy="314280"/>
          </a:xfrm>
          <a:custGeom>
            <a:avLst/>
            <a:gdLst/>
            <a:ahLst/>
            <a:rect l="l" t="t" r="r" b="b"/>
            <a:pathLst>
              <a:path w="85" h="198">
                <a:moveTo>
                  <a:pt x="0" y="0"/>
                </a:moveTo>
                <a:lnTo>
                  <a:pt x="0" y="198"/>
                </a:lnTo>
                <a:lnTo>
                  <a:pt x="85" y="19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634520" y="4494240"/>
            <a:ext cx="7999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download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new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entrie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8401320" y="3978360"/>
            <a:ext cx="765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advertise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further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260880" y="4849920"/>
            <a:ext cx="990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251240" y="4535640"/>
            <a:ext cx="1214640" cy="9442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linecard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251240" y="3049560"/>
            <a:ext cx="1214640" cy="9446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ontrol</a:t>
            </a:r>
            <a:br>
              <a:rPr sz="2000"/>
            </a:b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383000" y="4276800"/>
            <a:ext cx="409680" cy="428400"/>
          </a:xfrm>
          <a:custGeom>
            <a:avLst/>
            <a:gdLst/>
            <a:ahLst/>
            <a:rect l="l" t="t" r="r" b="b"/>
            <a:pathLst>
              <a:path w="258" h="270">
                <a:moveTo>
                  <a:pt x="23" y="270"/>
                </a:moveTo>
                <a:cubicBezTo>
                  <a:pt x="24" y="240"/>
                  <a:pt x="0" y="126"/>
                  <a:pt x="28" y="92"/>
                </a:cubicBezTo>
                <a:cubicBezTo>
                  <a:pt x="45" y="57"/>
                  <a:pt x="124" y="0"/>
                  <a:pt x="191" y="68"/>
                </a:cubicBezTo>
                <a:cubicBezTo>
                  <a:pt x="258" y="136"/>
                  <a:pt x="195" y="217"/>
                  <a:pt x="196" y="256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267440" y="4624560"/>
            <a:ext cx="731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local</a:t>
            </a:r>
            <a:br>
              <a:rPr sz="1200"/>
            </a:b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reconfig.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881600" y="3994200"/>
            <a:ext cx="0" cy="539640"/>
          </a:xfrm>
          <a:prstGeom prst="line">
            <a:avLst/>
          </a:prstGeom>
          <a:ln cap="rnd" w="1908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832280" y="3963960"/>
            <a:ext cx="113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Pre-configure</a:t>
            </a:r>
            <a:br>
              <a:rPr sz="1200"/>
            </a:b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backup entrie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443760" y="4444920"/>
            <a:ext cx="68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Local or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external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5472000" y="484992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257720" y="4849920"/>
            <a:ext cx="1214280" cy="0"/>
          </a:xfrm>
          <a:prstGeom prst="line">
            <a:avLst/>
          </a:prstGeom>
          <a:ln w="19080">
            <a:solidFill>
              <a:srgbClr val="89ba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401160" y="4027320"/>
            <a:ext cx="1115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end up to CP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5154840" y="4624560"/>
            <a:ext cx="765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advertise</a:t>
            </a:r>
            <a:br>
              <a:rPr sz="1200"/>
            </a:b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further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7362720" y="4130640"/>
            <a:ext cx="385920" cy="371520"/>
          </a:xfrm>
          <a:prstGeom prst="noSmoking">
            <a:avLst>
              <a:gd name="adj" fmla="val 12500"/>
            </a:avLst>
          </a:prstGeom>
          <a:solidFill>
            <a:srgbClr val="e32119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4130640"/>
            <a:ext cx="385920" cy="371520"/>
          </a:xfrm>
          <a:prstGeom prst="noSmoking">
            <a:avLst>
              <a:gd name="adj" fmla="val 12500"/>
            </a:avLst>
          </a:prstGeom>
          <a:solidFill>
            <a:srgbClr val="e32119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8263080" y="4130640"/>
            <a:ext cx="385560" cy="371520"/>
          </a:xfrm>
          <a:prstGeom prst="noSmoking">
            <a:avLst>
              <a:gd name="adj" fmla="val 12500"/>
            </a:avLst>
          </a:prstGeom>
          <a:solidFill>
            <a:srgbClr val="e32119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63680" y="4670280"/>
            <a:ext cx="385560" cy="371520"/>
          </a:xfrm>
          <a:prstGeom prst="noSmoking">
            <a:avLst>
              <a:gd name="adj" fmla="val 12500"/>
            </a:avLst>
          </a:prstGeom>
          <a:solidFill>
            <a:srgbClr val="e32119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IPFRR-FN Principl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702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NOT modifying the IGP/LD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Only using its LSDB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re-computa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Let the IGP prepare for each potential (single) failure cas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re-installation of backup rout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Which deviate from primary rout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Explicit failure notification in data plan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Flooding with duplicate filtering and SHA256 auth check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GP after global reconvergence only “confirms” rout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ducing micro-loops (FRR detour identical to final IGP path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3480" y="564840"/>
            <a:ext cx="820548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Basic Fail-Over Mechanism with IPFRR-F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920" y="2155680"/>
            <a:ext cx="49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FA could not handle the failure of A-B link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89880" y="1803240"/>
            <a:ext cx="26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efault path: C-A-B-D</a:t>
            </a:r>
            <a:endParaRPr b="0" lang="en-US" sz="20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735520" y="1743120"/>
            <a:ext cx="334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 floods FN (B, too)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 reroutes traffic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&amp;E check FN and forward it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&amp;E re-route traffic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&amp;E receive duplicate FN, drop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 checks FN and forwards it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 does not need FIB update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8585a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467160" y="4430880"/>
            <a:ext cx="29988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897440" y="4430880"/>
            <a:ext cx="29988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491240" y="4413240"/>
            <a:ext cx="30168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665360" y="4430880"/>
            <a:ext cx="30168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454560" y="5391000"/>
            <a:ext cx="299880" cy="3016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897440" y="5391000"/>
            <a:ext cx="299880" cy="3016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458040" y="5391000"/>
            <a:ext cx="301680" cy="3016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161" name=""/>
          <p:cNvCxnSpPr>
            <a:stCxn id="157" idx="6"/>
            <a:endCxn id="154" idx="2"/>
          </p:cNvCxnSpPr>
          <p:nvPr/>
        </p:nvCxnSpPr>
        <p:spPr>
          <a:xfrm>
            <a:off x="1966680" y="4579560"/>
            <a:ext cx="150084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2" name=""/>
          <p:cNvCxnSpPr>
            <a:stCxn id="157" idx="5"/>
            <a:endCxn id="158" idx="1"/>
          </p:cNvCxnSpPr>
          <p:nvPr/>
        </p:nvCxnSpPr>
        <p:spPr>
          <a:xfrm>
            <a:off x="1922040" y="4686120"/>
            <a:ext cx="1577160" cy="7498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3" name=""/>
          <p:cNvCxnSpPr>
            <a:stCxn id="154" idx="6"/>
            <a:endCxn id="155" idx="2"/>
          </p:cNvCxnSpPr>
          <p:nvPr/>
        </p:nvCxnSpPr>
        <p:spPr>
          <a:xfrm>
            <a:off x="3767040" y="4581000"/>
            <a:ext cx="113112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4" name=""/>
          <p:cNvCxnSpPr>
            <a:stCxn id="158" idx="6"/>
            <a:endCxn id="159" idx="2"/>
          </p:cNvCxnSpPr>
          <p:nvPr/>
        </p:nvCxnSpPr>
        <p:spPr>
          <a:xfrm>
            <a:off x="3754080" y="5541480"/>
            <a:ext cx="114372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5" name=""/>
          <p:cNvCxnSpPr>
            <a:stCxn id="155" idx="5"/>
            <a:endCxn id="160" idx="1"/>
          </p:cNvCxnSpPr>
          <p:nvPr/>
        </p:nvCxnSpPr>
        <p:spPr>
          <a:xfrm>
            <a:off x="5153040" y="4686120"/>
            <a:ext cx="1350000" cy="7498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6" name=""/>
          <p:cNvCxnSpPr>
            <a:stCxn id="159" idx="6"/>
            <a:endCxn id="160" idx="2"/>
          </p:cNvCxnSpPr>
          <p:nvPr/>
        </p:nvCxnSpPr>
        <p:spPr>
          <a:xfrm>
            <a:off x="5197320" y="5541480"/>
            <a:ext cx="126144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7" name=""/>
          <p:cNvCxnSpPr>
            <a:stCxn id="160" idx="7"/>
            <a:endCxn id="156" idx="3"/>
          </p:cNvCxnSpPr>
          <p:nvPr/>
        </p:nvCxnSpPr>
        <p:spPr>
          <a:xfrm flipV="1">
            <a:off x="6715080" y="4668480"/>
            <a:ext cx="821520" cy="7675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68" name=""/>
          <p:cNvCxnSpPr>
            <a:stCxn id="155" idx="6"/>
            <a:endCxn id="156" idx="2"/>
          </p:cNvCxnSpPr>
          <p:nvPr/>
        </p:nvCxnSpPr>
        <p:spPr>
          <a:xfrm flipV="1">
            <a:off x="5197320" y="4563720"/>
            <a:ext cx="2294640" cy="180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4007520" y="4203720"/>
            <a:ext cx="51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2119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687760" y="3651120"/>
            <a:ext cx="299880" cy="30024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cxnSp>
        <p:nvCxnSpPr>
          <p:cNvPr id="171" name=""/>
          <p:cNvCxnSpPr>
            <a:stCxn id="157" idx="7"/>
            <a:endCxn id="170" idx="3"/>
          </p:cNvCxnSpPr>
          <p:nvPr/>
        </p:nvCxnSpPr>
        <p:spPr>
          <a:xfrm flipV="1">
            <a:off x="1922040" y="3906360"/>
            <a:ext cx="810360" cy="5688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72" name=""/>
          <p:cNvCxnSpPr>
            <a:stCxn id="170" idx="5"/>
            <a:endCxn id="154" idx="1"/>
          </p:cNvCxnSpPr>
          <p:nvPr/>
        </p:nvCxnSpPr>
        <p:spPr>
          <a:xfrm>
            <a:off x="2943360" y="3906360"/>
            <a:ext cx="568800" cy="5688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02160" y="2749680"/>
            <a:ext cx="422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973320" y="2608200"/>
            <a:ext cx="12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n FN message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867040" y="4464000"/>
            <a:ext cx="4809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216240" y="3951000"/>
            <a:ext cx="29520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66920" y="3879720"/>
            <a:ext cx="363600" cy="222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17800" y="4215960"/>
            <a:ext cx="419040" cy="2653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2966040" y="3255840"/>
            <a:ext cx="20282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HA256 pass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uplicate check pas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es FRR and forwards 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83120" y="4529160"/>
            <a:ext cx="20282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HA256 pass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uplicate check pas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es FRR and forwards 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43880" y="3911760"/>
            <a:ext cx="14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HA256 pass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uplicate check fail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1290240" y="3328920"/>
            <a:ext cx="14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HA256 pass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uplicate check fail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798720" y="5681520"/>
            <a:ext cx="4208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841120" y="5667480"/>
            <a:ext cx="20329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HA256 pass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uplicate check pass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esn’t need new FIB entry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wards FN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085840" y="4660920"/>
            <a:ext cx="419400" cy="216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385720" y="2897280"/>
            <a:ext cx="422280" cy="7538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063440" y="4579920"/>
            <a:ext cx="601560" cy="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3168360" y="4470480"/>
            <a:ext cx="237960" cy="201600"/>
          </a:xfrm>
          <a:custGeom>
            <a:avLst/>
            <a:gdLst/>
            <a:ahLst/>
            <a:rect l="l" t="t" r="r" b="b"/>
            <a:pathLst>
              <a:path w="198" h="224">
                <a:moveTo>
                  <a:pt x="170" y="29"/>
                </a:moveTo>
                <a:cubicBezTo>
                  <a:pt x="111" y="14"/>
                  <a:pt x="52" y="0"/>
                  <a:pt x="28" y="29"/>
                </a:cubicBezTo>
                <a:cubicBezTo>
                  <a:pt x="4" y="58"/>
                  <a:pt x="0" y="176"/>
                  <a:pt x="28" y="200"/>
                </a:cubicBezTo>
                <a:cubicBezTo>
                  <a:pt x="56" y="224"/>
                  <a:pt x="127" y="197"/>
                  <a:pt x="198" y="171"/>
                </a:cubicBezTo>
              </a:path>
            </a:pathLst>
          </a:custGeom>
          <a:noFill/>
          <a:ln w="19080">
            <a:solidFill>
              <a:srgbClr val="e3211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 rot="13115400">
            <a:off x="3298680" y="4268880"/>
            <a:ext cx="239760" cy="201600"/>
          </a:xfrm>
          <a:custGeom>
            <a:avLst/>
            <a:gdLst/>
            <a:ahLst/>
            <a:rect l="l" t="t" r="r" b="b"/>
            <a:pathLst>
              <a:path w="198" h="224">
                <a:moveTo>
                  <a:pt x="170" y="29"/>
                </a:moveTo>
                <a:cubicBezTo>
                  <a:pt x="111" y="14"/>
                  <a:pt x="52" y="0"/>
                  <a:pt x="28" y="29"/>
                </a:cubicBezTo>
                <a:cubicBezTo>
                  <a:pt x="4" y="58"/>
                  <a:pt x="0" y="176"/>
                  <a:pt x="28" y="200"/>
                </a:cubicBezTo>
                <a:cubicBezTo>
                  <a:pt x="56" y="224"/>
                  <a:pt x="127" y="197"/>
                  <a:pt x="198" y="171"/>
                </a:cubicBezTo>
              </a:path>
            </a:pathLst>
          </a:custGeom>
          <a:noFill/>
          <a:ln w="19080">
            <a:solidFill>
              <a:srgbClr val="e3211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627280" y="3589200"/>
            <a:ext cx="418680" cy="477720"/>
            <a:chOff x="2627280" y="3589200"/>
            <a:chExt cx="418680" cy="477720"/>
          </a:xfrm>
        </p:grpSpPr>
        <p:sp>
          <p:nvSpPr>
            <p:cNvPr id="191" name=""/>
            <p:cNvSpPr/>
            <p:nvPr/>
          </p:nvSpPr>
          <p:spPr>
            <a:xfrm>
              <a:off x="2627280" y="3589200"/>
              <a:ext cx="338040" cy="477720"/>
            </a:xfrm>
            <a:custGeom>
              <a:avLst/>
              <a:gdLst/>
              <a:ahLst/>
              <a:rect l="l" t="t" r="r" b="b"/>
              <a:pathLst>
                <a:path w="160" h="226">
                  <a:moveTo>
                    <a:pt x="113" y="0"/>
                  </a:moveTo>
                  <a:cubicBezTo>
                    <a:pt x="136" y="37"/>
                    <a:pt x="160" y="75"/>
                    <a:pt x="141" y="113"/>
                  </a:cubicBezTo>
                  <a:cubicBezTo>
                    <a:pt x="122" y="151"/>
                    <a:pt x="61" y="188"/>
                    <a:pt x="0" y="226"/>
                  </a:cubicBezTo>
                </a:path>
              </a:pathLst>
            </a:custGeom>
            <a:noFill/>
            <a:ln w="19080">
              <a:solidFill>
                <a:srgbClr val="e32119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06920" y="3887640"/>
              <a:ext cx="239040" cy="61200"/>
            </a:xfrm>
            <a:custGeom>
              <a:avLst/>
              <a:gdLst/>
              <a:ahLst/>
              <a:rect l="l" t="t" r="r" b="b"/>
              <a:pathLst>
                <a:path w="113" h="29">
                  <a:moveTo>
                    <a:pt x="113" y="29"/>
                  </a:moveTo>
                  <a:cubicBezTo>
                    <a:pt x="108" y="14"/>
                    <a:pt x="104" y="0"/>
                    <a:pt x="85" y="0"/>
                  </a:cubicBezTo>
                  <a:cubicBezTo>
                    <a:pt x="66" y="0"/>
                    <a:pt x="14" y="24"/>
                    <a:pt x="0" y="29"/>
                  </a:cubicBezTo>
                </a:path>
              </a:pathLst>
            </a:custGeom>
            <a:noFill/>
            <a:ln w="19080">
              <a:solidFill>
                <a:srgbClr val="e321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15480" bIns="1548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486080" y="4311720"/>
            <a:ext cx="656640" cy="418680"/>
            <a:chOff x="1486080" y="4311720"/>
            <a:chExt cx="656640" cy="418680"/>
          </a:xfrm>
        </p:grpSpPr>
        <p:sp>
          <p:nvSpPr>
            <p:cNvPr id="194" name=""/>
            <p:cNvSpPr/>
            <p:nvPr/>
          </p:nvSpPr>
          <p:spPr>
            <a:xfrm>
              <a:off x="1486080" y="4521240"/>
              <a:ext cx="599400" cy="209160"/>
            </a:xfrm>
            <a:custGeom>
              <a:avLst/>
              <a:gdLst/>
              <a:ahLst/>
              <a:rect l="l" t="t" r="r" b="b"/>
              <a:pathLst>
                <a:path w="283" h="99">
                  <a:moveTo>
                    <a:pt x="0" y="14"/>
                  </a:moveTo>
                  <a:cubicBezTo>
                    <a:pt x="33" y="7"/>
                    <a:pt x="66" y="0"/>
                    <a:pt x="113" y="14"/>
                  </a:cubicBezTo>
                  <a:cubicBezTo>
                    <a:pt x="160" y="28"/>
                    <a:pt x="221" y="63"/>
                    <a:pt x="283" y="99"/>
                  </a:cubicBezTo>
                </a:path>
              </a:pathLst>
            </a:custGeom>
            <a:noFill/>
            <a:ln w="19080">
              <a:solidFill>
                <a:srgbClr val="e32119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43920" y="4521240"/>
              <a:ext cx="298800" cy="105480"/>
            </a:xfrm>
            <a:custGeom>
              <a:avLst/>
              <a:gdLst/>
              <a:ahLst/>
              <a:rect l="l" t="t" r="r" b="b"/>
              <a:pathLst>
                <a:path w="141" h="50">
                  <a:moveTo>
                    <a:pt x="141" y="19"/>
                  </a:moveTo>
                  <a:cubicBezTo>
                    <a:pt x="121" y="17"/>
                    <a:pt x="40" y="0"/>
                    <a:pt x="20" y="5"/>
                  </a:cubicBezTo>
                  <a:cubicBezTo>
                    <a:pt x="0" y="10"/>
                    <a:pt x="23" y="41"/>
                    <a:pt x="23" y="50"/>
                  </a:cubicBezTo>
                </a:path>
              </a:pathLst>
            </a:custGeom>
            <a:noFill/>
            <a:ln w="19080">
              <a:solidFill>
                <a:srgbClr val="e321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73800" y="4311720"/>
              <a:ext cx="152280" cy="23256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72" y="0"/>
                  </a:moveTo>
                  <a:cubicBezTo>
                    <a:pt x="50" y="18"/>
                    <a:pt x="27" y="38"/>
                    <a:pt x="15" y="56"/>
                  </a:cubicBezTo>
                  <a:cubicBezTo>
                    <a:pt x="3" y="74"/>
                    <a:pt x="3" y="99"/>
                    <a:pt x="0" y="110"/>
                  </a:cubicBezTo>
                </a:path>
              </a:pathLst>
            </a:custGeom>
            <a:noFill/>
            <a:ln w="19080">
              <a:solidFill>
                <a:srgbClr val="e321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anchor="t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151600" y="4751280"/>
            <a:ext cx="368280" cy="209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5262480" y="4481640"/>
            <a:ext cx="382680" cy="1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29520" bIns="-2952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5578560" y="5008680"/>
            <a:ext cx="368280" cy="20952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5716440" y="4437000"/>
            <a:ext cx="382680" cy="1764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29160" bIns="-29160" anchor="t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Concerns – The Devil in the Detail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re-calculation performance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Backup database size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erformance of FIB update from the backup database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ime to originate an FN packet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ime to forward an FN packet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Including duplicate and SHA256 authentication check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Time to process an FN packet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acket flow disruption time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Pre-Calculation &amp; Pre-Install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Non-optimised implementation: ca. 1 SPF for each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A decent implementation should use incremental SPF for each new pre-calculated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Drastic decrease of overhea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Only need to pre-install </a:t>
            </a:r>
            <a:r>
              <a:rPr b="1" lang="en-GB" sz="2400" spc="-1" strike="noStrike" u="sng">
                <a:solidFill>
                  <a:srgbClr val="58585a"/>
                </a:solidFill>
                <a:uFillTx/>
                <a:latin typeface="Arial"/>
              </a:rPr>
              <a:t>relevant</a:t>
            </a: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 cases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For failures downstream on the shortest path(s) towards the destin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Only those failures, which result in next-hop change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3840" y="199080"/>
            <a:ext cx="7826400" cy="853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Backup Database and FIB Update</a:t>
            </a:r>
            <a:br>
              <a:rPr sz="3200"/>
            </a:b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An </a:t>
            </a:r>
            <a:r>
              <a:rPr b="0" i="1" lang="en-GB" sz="2400" spc="-1" strike="noStrike">
                <a:solidFill>
                  <a:srgbClr val="58585a"/>
                </a:solidFill>
                <a:latin typeface="Arial"/>
              </a:rPr>
              <a:t>Extreme</a:t>
            </a: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 Cas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6360" y="1375920"/>
            <a:ext cx="6875640" cy="5154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9000"/>
          </a:bodyPr>
          <a:p>
            <a:pPr marL="174240" indent="-1742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1000 nod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20 hop diamete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28120" indent="-1760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Worst case: </a:t>
            </a:r>
            <a:r>
              <a:rPr b="0" i="1" lang="en-GB" sz="2000" spc="-1" strike="noStrike">
                <a:solidFill>
                  <a:srgbClr val="58585a"/>
                </a:solidFill>
                <a:latin typeface="Arial"/>
              </a:rPr>
              <a:t>every path 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is 20 hops long and </a:t>
            </a:r>
            <a:r>
              <a:rPr b="0" i="1" lang="en-GB" sz="2000" spc="-1" strike="noStrike">
                <a:solidFill>
                  <a:srgbClr val="58585a"/>
                </a:solidFill>
                <a:latin typeface="Arial"/>
              </a:rPr>
              <a:t>each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 link/node failure results in a </a:t>
            </a:r>
            <a:r>
              <a:rPr b="0" i="1" lang="en-GB" sz="2000" spc="-1" strike="noStrike">
                <a:solidFill>
                  <a:srgbClr val="58585a"/>
                </a:solidFill>
                <a:latin typeface="Arial"/>
              </a:rPr>
              <a:t>new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 alternative next-ho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9000 external prefix group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28120" indent="-1760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Prefix group = Set of prefixes with the same primary and secondary border router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83080" indent="-177480">
              <a:lnSpc>
                <a:spcPct val="90000"/>
              </a:lnSpc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9000 prefix groups correspond to </a:t>
            </a:r>
            <a:r>
              <a:rPr b="0" i="1" lang="en-GB" sz="2000" spc="-1" strike="noStrike">
                <a:solidFill>
                  <a:srgbClr val="58585a"/>
                </a:solidFill>
                <a:latin typeface="Arial"/>
              </a:rPr>
              <a:t>95 BRs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, with each combination serving at least a prefix (95*94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Arial"/>
              </a:rPr>
              <a:t>≈9000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When storing in a very simple structure and assuming a failure impacts </a:t>
            </a:r>
            <a:r>
              <a:rPr b="0" i="1" lang="en-GB" sz="2400" spc="-1" strike="noStrike">
                <a:solidFill>
                  <a:srgbClr val="58585a"/>
                </a:solidFill>
                <a:latin typeface="Arial"/>
              </a:rPr>
              <a:t>each </a:t>
            </a: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route: FIB update can be solved with 50k memory transaction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28120" indent="-1760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ssuming DRAM with 5MT/sec, and 1 memory controller: 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10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38920" y="2838600"/>
            <a:ext cx="12160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3.4MB</a:t>
            </a:r>
            <a:endParaRPr b="0" lang="en-US" sz="32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7572240" y="3322800"/>
            <a:ext cx="147024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32119"/>
                </a:solidFill>
                <a:latin typeface="Arial"/>
              </a:rPr>
              <a:t>Comparison: linecards equipped with 1+GB DRAM</a:t>
            </a:r>
            <a:endParaRPr b="0" lang="en-US" sz="16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7275600" y="1763640"/>
            <a:ext cx="365040" cy="2816280"/>
          </a:xfrm>
          <a:custGeom>
            <a:avLst/>
            <a:gdLst>
              <a:gd name="textAreaLeft" fmla="*/ 0 w 365040"/>
              <a:gd name="textAreaRight" fmla="*/ 131760 w 365040"/>
              <a:gd name="textAreaTop" fmla="*/ 73440 h 2816280"/>
              <a:gd name="textAreaBottom" fmla="*/ 2742840 h 281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85a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459960" y="6029280"/>
            <a:ext cx="11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32119"/>
                </a:solidFill>
                <a:latin typeface="Arial"/>
              </a:rPr>
              <a:t>Underestimate</a:t>
            </a:r>
            <a:endParaRPr b="0" lang="en-US" sz="1200" spc="-1" strike="noStrike">
              <a:solidFill>
                <a:srgbClr val="58585a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875016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8585a"/>
                </a:solidFill>
                <a:latin typeface="Arial"/>
              </a:rPr>
              <a:t>FN Packet Performance in Research Prototyp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Prototype: Ericsson SmartEdge with PPA2-based linecard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ca. 5-6 years old line car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8585a"/>
                </a:solidFill>
                <a:latin typeface="Arial"/>
              </a:rPr>
              <a:t>FN packet origination &lt; 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250µs after failure detec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N packet forwarding per hop &lt; 180µ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cluding SHA256 verification and duplicate check in each hop!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08280" y="2244600"/>
            <a:ext cx="7272360" cy="1306800"/>
            <a:chOff x="1808280" y="2244600"/>
            <a:chExt cx="7272360" cy="1306800"/>
          </a:xfrm>
        </p:grpSpPr>
        <p:sp>
          <p:nvSpPr>
            <p:cNvPr id="214" name=""/>
            <p:cNvSpPr/>
            <p:nvPr/>
          </p:nvSpPr>
          <p:spPr>
            <a:xfrm>
              <a:off x="1808280" y="2244600"/>
              <a:ext cx="7272360" cy="1306800"/>
            </a:xfrm>
            <a:prstGeom prst="rect">
              <a:avLst/>
            </a:prstGeom>
            <a:noFill/>
            <a:ln w="38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 marL="177840" indent="-177840">
                <a:lnSpc>
                  <a:spcPct val="9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58585a"/>
                  </a:solidFill>
                  <a:uFillTx/>
                  <a:latin typeface="Arial"/>
                </a:rPr>
                <a:t>Linecard requirements: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  <a:p>
              <a:pPr marL="177840" indent="-177840">
                <a:lnSpc>
                  <a:spcPct val="95000"/>
                </a:lnSpc>
                <a:spcBef>
                  <a:spcPts val="451"/>
                </a:spcBef>
                <a:buClr>
                  <a:srgbClr val="58585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8585a"/>
                  </a:solidFill>
                  <a:latin typeface="Arial"/>
                </a:rPr>
                <a:t>Support packet origination locally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  <a:p>
              <a:pPr marL="177840" indent="-177840">
                <a:lnSpc>
                  <a:spcPct val="95000"/>
                </a:lnSpc>
                <a:spcBef>
                  <a:spcPts val="451"/>
                </a:spcBef>
                <a:buClr>
                  <a:srgbClr val="58585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8585a"/>
                  </a:solidFill>
                  <a:latin typeface="Arial"/>
                </a:rPr>
                <a:t>Support packet recognition locally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  <a:p>
              <a:pPr marL="177840" indent="-177840">
                <a:lnSpc>
                  <a:spcPct val="95000"/>
                </a:lnSpc>
                <a:spcBef>
                  <a:spcPts val="451"/>
                </a:spcBef>
                <a:buClr>
                  <a:srgbClr val="58585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8585a"/>
                  </a:solidFill>
                  <a:latin typeface="Arial"/>
                </a:rPr>
                <a:t>Support FIB update locally</a:t>
              </a:r>
              <a:endParaRPr b="0" lang="en-US" sz="18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00880" y="2577960"/>
              <a:ext cx="228600" cy="571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4760 h 571680"/>
                <a:gd name="textAreaBottom" fmla="*/ 556920 h 5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00880" y="3187800"/>
              <a:ext cx="190440" cy="35568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9000 h 355680"/>
                <a:gd name="textAreaBottom" fmla="*/ 346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24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63600" y="2575080"/>
              <a:ext cx="270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8585a"/>
                  </a:solidFill>
                  <a:latin typeface="Arial"/>
                </a:rPr>
                <a:t>Available if card can do BFD</a:t>
              </a:r>
              <a:br>
                <a:rPr sz="1600"/>
              </a:br>
              <a:r>
                <a:rPr b="0" lang="en-US" sz="1600" spc="-1" strike="noStrike">
                  <a:solidFill>
                    <a:srgbClr val="58585a"/>
                  </a:solidFill>
                  <a:latin typeface="Arial"/>
                </a:rPr>
                <a:t>or ICMP Echo locally</a:t>
              </a:r>
              <a:endParaRPr b="0" lang="en-US" sz="1600" spc="-1" strike="noStrike">
                <a:solidFill>
                  <a:srgbClr val="58585a"/>
                </a:solidFill>
                <a:latin typeface="Tahom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61440" y="3159000"/>
              <a:ext cx="329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8585a"/>
                  </a:solidFill>
                  <a:latin typeface="Arial"/>
                </a:rPr>
                <a:t>Available if card can do LFA locally</a:t>
              </a:r>
              <a:endParaRPr b="0" lang="en-US" sz="1600" spc="-1" strike="noStrike">
                <a:solidFill>
                  <a:srgbClr val="58585a"/>
                </a:solidFill>
                <a:latin typeface="Tahoma"/>
              </a:endParaRPr>
            </a:p>
          </p:txBody>
        </p:sp>
      </p:grp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19:02:09Z</dcterms:created>
  <dc:creator>ETH/XL András Császár</dc:creator>
  <dc:description>Rev PA1</dc:description>
  <cp:keywords/>
  <dc:language>en-US</dc:language>
  <cp:lastModifiedBy>András Császár</cp:lastModifiedBy>
  <dcterms:modified xsi:type="dcterms:W3CDTF">2011-11-16T10:42:05Z</dcterms:modified>
  <cp:revision>122</cp:revision>
  <dc:subject/>
  <dc:title>IPFRR with Fast Not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11-17</vt:lpwstr>
  </property>
  <property fmtid="{D5CDD505-2E9C-101B-9397-08002B2CF9AE}" pid="5" name="DocName">
    <vt:lpwstr>PRESENTATION</vt:lpwstr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draft-csaszar-ipfrr-fn-02</vt:lpwstr>
  </property>
  <property fmtid="{D5CDD505-2E9C-101B-9397-08002B2CF9AE}" pid="13" name="MiddleFooterField">
    <vt:lpwstr>IETF82, Taipei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ETH/XL András Császár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IPFRR with Fast Notification</vt:lpwstr>
  </property>
  <property fmtid="{D5CDD505-2E9C-101B-9397-08002B2CF9AE}" pid="21" name="RightFooterField2">
    <vt:lpwstr>2011-11-17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/A</vt:lpwstr>
  </property>
  <property fmtid="{D5CDD505-2E9C-101B-9397-08002B2CF9AE}" pid="26" name="TemplateVersion2">
    <vt:lpwstr>R1A/A</vt:lpwstr>
  </property>
  <property fmtid="{D5CDD505-2E9C-101B-9397-08002B2CF9AE}" pid="27" name="Title">
    <vt:lpwstr>IPFRR with Fast Notification</vt:lpwstr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1</vt:bool>
  </property>
  <property fmtid="{D5CDD505-2E9C-101B-9397-08002B2CF9AE}" pid="34" name="optEnterText2">
    <vt:bool>1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