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1D0-B044-44D2-834F-25310F36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F68-4119-4708-BEF2-61BC11C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D0F-9EB8-4F48-9715-FD1E5DE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89D-E6E5-46C0-BCFE-7187659D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64B-C169-4806-B2F0-A5C0226E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97D-62C5-462E-8B7C-6DB8E5C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E7C-688F-4EB6-B2B7-C5A69B9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D68-3B4F-418B-89FA-216D598E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2AE-E8D7-4181-B20C-3CA09F0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D2A-115C-4DDB-82D8-D6D6474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B79-CF3E-4E47-A79B-747760D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5F7-4458-4FBB-BD0F-9E5851E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6D7-FD00-4969-93CA-067FF76E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 Address Validation Improvem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V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November 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:10-18:1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taker: thanks to Pasc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inutes taker(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bber scri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roduction and Administrativ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1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an-Michel Com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of RPF and possible approaches to enhance RPF    4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 Bi and/or Fred B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of SAVI solution for Telecom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1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n Qi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If 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of SAVI solution for IPv6 transition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ngwei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1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FS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CP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2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pherd revie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LC to 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3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s issues raised by the IESG to check in WG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threats/limitations text to add (especially in SAVI solu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pherd will check these points with the authors of the different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this meeting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cision about rechartering during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igger discussions on the ML for a potential rech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eal interest on the ML, WG session during the next IETF meeting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, move forward current WG docs to RFC and close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BES Jean-Michel</cp:lastModifiedBy>
  <dcterms:modified xsi:type="dcterms:W3CDTF">2011-11-15T06:52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