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0E8-BEDC-4FFA-A395-935275EA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310-2320-48DB-92E7-55948B4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FFB-7673-4DDE-8BFD-99DDCFC2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FE3-DF05-4415-BC85-8E1DB076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F9E-3006-4A98-9812-B32422AF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9D0-4465-4E83-A083-2EE7214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EA4-EE9C-4CE1-9AA1-DE376F11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4A6-7F33-47BB-8115-DD3F18A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38B-FCD6-407E-8B88-F8C143A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144-12C6-4410-9E36-30966CF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0D4-7BC8-4AEC-BF51-52230D3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CBA-41AD-4AAA-9CA4-DFFEACF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B2E-82EC-4F97-985B-F8126A81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 Address Validation Improvem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V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November 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:10-18:1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s taker: thanks to Pasc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inutes taker(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bber scri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roduction and Administrativ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1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ean-Michel Com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of RPF and possible approaches to enhance RPF    4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 Bi and/or Fred B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of SAVI solution for Telecom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1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n Qi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If 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of SAVI solution for IPv6 transition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ngwei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docs status (1/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G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G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FS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G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HCP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review, new 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docs status (2/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pherd review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S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LC to 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G docs status (3/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s issues raised by the IESG to check in WG 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ial threats/limitations text to add (especially in SAVI solu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pherd will check these points with the authors of the different 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this meeting &amp;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cision about rechartering during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igger discussions on the ML for a potential rech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eal interest on the ML, WG session during the next IETF meeting in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, move forward current WG docs to RFC and close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BES Jean-Michel</cp:lastModifiedBy>
  <dcterms:modified xsi:type="dcterms:W3CDTF">2011-11-15T06:52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