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5DC89-9BE2-43D0-9BD9-FD2DBB026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0B52-0796-4E35-8A9C-0242E6D91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8ADDA-89EB-462E-AF47-56DD087AC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9A068-9E2A-4890-BF07-347A9E2B7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3CDB8-D8B1-40F3-8524-CF069AC7E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C97BC-F31D-4AFE-B764-3D00C17AB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9AD12-9F3A-4F54-9EFE-57785968A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95F7-4FCB-440A-BA90-1E7DBE8A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CE240-C1FA-4436-ADC0-3ED0A5E22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C43B-9104-4509-B93B-02158B09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62B0-FC22-4DB3-8FA2-F984A5BE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5BA2-883B-4AC7-9C8D-DFFA24F04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438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e 15 Nov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2971800" y="6244920"/>
            <a:ext cx="31240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82 Taipei, Taiw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7B8D-B8FB-4D1C-A636-313695763D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tf.org/mail-archive/web/sidr/index.html" TargetMode="External"/><Relationship Id="rId2" Type="http://schemas.openxmlformats.org/officeDocument/2006/relationships/hyperlink" Target="http://www.ietf.org/html.charters/sidr-charter.html" TargetMode="External"/><Relationship Id="rId3" Type="http://schemas.openxmlformats.org/officeDocument/2006/relationships/hyperlink" Target="http://tools.ietf.org/wg/sidr/"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R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pei, Taiw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15 Nov 201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E4AF1FB6-7A4B-4640-A441-F3B1372B058B}" type="slidenum">
              <a:t>1</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0" name=""/>
          <p:cNvGraphicFramePr/>
          <p:nvPr/>
        </p:nvGraphicFramePr>
        <p:xfrm>
          <a:off x="609480" y="2558880"/>
          <a:ext cx="7848720" cy="310536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alg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manifes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6-1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ation Reques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sl-si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signed-objec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ta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usecas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9-22 (new version 10-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4F406986-6B3E-4144-BDF3-719685FB477C}" type="slidenum">
              <a:t>10</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2" name=""/>
          <p:cNvGraphicFramePr/>
          <p:nvPr/>
        </p:nvGraphicFramePr>
        <p:xfrm>
          <a:off x="609480" y="2558880"/>
          <a:ext cx="7848720" cy="292104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alg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p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verview</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ki-profil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rotoco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eq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1-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thre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6-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draft-ietf-sidr-rpki-rtr-mib&g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missed deadline&g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FEE5E896-906D-4D8E-9351-6BD967307986}" type="slidenum">
              <a:t>11</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ummar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RFC Ed Queue: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Publication Requested: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through wglc: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dealing with wglc: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still in progress from IETF 81: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expire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newly accepted: 3</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13B85DF6-D973-4A15-89D6-BE192577A9C2}" type="slidenum">
              <a:t>12</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304920"/>
            <a:ext cx="7759800" cy="687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p:nvPr/>
        </p:nvSpPr>
        <p:spPr>
          <a:xfrm>
            <a:off x="228600" y="1066680"/>
            <a:ext cx="8839080" cy="4953240"/>
          </a:xfrm>
          <a:prstGeom prst="rect">
            <a:avLst/>
          </a:prstGeom>
          <a:noFill/>
          <a:ln w="0">
            <a:noFill/>
          </a:ln>
        </p:spPr>
        <p:style>
          <a:lnRef idx="0"/>
          <a:fillRef idx="0"/>
          <a:effectRef idx="0"/>
          <a:fontRef idx="minor"/>
        </p:style>
        <p:txBody>
          <a:bodyPr lIns="90360" rIns="90360" tIns="44280" bIns="44280" anchor="t">
            <a:normAutofit fontScale="95000"/>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 </a:t>
            </a:r>
            <a:br>
              <a:rPr sz="1400"/>
            </a:b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SIDR IETF 81 Quebec, Canada</a:t>
            </a:r>
          </a:p>
        </p:txBody>
      </p:sp>
      <p:sp>
        <p:nvSpPr>
          <p:cNvPr id="3" name="PlaceHolder 2"/>
          <p:cNvSpPr>
            <a:spLocks noGrp="1"/>
          </p:cNvSpPr>
          <p:nvPr>
            <p:ph type="sldNum" idx="3"/>
          </p:nvPr>
        </p:nvSpPr>
        <p:spPr/>
        <p:txBody>
          <a:bodyPr/>
          <a:p>
            <a:fld id="{EFA84085-36D7-4B42-BCD2-FD106CE3F92B}" type="slidenum">
              <a:t>2</a:t>
            </a:fld>
          </a:p>
        </p:txBody>
      </p:sp>
      <p:sp>
        <p:nvSpPr>
          <p:cNvPr id="4" name="PlaceHolder 3"/>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a:t>
            </a:r>
            <a:endParaRPr b="0" lang="en-US" sz="4000" spc="-1" strike="noStrike">
              <a:solidFill>
                <a:srgbClr val="000000"/>
              </a:solidFill>
              <a:latin typeface="Arial"/>
            </a:endParaRPr>
          </a:p>
        </p:txBody>
      </p:sp>
      <p:sp>
        <p:nvSpPr>
          <p:cNvPr id="4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Agenda and Slides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proceedings/82/agenda/sidr.html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datatracker.ietf.org/meeting/82/materials.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a:t>
            </a:r>
            <a:br>
              <a:rPr sz="2400"/>
            </a:br>
            <a:r>
              <a:rPr b="0" lang="en-US" sz="2400" spc="-1" strike="noStrike" u="sng">
                <a:solidFill>
                  <a:srgbClr val="009999"/>
                </a:solidFill>
                <a:uFillTx/>
                <a:latin typeface="Arial"/>
                <a:hlinkClick r:id="rId1"/>
              </a:rPr>
              <a:t>http://www.ietf.org/mail-archive/web/sidr/index.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bber room:  sidr@jabber.ietf.or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tool: http://tools.ietf.org/wg/sidr/minu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feed: http://tools.ietf.org/agenda/8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archive: http://www.ietf.org/audio/ietf8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er page: </a:t>
            </a:r>
            <a:r>
              <a:rPr b="0" lang="en-US" sz="2400" spc="-1" strike="noStrike" u="sng">
                <a:solidFill>
                  <a:srgbClr val="009999"/>
                </a:solidFill>
                <a:uFillTx/>
                <a:latin typeface="Arial"/>
                <a:hlinkClick r:id="rId2"/>
              </a:rPr>
              <a:t>http://www.ietf.org/html.charters/sidr-charter.htm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s: </a:t>
            </a:r>
            <a:r>
              <a:rPr b="0" lang="en-US" sz="2400" spc="-1" strike="noStrike" u="sng">
                <a:solidFill>
                  <a:srgbClr val="009999"/>
                </a:solidFill>
                <a:uFillTx/>
                <a:latin typeface="Arial"/>
                <a:hlinkClick r:id="rId3"/>
              </a:rPr>
              <a:t>http://tools.ietf.org/wg/sidr/</a:t>
            </a:r>
            <a:r>
              <a:rPr b="0" lang="en-US" sz="2400" spc="-1" strike="noStrike" u="sng">
                <a:solidFill>
                  <a:srgbClr val="000000"/>
                </a:solidFill>
                <a:uFillTx/>
                <a:latin typeface="Arial"/>
              </a:rPr>
              <a:t> </a:t>
            </a:r>
            <a:br>
              <a:rPr sz="2400"/>
            </a:br>
            <a:r>
              <a:rPr b="0" lang="en-US" sz="2000" spc="-1" strike="noStrike">
                <a:solidFill>
                  <a:srgbClr val="000000"/>
                </a:solidFill>
                <a:latin typeface="Arial"/>
              </a:rPr>
              <a:t>(tools page also has links to html agenda, jabber room, audio, et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7992097F-AB21-49EC-A624-2303BF9D6CC4}" type="slidenum">
              <a:t>3</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ivi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 t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ba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86B7AADC-1A00-4A4A-8294-59E42F1B7836}" type="slidenum">
              <a:t>4</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dministrivia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raft status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One of the chai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pdated Drafts                                            3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GPSEC Protoco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Matt Lepinsk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efix Valid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John Scudd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GPSEC Operation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andy Bu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1EFF4D4F-D946-4049-B130-98C6B830F9F6}" type="slidenum">
              <a:t>5</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cent WGLC and status                               75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Origin Operations                                    5 minute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andy B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GPSEC Requirement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a:t>
            </a:r>
            <a:r>
              <a:rPr b="0" lang="en" sz="2400" spc="-1" strike="noStrike">
                <a:solidFill>
                  <a:srgbClr val="000000"/>
                </a:solidFill>
                <a:latin typeface="Arial"/>
              </a:rPr>
              <a:t>Randy B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lgorithm Agilit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 minute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one of the author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ew WG Draf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0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GPSEC Profiles and Algorithms  </a:t>
            </a:r>
            <a:r>
              <a:rPr b="0" lang="en-US" sz="2400" spc="-1" strike="noStrike">
                <a:solidFill>
                  <a:srgbClr val="000000"/>
                </a:solidFill>
                <a:latin typeface="Arial"/>
              </a:rPr>
              <a:t>	</a:t>
            </a:r>
            <a:r>
              <a:rPr b="0" lang="en-US" sz="2400" spc="-1" strike="noStrike">
                <a:solidFill>
                  <a:srgbClr val="000000"/>
                </a:solidFill>
                <a:latin typeface="Arial"/>
              </a:rPr>
              <a:t>  10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Sean Turner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PKI-Router Protocol MIB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0 minute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Bert Wijn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7BF544AF-3101-414A-A1CA-76F2FC1A9CF0}" type="slidenum">
              <a:t>6</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G related issu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 minut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st Performance Results of RTRLib      10 minute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Matthias Waehlisch</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PU Load Estimation for BGPSEC         10 minute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Sriram Kotikalapudi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iscuss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nut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E72613D5-C0D6-46B7-9FE7-E102A9388138}" type="slidenum">
              <a:t>7</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6" name=""/>
          <p:cNvGraphicFramePr/>
          <p:nvPr/>
        </p:nvGraphicFramePr>
        <p:xfrm>
          <a:off x="609480" y="1905120"/>
          <a:ext cx="7925040" cy="4016160"/>
        </p:xfrm>
        <a:graphic>
          <a:graphicData uri="http://schemas.openxmlformats.org/drawingml/2006/table">
            <a:tbl>
              <a:tblPr/>
              <a:tblGrid>
                <a:gridCol w="3538800"/>
                <a:gridCol w="2193840"/>
                <a:gridCol w="21924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lgorithm-agility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11-0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ogon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rch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s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ghostbuster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10-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iana-objec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keyrol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ltamgm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6-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o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10-2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2B915C02-D005-49AB-AFBA-CABE6083CF5B}" type="slidenum">
              <a:t>8</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8" name=""/>
          <p:cNvGraphicFramePr/>
          <p:nvPr/>
        </p:nvGraphicFramePr>
        <p:xfrm>
          <a:off x="609480" y="1967040"/>
          <a:ext cx="7473960" cy="3470040"/>
        </p:xfrm>
        <a:graphic>
          <a:graphicData uri="http://schemas.openxmlformats.org/drawingml/2006/table">
            <a:tbl>
              <a:tblPr/>
              <a:tblGrid>
                <a:gridCol w="3505320"/>
                <a:gridCol w="2209680"/>
                <a:gridCol w="175896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validation-signal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8-0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fx-valid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3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ublic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pos-struc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8-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provision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8-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form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validation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92B5823C-463D-4751-8FBD-168B0D7C830B}" type="slidenum">
              <a:t>9</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6:36:17Z</dcterms:created>
  <dc:creator>sandy</dc:creator>
  <dc:description/>
  <dc:language>en-US</dc:language>
  <cp:lastModifiedBy>Sandra Murphy</cp:lastModifiedBy>
  <dcterms:modified xsi:type="dcterms:W3CDTF">2011-11-15T02:04:31Z</dcterms:modified>
  <cp:revision>43</cp:revision>
  <dc:subject/>
  <dc:title>SIDR Working Group</dc:title>
</cp:coreProperties>
</file>