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E7A30-24EA-4C9D-AEB8-31E85A6E4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D160A-7262-4F9E-9D94-9B4BF865C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B9E8F-2865-4BCE-990C-8F40B7FC2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3422D-FF8F-4038-A0D8-89109692A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F60B-0A5A-4807-806E-206007B0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EE63A-96B6-405C-9519-D5AACCD3E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94D9-2E90-4E22-BA69-49DF914E7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CBC9D-CC6A-49B1-9BCD-398D7B2AA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81C78-78D4-41D9-9811-8B901AF4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ACB77-7162-40CD-BFC1-976C7645E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1603-6E9A-4385-AD50-56F8FA27B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3965-A2CE-467D-8C40-8894C1B42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438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e 15 Nov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2971800" y="6244920"/>
            <a:ext cx="31240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82 Taipei, Taiw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D5C8-B011-427B-BC64-C84AB1418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tf.org/mail-archive/web/sidr/index.html" TargetMode="External"/><Relationship Id="rId2" Type="http://schemas.openxmlformats.org/officeDocument/2006/relationships/hyperlink" Target="http://www.ietf.org/html.charters/sidr-charter.html" TargetMode="External"/><Relationship Id="rId3" Type="http://schemas.openxmlformats.org/officeDocument/2006/relationships/hyperlink" Target="http://tools.ietf.org/wg/sidr/"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R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pei, Taiw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15 Nov 201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16F9D5FF-7FC1-4EC4-84AF-02088290D231}" type="slidenum">
              <a:t>1</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0" name=""/>
          <p:cNvGraphicFramePr/>
          <p:nvPr/>
        </p:nvGraphicFramePr>
        <p:xfrm>
          <a:off x="609480" y="2558880"/>
          <a:ext cx="7848720" cy="310536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alg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manifes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6-1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ation Reques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sl-si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signed-objec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ta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4-1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usecas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9-22 (new version 10-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C146B458-D286-44DE-BB21-016934C60F24}" type="slidenum">
              <a:t>10</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62" name=""/>
          <p:cNvGraphicFramePr/>
          <p:nvPr/>
        </p:nvGraphicFramePr>
        <p:xfrm>
          <a:off x="609480" y="2558880"/>
          <a:ext cx="7848720" cy="2921040"/>
        </p:xfrm>
        <a:graphic>
          <a:graphicData uri="http://schemas.openxmlformats.org/drawingml/2006/table">
            <a:tbl>
              <a:tblPr/>
              <a:tblGrid>
                <a:gridCol w="3886200"/>
                <a:gridCol w="2210040"/>
                <a:gridCol w="1752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alg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p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verview</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ki-profil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rotoco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eq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1-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thre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6-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draft-ietf-sidr-rpki-rtr-mib&g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missed deadline&g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4F8DA3ED-108D-45BB-BAB3-FA8FB9415F54}" type="slidenum">
              <a:t>11</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ummar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RFC Ed Queue: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Publication Requested: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through wglc: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dealing with wglc: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still in progress from IETF 81: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expire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newly accepted: 3</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599FFF5A-BD0C-4790-B8E3-FBEB8A4EA334}" type="slidenum">
              <a:t>12</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304920"/>
            <a:ext cx="7759800" cy="687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p:nvPr/>
        </p:nvSpPr>
        <p:spPr>
          <a:xfrm>
            <a:off x="228600" y="1066680"/>
            <a:ext cx="8839080" cy="4953240"/>
          </a:xfrm>
          <a:prstGeom prst="rect">
            <a:avLst/>
          </a:prstGeom>
          <a:noFill/>
          <a:ln w="0">
            <a:noFill/>
          </a:ln>
        </p:spPr>
        <p:style>
          <a:lnRef idx="0"/>
          <a:fillRef idx="0"/>
          <a:effectRef idx="0"/>
          <a:fontRef idx="minor"/>
        </p:style>
        <p:txBody>
          <a:bodyPr lIns="90360" rIns="90360" tIns="44280" bIns="44280" anchor="t">
            <a:normAutofit fontScale="95000"/>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 </a:t>
            </a:r>
            <a:br>
              <a:rPr sz="1400"/>
            </a:b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SIDR IETF 81 Quebec, Canada</a:t>
            </a:r>
          </a:p>
        </p:txBody>
      </p:sp>
      <p:sp>
        <p:nvSpPr>
          <p:cNvPr id="3" name="PlaceHolder 2"/>
          <p:cNvSpPr>
            <a:spLocks noGrp="1"/>
          </p:cNvSpPr>
          <p:nvPr>
            <p:ph type="sldNum" idx="3"/>
          </p:nvPr>
        </p:nvSpPr>
        <p:spPr/>
        <p:txBody>
          <a:bodyPr/>
          <a:p>
            <a:fld id="{3F8377B8-7524-45E7-909E-681545A9205C}" type="slidenum">
              <a:t>2</a:t>
            </a:fld>
          </a:p>
        </p:txBody>
      </p:sp>
      <p:sp>
        <p:nvSpPr>
          <p:cNvPr id="4" name="PlaceHolder 3"/>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Agenda and Slides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proceedings/82/agenda/sidr.html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datatracker.ietf.org/meeting/82/materials.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 </a:t>
            </a:r>
            <a:br>
              <a:rPr sz="2400"/>
            </a:br>
            <a:r>
              <a:rPr b="0" lang="en-US" sz="2400" spc="-1" strike="noStrike" u="sng">
                <a:solidFill>
                  <a:srgbClr val="009999"/>
                </a:solidFill>
                <a:uFillTx/>
                <a:latin typeface="Arial"/>
                <a:hlinkClick r:id="rId1"/>
              </a:rPr>
              <a:t>http://www.ietf.org/mail-archive/web/sidr/index.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bber room:  sidr@jabber.ietf.or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tool: http://tools.ietf.org/wg/sidr/minu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feed: http://tools.ietf.org/agenda/8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archive: http://www.ietf.org/audio/ietf8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er page: </a:t>
            </a:r>
            <a:r>
              <a:rPr b="0" lang="en-US" sz="2400" spc="-1" strike="noStrike" u="sng">
                <a:solidFill>
                  <a:srgbClr val="009999"/>
                </a:solidFill>
                <a:uFillTx/>
                <a:latin typeface="Arial"/>
                <a:hlinkClick r:id="rId2"/>
              </a:rPr>
              <a:t>http://www.ietf.org/html.charters/sidr-charter.htm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s: </a:t>
            </a:r>
            <a:r>
              <a:rPr b="0" lang="en-US" sz="2400" spc="-1" strike="noStrike" u="sng">
                <a:solidFill>
                  <a:srgbClr val="009999"/>
                </a:solidFill>
                <a:uFillTx/>
                <a:latin typeface="Arial"/>
                <a:hlinkClick r:id="rId3"/>
              </a:rPr>
              <a:t>http://tools.ietf.org/wg/sidr/</a:t>
            </a:r>
            <a:r>
              <a:rPr b="0" lang="en-US" sz="2400" spc="-1" strike="noStrike" u="sng">
                <a:solidFill>
                  <a:srgbClr val="000000"/>
                </a:solidFill>
                <a:uFillTx/>
                <a:latin typeface="Arial"/>
              </a:rPr>
              <a:t> </a:t>
            </a:r>
            <a:br>
              <a:rPr sz="2400"/>
            </a:br>
            <a:r>
              <a:rPr b="0" lang="en-US" sz="2000" spc="-1" strike="noStrike">
                <a:solidFill>
                  <a:srgbClr val="000000"/>
                </a:solidFill>
                <a:latin typeface="Arial"/>
              </a:rPr>
              <a:t>(tools page also has links to html agenda, jabber room, audio, et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CFE4CBC3-D150-4F49-8627-FA3E423EAE4D}" type="slidenum">
              <a:t>3</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ivi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t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ba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878DD59F-A4E6-47CB-AF52-6027BF7B5732}" type="slidenum">
              <a:t>4</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dministrivia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raft status                                                   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One of the chai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pdated Drafts                                            3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GPSEC Protoco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Matt Lepinsk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efix Valid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John Scudd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GPSEC Operation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nu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andy Bu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708B990B-7145-49F2-AD66-BC0AFE2CB1DF}" type="slidenum">
              <a:t>5</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cent WGLC and status                               75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Origin Operations                                    5 minute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Randy B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GPSEC Requirement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a:t>
            </a:r>
            <a:r>
              <a:rPr b="0" lang="en" sz="2400" spc="-1" strike="noStrike">
                <a:solidFill>
                  <a:srgbClr val="000000"/>
                </a:solidFill>
                <a:latin typeface="Arial"/>
              </a:rPr>
              <a:t>Randy B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lgorithm Agilit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 minute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one of the author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ew WG Draf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GPSEC Profiles and Algorithms  </a:t>
            </a:r>
            <a:r>
              <a:rPr b="0" lang="en-US" sz="2400" spc="-1" strike="noStrike">
                <a:solidFill>
                  <a:srgbClr val="000000"/>
                </a:solidFill>
                <a:latin typeface="Arial"/>
              </a:rPr>
              <a:t>	</a:t>
            </a:r>
            <a:r>
              <a:rPr b="0" lang="en-US" sz="2400" spc="-1" strike="noStrike">
                <a:solidFill>
                  <a:srgbClr val="000000"/>
                </a:solidFill>
                <a:latin typeface="Arial"/>
              </a:rPr>
              <a:t>  10 minutes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Sean Turner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PKI-Router Protocol MIB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0 minutes</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Bert Wijn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C1E9960A-0107-42B9-B5B3-F98C71812B1A}" type="slidenum">
              <a:t>6</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G related issu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 minut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st Performance Results of RTRLib      10 minute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Matthias Waehlisch</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PU Load Estimation for BGPSEC         10 minute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enter: Sriram Kotikalapudi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iscuss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nut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IDR IETF 81 Quebec, Canada</a:t>
            </a:r>
          </a:p>
        </p:txBody>
      </p:sp>
      <p:sp>
        <p:nvSpPr>
          <p:cNvPr id="5" name="PlaceHolder 4"/>
          <p:cNvSpPr>
            <a:spLocks noGrp="1"/>
          </p:cNvSpPr>
          <p:nvPr>
            <p:ph type="sldNum" idx="3"/>
          </p:nvPr>
        </p:nvSpPr>
        <p:spPr/>
        <p:txBody>
          <a:bodyPr/>
          <a:p>
            <a:fld id="{068A6071-C63F-4EF2-9DEA-F81DCA45C9EC}" type="slidenum">
              <a:t>7</a:t>
            </a:fld>
          </a:p>
        </p:txBody>
      </p:sp>
      <p:sp>
        <p:nvSpPr>
          <p:cNvPr id="6" name="PlaceHolder 5"/>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6" name=""/>
          <p:cNvGraphicFramePr/>
          <p:nvPr/>
        </p:nvGraphicFramePr>
        <p:xfrm>
          <a:off x="609480" y="1905120"/>
          <a:ext cx="7925040" cy="4016160"/>
        </p:xfrm>
        <a:graphic>
          <a:graphicData uri="http://schemas.openxmlformats.org/drawingml/2006/table">
            <a:tbl>
              <a:tblPr/>
              <a:tblGrid>
                <a:gridCol w="3538800"/>
                <a:gridCol w="2193840"/>
                <a:gridCol w="21924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lgorithm-agility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11-0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ogon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rch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s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ghostbuster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10-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iana-objec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keyrol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ltamgm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6-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o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10-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F9FA2C3A-D41A-4ACD-ADCB-5FA6EFB1BD77}" type="slidenum">
              <a:t>8</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tatus</a:t>
            </a:r>
            <a:endParaRPr b="0" lang="en-US" sz="4400" spc="-1" strike="noStrike">
              <a:solidFill>
                <a:srgbClr val="000000"/>
              </a:solidFill>
              <a:latin typeface="Arial"/>
            </a:endParaRPr>
          </a:p>
        </p:txBody>
      </p:sp>
      <p:graphicFrame>
        <p:nvGraphicFramePr>
          <p:cNvPr id="58" name=""/>
          <p:cNvGraphicFramePr/>
          <p:nvPr/>
        </p:nvGraphicFramePr>
        <p:xfrm>
          <a:off x="609480" y="1967040"/>
          <a:ext cx="7473960" cy="3470040"/>
        </p:xfrm>
        <a:graphic>
          <a:graphicData uri="http://schemas.openxmlformats.org/drawingml/2006/table">
            <a:tbl>
              <a:tblPr/>
              <a:tblGrid>
                <a:gridCol w="3505320"/>
                <a:gridCol w="2209680"/>
                <a:gridCol w="175896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validation-signal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8-0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fx-valid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10-3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ublic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pos-struc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8-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escerts-provision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8-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form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oa-validation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5-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1 Quebec, Canada</a:t>
            </a:r>
          </a:p>
        </p:txBody>
      </p:sp>
      <p:sp>
        <p:nvSpPr>
          <p:cNvPr id="4" name="PlaceHolder 3"/>
          <p:cNvSpPr>
            <a:spLocks noGrp="1"/>
          </p:cNvSpPr>
          <p:nvPr>
            <p:ph type="sldNum" idx="3"/>
          </p:nvPr>
        </p:nvSpPr>
        <p:spPr/>
        <p:txBody>
          <a:bodyPr/>
          <a:p>
            <a:fld id="{EFC1C755-C9BE-474D-90BA-1FF1A042A4A2}" type="slidenum">
              <a:t>9</a:t>
            </a:fld>
          </a:p>
        </p:txBody>
      </p:sp>
      <p:sp>
        <p:nvSpPr>
          <p:cNvPr id="5" name="PlaceHolder 4"/>
          <p:cNvSpPr>
            <a:spLocks noGrp="1"/>
          </p:cNvSpPr>
          <p:nvPr>
            <p:ph type="dt" idx="1"/>
          </p:nvPr>
        </p:nvSpPr>
        <p:spPr/>
        <p:txBody>
          <a:bodyPr/>
          <a:p>
            <a:r>
              <a:rPr lang="en-US"/>
              <a:t>Thu 28 Jul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6:36:17Z</dcterms:created>
  <dc:creator>sandy</dc:creator>
  <dc:description/>
  <dc:language>en-US</dc:language>
  <cp:lastModifiedBy>Sandra Murphy</cp:lastModifiedBy>
  <dcterms:modified xsi:type="dcterms:W3CDTF">2011-11-15T02:04:31Z</dcterms:modified>
  <cp:revision>43</cp:revision>
  <dc:subject/>
  <dc:title>SIDR Working Group</dc:title>
</cp:coreProperties>
</file>