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43D6-FDC9-4FD4-8CCF-0D44C442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CB33-2588-4296-AF94-233B00F9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288-209C-46B4-AB5C-372FA97B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7532-0BEE-4933-BCED-8C90229D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C435-1D7D-492A-8D6B-683C630E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B28-7F01-46F8-B09B-4DBE4BAB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96E4-1297-4605-A83C-ED8C7628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E5EB-B123-421C-A023-2D5F17B0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A153-B41B-49A5-8A58-CF91FDED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9A57-366B-42AE-81A8-F25A6522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C4F9-D37A-4C1E-A635-C90A271F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7205-28EC-47AA-8966-5891288B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446E-8702-40A1-8A13-DF262D66B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447920"/>
            <a:ext cx="8076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sidr-bgpsec-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 Lepin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epinski@bb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sidr-bgpsec-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to everyone who provided comments on the -00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thanks to Wes George and Sandy Murphy who hav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nt comments on the -01 draf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ount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as consensus at the Quebec meeting that BGPSEC should accommodate route servers that do not wish to increase the length of the AS-P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-01 version adds a “pCount” field to address this route server issue and to permit adding multiple copies of an AS number without multiple sign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(copies of AS numb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6040" y="170496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5680" y="31129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11160" y="2300400"/>
            <a:ext cx="56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-PATH :   X      Y      Z      Z    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5320" y="175248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 signa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21960" y="4281480"/>
            <a:ext cx="38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-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  X      Y      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18720" y="3672000"/>
            <a:ext cx="37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      1       1  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15320" y="31734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 signa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5400" y="5622840"/>
            <a:ext cx="831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 This requires “expanding” the AS-PATH when we send an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a BGPSEC speaker to a non-BGPSEC spe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4320" y="5029200"/>
            <a:ext cx="479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  AS Path Length is Sum of p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ount = 0 (Route Server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ute Server signs with its own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s the security properties of BGPSE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ute Server may set pCount to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ay a route server does not bias traffic away from itself by increasing the length of the AS-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ntity that is not a route server could set pCount to 0 to bias traffic towards it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r peer is not a route server and sends you an update with pCount = 0, you should drop the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pCount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6040" y="170496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5680" y="364644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9360" y="2300400"/>
            <a:ext cx="652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-PATH :   W      Y      Z      Z      Z    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15320" y="175248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6 signa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19080" y="4815000"/>
            <a:ext cx="44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-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  W     X      Y     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5120" y="4205160"/>
            <a:ext cx="44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      1       0      1  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5320" y="370692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 signa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5120" y="5394240"/>
            <a:ext cx="802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 for the Working Group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is a reasonable way to handle route serv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7560" y="2960640"/>
            <a:ext cx="650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 X is an “invisible” Route Server between W an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ng Replay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mary goal of BGPSEC is to prevent your routes from being hijacked by malicious entities that have never legitimately been on the path for your pre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dditional goal of BGPSEC is to prevent someone that you used to do business with from replaying stale information to keep attracting your traff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ng Replay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ies of replay at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relationships change on a slow time-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more difficult for humans to detect replay attacks than other types of route hij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-01 draft has an expire-time mechanism to limit vulnerability to replay at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of this mechanism is just to make sure that ancient business relationships do not come back to haun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t is that validity periods will be long, because business relationships don’t change over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ng Replay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has been active discussion on the list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ther the benefits (replay protection) of the current expire-time mechanism are worth the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s about the dangers of a misbehaving party who “beacons” too of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alternative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not going to solve all this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have an informed debate about this mechanism, we probably need a better analysis of what is truly the cost of the current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00:43:14Z</dcterms:created>
  <dc:creator>MattL</dc:creator>
  <dc:description/>
  <dc:language>en-US</dc:language>
  <cp:lastModifiedBy>MattL</cp:lastModifiedBy>
  <dcterms:modified xsi:type="dcterms:W3CDTF">2011-11-15T01:52:07Z</dcterms:modified>
  <cp:revision>3</cp:revision>
  <dc:subject/>
  <dc:title>Draft-ietf-sidr-bgpsec-protocol</dc:title>
</cp:coreProperties>
</file>