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BC6-62E7-4290-849A-0B9C90A4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494-400D-46F3-A705-2E303ADF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AF2-C5B9-4954-B8A4-15B48217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83B-3969-447F-9FF8-BFBB4606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6EC-A49C-4F75-80AD-4BA7851B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C16-BB19-4B0F-AC43-C65AFC45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F61-A20E-4955-B509-6A22220A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145-0F3E-4630-8EE7-356D9BAF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B8B-A56A-478D-8B97-93910C59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BFA-65CA-4B2B-BDED-2D7BA294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A90-C617-4550-85A1-9D37546D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48C-F408-45E5-82D7-614804C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A57A-00F5-4F21-9791-299C9C91D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44792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sidr-bgpsec-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 Lepin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epinski@bb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sidr-bgpsec-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to everyone who provided comments on the -00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thanks to Wes George and Sandy Murphy who 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t comments on the -01 draf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ount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consensus at the Quebec meeting that BGPSEC should accommodate route servers that do not wish to increase the length of the AS-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-01 version adds a “pCount” field to address this route server issue and to permit adding multiple copies of an AS number without multiple 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copies of AS numb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040" y="170496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5680" y="31129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1160" y="2300400"/>
            <a:ext cx="56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-PATH :   X      Y      Z      Z  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5320" y="17524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 sign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21960" y="42814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-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 X      Y 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3672000"/>
            <a:ext cx="37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     1       1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5320" y="31734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 sign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5400" y="5622840"/>
            <a:ext cx="831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This requires “expanding” the AS-PATH when we send an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 BGPSEC speaker to a non-BGPSEC 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4320" y="5029200"/>
            <a:ext cx="47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 AS Path Length is Sum of p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ount = 0 (Route Serv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ute Server signs with its ow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the security properties of BGPS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ute Server may set pCount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y a route server does not bias traffic away from itself by increasing the length of the AS-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tity that is not a route server could set pCount to 0 to bias traffic towards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peer is not a route server and sends you an update with pCount = 0, you should drop the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pCoun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040" y="170496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5680" y="36464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9360" y="2300400"/>
            <a:ext cx="652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-PATH :   W      Y      Z      Z      Z  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5320" y="17524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 sign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9080" y="481500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-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 W     X   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5120" y="4205160"/>
            <a:ext cx="44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     1       0      1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5320" y="37069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 sign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5120" y="5394240"/>
            <a:ext cx="802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for the Working Grou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a reasonable way to handle route serv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7560" y="2960640"/>
            <a:ext cx="65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X is an “invisible” Route Server between W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Replay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goal of BGPSEC is to prevent your routes from being hijacked by malicious entities that have never legitimately been on the path for your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ditional goal of BGPSEC is to prevent someone that you used to do business with from replaying stale information to keep attracting your traf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Replay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replay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relationships change on a slow time-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more difficult for humans to detect replay attacks than other types of route hij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-01 draft has an expire-time mechanism to limit vulnerability to replay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this mechanism is just to make sure that ancient business relationships do not come back to haun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 is that validity periods will be long, because business relationships don’t change over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Replay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has been active discussion on the lis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he benefits (replay protection) of the current expire-time mechanism are worth the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about the dangers of a misbehaving party who “beacons” too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alternativ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not going to solve all this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have an informed debate about this mechanism, we probably need a better analysis of what is truly the cost of the curren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0:43:14Z</dcterms:created>
  <dc:creator>MattL</dc:creator>
  <dc:description/>
  <dc:language>en-US</dc:language>
  <cp:lastModifiedBy>MattL</cp:lastModifiedBy>
  <dcterms:modified xsi:type="dcterms:W3CDTF">2011-11-15T01:52:07Z</dcterms:modified>
  <cp:revision>3</cp:revision>
  <dc:subject/>
  <dc:title>Draft-ietf-sidr-bgpsec-protocol</dc:title>
</cp:coreProperties>
</file>