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1EDD-802B-4DF7-B88C-E1A8D98AB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7AB7-286B-4C34-981C-D68458193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3B11-F0DA-480C-8410-CDA778FA9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7CDB-81D3-4972-B8FC-68D9881C2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5CF5-C81D-4201-B608-FF99CFF7F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PU usage considers both 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E4AF-42D6-4A05-9416-CBF732782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3A4-FE85-4B6F-835B-10688F17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E36-BB5F-40D8-AB6E-13446EF9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1E4-35F1-47FE-B14D-3BFD937A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8FB-F0E0-453A-AE91-A4E76AB0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DD2-BDA4-453C-A86F-73B9D117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EE3-873A-4962-81F0-AB118228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BCF-55BA-4FCC-AA90-44079825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D02-8DDA-47E1-A323-B36CCDB9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84F-1C80-4266-B075-3859059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CC9-BE06-4863-80C0-BB91388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15D-EAA9-4C30-8B40-E59B047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A74-3513-49F6-8861-9C309287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EB5E-B154-4B4C-81F6-1465DE04A8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F65E-5D51-40A8-A22B-171BADB44F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6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PKI RTR Client C Lib (RTRlib)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ementation Update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st, Preliminary Performance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abian Holler, Thomas C. Schmidt, and</a:t>
            </a:r>
            <a:br>
              <a:rPr sz="2400"/>
            </a:b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Matthias Wähli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ller_f@informatik.haw-hamburg.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{t.schmidt, waehlisch}@ieee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AW-logo-hq"/>
          <p:cNvPicPr/>
          <p:nvPr/>
        </p:nvPicPr>
        <p:blipFill>
          <a:blip r:embed="rId1"/>
          <a:stretch/>
        </p:blipFill>
        <p:spPr>
          <a:xfrm>
            <a:off x="2170080" y="6019920"/>
            <a:ext cx="225756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_RGB_300dpi"/>
          <p:cNvPicPr/>
          <p:nvPr/>
        </p:nvPicPr>
        <p:blipFill>
          <a:blip r:embed="rId2"/>
          <a:stretch/>
        </p:blipFill>
        <p:spPr>
          <a:xfrm>
            <a:off x="4859280" y="6153120"/>
            <a:ext cx="2089080" cy="55260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5A10-359B-46CA-AE29-B52FA6E20F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ing Behavior of RTRlib: CPU Lo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C4F4-461E-45E1-B961-3EE55954AB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220760" y="2421000"/>
            <a:ext cx="6951600" cy="4143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artificial prefixes to PFX Validate Table: 2,093,97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e performance as for 1336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PU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&amp; Prefix Update 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1F1F-550F-4812-BFB2-FD5F096AAB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:\user\mw\work\ietf\meetings\ietf82\prefixvalidation.tif"/>
          <p:cNvPicPr/>
          <p:nvPr/>
        </p:nvPicPr>
        <p:blipFill>
          <a:blip r:embed="rId1"/>
          <a:stretch/>
        </p:blipFill>
        <p:spPr>
          <a:xfrm>
            <a:off x="1187280" y="1484280"/>
            <a:ext cx="64090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ory Consu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AE1-8A04-4D1A-B1DD-9E9832B58E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feld 6"/>
          <p:cNvSpPr/>
          <p:nvPr/>
        </p:nvSpPr>
        <p:spPr>
          <a:xfrm>
            <a:off x="6804000" y="278136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de not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ing 1.000.000 entries from a file takes  ~4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:\user\mw\work\ietf\meetings\ietf82\memoryconsumption.tif"/>
          <p:cNvPicPr/>
          <p:nvPr/>
        </p:nvPicPr>
        <p:blipFill>
          <a:blip r:embed="rId1"/>
          <a:stretch/>
        </p:blipFill>
        <p:spPr>
          <a:xfrm>
            <a:off x="826920" y="1484280"/>
            <a:ext cx="58802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 &amp; Out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ageable resource consumptions requi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 invalid prefixes due to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alid origin 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interesting: For most of them, ROA origin only one hop away from announced origin -&gt; Any ideas?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ease date for version 0.2: End of this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test purposes, we will provide an open RTR-Server in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website: http://rpki.realmv6.org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interest, we can add continuously updated BGP validation statist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A6C1-CB39-459C-AE7D-1313BE301B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of RTRl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RPKI-RTR client protocol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ine so f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idea announced @ IETF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details @ IETF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version released 1st Septemb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failover between RTR-Servers supp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A14-5E6C-4F05-B4E5-BD34BBA49F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al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ered architecture to support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6A87-E14E-438F-B9A2-FD91481D86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afik 5" descr="components.png"/>
          <p:cNvPicPr/>
          <p:nvPr/>
        </p:nvPicPr>
        <p:blipFill>
          <a:blip r:embed="rId1"/>
          <a:stretch/>
        </p:blipFill>
        <p:spPr>
          <a:xfrm>
            <a:off x="1116000" y="2276640"/>
            <a:ext cx="695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release: Version 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s many bug fi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ks also to the interop tests with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cynic and RPKI-Valid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s RTR-Server failov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 of RTR Connection Mana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or changes in the AP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istent naming of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enience functions ad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ded debug mess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00CE-5A37-4A2E-B2B7-00345761B6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liminary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perspectives of evalu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state of RPKI for ‘real’ BGP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of the RTRlib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how (preliminary) results f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1B99-6D0F-4D76-9F78-09EE680CDB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chmark runs on commodity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D Athlon 64 X2 CPU 4200+ and 2 GB 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DBE1-B7E1-49FA-9A88-35A0002CFE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7848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day measurement (November 4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336 prefixes received from RTR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four different trust anch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264 unique prefixes verified as val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alid BGP Upd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0% have a correct origin but incorrect MaxLeng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have an incorrect origin 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exists a ROA Origin that is 1 hop away from the announced origin AS in 90% of the c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ilar order of magnitude for 5 day measur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2C65-7E39-4BF6-9DDA-8D4946C75E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U Load – Nov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8383-131E-4126-8A14-E424B0666B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14440" y="1544760"/>
            <a:ext cx="8161200" cy="4759200"/>
          </a:xfrm>
          <a:prstGeom prst="rect">
            <a:avLst/>
          </a:prstGeom>
          <a:ln w="0">
            <a:noFill/>
          </a:ln>
        </p:spPr>
      </p:pic>
      <p:sp>
        <p:nvSpPr>
          <p:cNvPr id="77" name="Textfeld 7"/>
          <p:cNvSpPr/>
          <p:nvPr/>
        </p:nvSpPr>
        <p:spPr>
          <a:xfrm>
            <a:off x="839160" y="623736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336 prefixes received from RT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U Load – Nov. 9-Nov. 1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4C92-8BA7-419A-BECE-69BFC36EED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14440" y="1544760"/>
            <a:ext cx="79930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1:13:44Z</dcterms:created>
  <dc:creator>mw</dc:creator>
  <dc:description/>
  <dc:language>en-US</dc:language>
  <cp:lastModifiedBy>Matthias Wählisch</cp:lastModifiedBy>
  <dcterms:modified xsi:type="dcterms:W3CDTF">2011-11-15T01:25:09Z</dcterms:modified>
  <cp:revision>463</cp:revision>
  <dc:subject/>
  <dc:title>Folie 1</dc:title>
</cp:coreProperties>
</file>