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B20-914A-4A92-91AA-887025F26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2D4-8A30-4890-A6F1-736AB657A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0A8-8765-4CFF-AFB3-76AEB5214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36F4-7D60-448E-8BCB-F6CA2D7B2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B26-0909-44C9-BA70-26C54B260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PU usage considers both 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E938-9593-47F7-BE6F-E4D21BEA9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A2E-DDCF-479F-ACA9-CDC171E7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149-52AE-4548-A2B1-7478FCA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3A5-250E-4A21-A2E5-A2BD7B2C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443-E47F-4983-B7FB-53B3E7C8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459-185E-40AA-B3BB-0D8A3B9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F9A-2BF7-43DE-8AFE-926D79CE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8E5-B5BD-41C1-8E50-E7B3724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715-C262-4BBE-B4DE-F2D6C7B8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4C7-98AF-407B-9C78-16E64D07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49D-BA1B-4532-BC4F-24631CE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AF5-DCF8-4485-BDB8-500C5232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6EF-610F-4096-8C27-6DC6CE0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B46-C11E-4D26-A8A4-41DE85BC1C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F0A-485B-4EEB-BADA-B95F8181B9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PKI RTR Client C Lib (RTRlib)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ation Update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st, Preliminary Performanc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abian Holler, Thomas C. Schmidt, and</a:t>
            </a:r>
            <a:br>
              <a:rPr sz="2400"/>
            </a:b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Matthias Wähli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ller_f@informatik.haw-hamburg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t.schmidt, waehlisch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217008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4859280" y="6153120"/>
            <a:ext cx="2089080" cy="55260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C5BD-B7CE-4D25-909A-E90FE61CA2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ing Behavior of RTRlib: CPU Lo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703-503C-4848-8864-E9C152CCD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20760" y="2421000"/>
            <a:ext cx="6951600" cy="414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artificial prefixes to PFX Validate Table: 2,093,97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performance as for 1336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PU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&amp; Prefix Update 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A17-0299-4D9A-847C-3078AB3AFC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user\mw\work\ietf\meetings\ietf82\prefixvalidation.tif"/>
          <p:cNvPicPr/>
          <p:nvPr/>
        </p:nvPicPr>
        <p:blipFill>
          <a:blip r:embed="rId1"/>
          <a:stretch/>
        </p:blipFill>
        <p:spPr>
          <a:xfrm>
            <a:off x="1187280" y="1484280"/>
            <a:ext cx="64090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Consu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30B-EFD4-4DCB-9B70-8E1803F390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6"/>
          <p:cNvSpPr/>
          <p:nvPr/>
        </p:nvSpPr>
        <p:spPr>
          <a:xfrm>
            <a:off x="6804000" y="278136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de not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1.000.000 entries from a file takes  ~4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:\user\mw\work\ietf\meetings\ietf82\memoryconsumption.tif"/>
          <p:cNvPicPr/>
          <p:nvPr/>
        </p:nvPicPr>
        <p:blipFill>
          <a:blip r:embed="rId1"/>
          <a:stretch/>
        </p:blipFill>
        <p:spPr>
          <a:xfrm>
            <a:off x="826920" y="1484280"/>
            <a:ext cx="58802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 &amp; Out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eable resource consumptions requ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invalid prefixes due to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alid origin 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interesting: For most of them, ROA origin only one hop away from announced origin -&gt; Any ideas?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ease date for version 0.2: End of this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est purposes, we will provide an open RTR-Server in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website: http://rpki.realmv6.org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interest, we can add continuously updated BGP validation statist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BD5-C4E9-40B6-9968-891DB77D57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RTRl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RPKI-RTR client protocol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ine 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idea announced @ IETF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details @ IETF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version released 1st Septemb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failover between RTR-Server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5BF-89FE-4816-9234-82D7F11B97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a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ed architecture to support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8524-4AA9-4DA8-98B9-774C845EF5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afik 5" descr="components.png"/>
          <p:cNvPicPr/>
          <p:nvPr/>
        </p:nvPicPr>
        <p:blipFill>
          <a:blip r:embed="rId1"/>
          <a:stretch/>
        </p:blipFill>
        <p:spPr>
          <a:xfrm>
            <a:off x="1116000" y="2276640"/>
            <a:ext cx="695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release: Version 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s many bug fi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ks also to the interop tests with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ynic and RPKI-Valid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s RTR-Server failov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 of RTR Connection Mana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or changes in the AP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stent naming of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enience functions ad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ded debug mess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1E2-AAAC-458A-9C5A-A8E12AB1CE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liminary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erspectives of eval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state of RPKI for ‘real’ BGP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of the RTRlib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how (preliminary) results f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498-2785-4129-B517-9118ECFF11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chmark runs on commodity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D Athlon 64 X2 CPU 4200+ and 2 GB 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B8F-7686-430A-9086-4DED3F37D7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7848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day measurement (November 4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36 prefixes received from RTR c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four different trust anch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264 unique prefixes verified as val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alid BGP Upd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0% have a correct origin but incorrect MaxLeng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have an incorrect origin 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exists a ROA Origin that is 1 hop away from the announced origin AS in 90% of the c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ilar order of magnitude for 5 day measur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B7A0-9A6C-42C8-8518-6B5ED7B50B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U Load – Nov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196D-D70E-4CEA-9283-E60AB8BB55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14440" y="1544760"/>
            <a:ext cx="8161200" cy="4759200"/>
          </a:xfrm>
          <a:prstGeom prst="rect">
            <a:avLst/>
          </a:prstGeom>
          <a:ln w="0">
            <a:noFill/>
          </a:ln>
        </p:spPr>
      </p:pic>
      <p:sp>
        <p:nvSpPr>
          <p:cNvPr id="77" name="Textfeld 7"/>
          <p:cNvSpPr/>
          <p:nvPr/>
        </p:nvSpPr>
        <p:spPr>
          <a:xfrm>
            <a:off x="839160" y="623736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336 prefixes received from RT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U Load – Nov. 9-Nov. 1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6E5-4B8E-4B6C-8F1E-071BCBC37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14440" y="1544760"/>
            <a:ext cx="7993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Matthias Wählisch</cp:lastModifiedBy>
  <dcterms:modified xsi:type="dcterms:W3CDTF">2011-11-15T01:25:09Z</dcterms:modified>
  <cp:revision>463</cp:revision>
  <dc:subject/>
  <dc:title>Folie 1</dc:title>
</cp:coreProperties>
</file>