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move the slid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E4D2-189B-4750-9142-7A443F664BC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15C4-D733-4D87-BF50-DE36F7D6017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6067-64FB-4A5B-9C0E-0D963E03F1E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51960" y="42984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51960" y="42984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C682555A-7D0F-4923-B7C3-FCEF339FB0A8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" name="Rectangle 22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3" name="Rectangle 62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4" name="Rectangle 65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Rectangle 80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grpSp>
        <p:nvGrpSpPr>
          <p:cNvPr id="7" name="Group 81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8" name="Rectangle 82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9" name="Rectangle 83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0" name="Rectangle 84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1" name="Rectangle 85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12" name="Group 86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3" name="Rectangle 87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4" name="Rectangle 88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5" name="Rectangle 89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" name="Rectangle 90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17" name="Group 91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18" name="Rectangle 92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" name="Rectangle 93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" name="Rectangle 94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1" name="Rectangle 95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2" name="Group 96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3" name="Rectangle 97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4" name="Rectangle 98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" name="Rectangle 99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" name="Rectangle 100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7" name="Group 101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28" name="Rectangle 102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9" name="Rectangle 103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0" name="Rectangle 104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1" name="Rectangle 105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32" name="Group 106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3" name="Rectangle 107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4" name="Rectangle 108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5" name="Rectangle 109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6" name="Rectangle 110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37" name="Group 111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38" name="Rectangle 112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9" name="Rectangle 113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0" name="Rectangle 114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1" name="Rectangle 115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42" name="Group 116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3" name="Rectangle 117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4" name="Rectangle 118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5" name="Rectangle 119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6" name="Rectangle 120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47" name="Group 121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48" name="Rectangle 122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9" name="Rectangle 123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0" name="Rectangle 124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1" name="Rectangle 125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52" name="Group 126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3" name="Rectangle 127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4" name="Rectangle 128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5" name="Rectangle 129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6" name="Rectangle 130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57" name="Group 131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58" name="Rectangle 132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9" name="Rectangle 133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0" name="Rectangle 134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1" name="Rectangle 135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62" name="Group 136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63" name="Rectangle 137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4" name="Rectangle 138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5" name="Rectangle 139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6" name="Rectangle 140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67" name="Group 141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68" name="Rectangle 142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9" name="Rectangle 143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0" name="Rectangle 144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1" name="Rectangle 145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2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www.huawei.com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09" name="Text Box 66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907640" y="4149720"/>
            <a:ext cx="5185080" cy="122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MS PMincho"/>
                <a:ea typeface="MS PMincho"/>
              </a:rPr>
              <a:t>Yu  Fu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MS PMincho"/>
                <a:ea typeface="MS PMincho"/>
              </a:rPr>
              <a:t>Sheng Jiang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MS PMincho"/>
                <a:ea typeface="MS PMincho"/>
              </a:rPr>
              <a:t>Yong Cui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MS PMincho"/>
                <a:ea typeface="MS PMincho"/>
              </a:rPr>
              <a:t>Jiang Dong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23640" y="620280"/>
            <a:ext cx="8280360" cy="302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rutigerNext LT Medium"/>
                <a:ea typeface="宋体"/>
              </a:rPr>
              <a:t>DS-Lite Management Information Base (MIB)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FrutigerNext LT Medium"/>
              </a:rPr>
              <a:t> draft-fu-softwire-dslite-mib-02</a:t>
            </a:r>
            <a:endParaRPr b="0" lang="en-US" sz="28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7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101520">
            <a:solidFill>
              <a:srgbClr val="316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8520" bIns="-38520" anchor="ctr">
            <a:spAutoFit/>
          </a:bodyPr>
          <a:p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952040" cy="695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utigerNext LT Medium"/>
              </a:rPr>
              <a:t>Why we </a:t>
            </a:r>
            <a:r>
              <a:rPr b="1" lang="en-US" sz="3600" spc="-1" strike="noStrike">
                <a:solidFill>
                  <a:srgbClr val="000000"/>
                </a:solidFill>
                <a:latin typeface="FrutigerNext LT Medium"/>
              </a:rPr>
              <a:t>need</a:t>
            </a:r>
            <a:r>
              <a:rPr b="1" lang="en-US" sz="4400" spc="-1" strike="noStrike">
                <a:solidFill>
                  <a:srgbClr val="000000"/>
                </a:solidFill>
                <a:latin typeface="FrutigerNext LT Medium"/>
              </a:rPr>
              <a:t> DS-Lite MIB</a:t>
            </a:r>
            <a:endParaRPr b="0" lang="en-US" sz="4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755640" y="1197000"/>
            <a:ext cx="8137440" cy="56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The NAT-MIB [RFC4008] is designed to carry translation from any address family to any address family, therefore supports IPv4 to IPv4 translation.</a:t>
            </a: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The tunnel MIB [RFC4087] is designed for managing tunnels of any type over IPv4 and IPv6 networks, therefore supports IP in IP tunnels.</a:t>
            </a: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So why we need DS-Lite MIB?</a:t>
            </a: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However, </a:t>
            </a:r>
            <a:r>
              <a:rPr b="0" lang="en-GB" sz="2000" spc="-1" strike="noStrike">
                <a:solidFill>
                  <a:srgbClr val="000000"/>
                </a:solidFill>
                <a:latin typeface="FrutigerNext LT Regular"/>
              </a:rPr>
              <a:t>In DS-Lite scenario, the AFTR is not only the tunnel end concentrator, but also a 4-4 translator. </a:t>
            </a:r>
            <a:r>
              <a:rPr b="0" lang="en-GB" sz="2000" spc="-1" strike="noStrike">
                <a:solidFill>
                  <a:srgbClr val="ff0000"/>
                </a:solidFill>
                <a:latin typeface="FrutigerNext LT Regular"/>
              </a:rPr>
              <a:t>Within the AFTR, tunnel information and translation information MUST be mapped each other.</a:t>
            </a: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utigerNext LT Medium"/>
              </a:rPr>
              <a:t>Subtree of DS-Lite MIB</a:t>
            </a:r>
            <a:endParaRPr b="0" lang="en-US" sz="36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11280" y="1341000"/>
            <a:ext cx="7929360" cy="2374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89000"/>
          </a:bodyPr>
          <a:p>
            <a:pPr marL="266760" indent="-266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Position of DS-Lite MIB:  </a:t>
            </a: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dsliteMIB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 ::= {transmission xxx}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66760" indent="-266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dsliteTunnel: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nformation about Tunn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66760" indent="-266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dsliteNAT: Information aboute N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66760" indent="-266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dsliteInfo: </a:t>
            </a: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statistical information in the DS-Lite instance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66760" indent="-266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dsliteTraps: the alarm information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66760" indent="-266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dsliteConformance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66760" indent="-266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162" name="组合 16"/>
          <p:cNvGrpSpPr/>
          <p:nvPr/>
        </p:nvGrpSpPr>
        <p:grpSpPr>
          <a:xfrm>
            <a:off x="468360" y="4365720"/>
            <a:ext cx="8315280" cy="1872000"/>
            <a:chOff x="468360" y="4365720"/>
            <a:chExt cx="8315280" cy="1872000"/>
          </a:xfrm>
        </p:grpSpPr>
        <p:sp>
          <p:nvSpPr>
            <p:cNvPr id="163" name="TextBox 5"/>
            <p:cNvSpPr/>
            <p:nvPr/>
          </p:nvSpPr>
          <p:spPr>
            <a:xfrm>
              <a:off x="3276360" y="4365720"/>
              <a:ext cx="20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utigerNext LT Regular"/>
                </a:rPr>
                <a:t>dsliteMIB</a:t>
              </a:r>
              <a:endParaRPr b="0" lang="en-US" sz="20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4" name="直接连接符 7"/>
            <p:cNvSpPr/>
            <p:nvPr/>
          </p:nvSpPr>
          <p:spPr>
            <a:xfrm>
              <a:off x="4284360" y="4725720"/>
              <a:ext cx="0" cy="1152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5" name="直接连接符 10"/>
            <p:cNvSpPr/>
            <p:nvPr/>
          </p:nvSpPr>
          <p:spPr>
            <a:xfrm flipV="1">
              <a:off x="1116360" y="5085720"/>
              <a:ext cx="6480360" cy="72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6" name="直接连接符 12"/>
            <p:cNvSpPr/>
            <p:nvPr/>
          </p:nvSpPr>
          <p:spPr>
            <a:xfrm>
              <a:off x="1116360" y="5157720"/>
              <a:ext cx="0" cy="720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7" name="直接连接符 15"/>
            <p:cNvSpPr/>
            <p:nvPr/>
          </p:nvSpPr>
          <p:spPr>
            <a:xfrm>
              <a:off x="2628360" y="5157720"/>
              <a:ext cx="0" cy="720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8" name="直接连接符 17"/>
            <p:cNvSpPr/>
            <p:nvPr/>
          </p:nvSpPr>
          <p:spPr>
            <a:xfrm>
              <a:off x="6012720" y="5085720"/>
              <a:ext cx="0" cy="792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9" name="直接连接符 19"/>
            <p:cNvSpPr/>
            <p:nvPr/>
          </p:nvSpPr>
          <p:spPr>
            <a:xfrm>
              <a:off x="7596720" y="5085720"/>
              <a:ext cx="0" cy="792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70" name="TextBox 23"/>
            <p:cNvSpPr/>
            <p:nvPr/>
          </p:nvSpPr>
          <p:spPr>
            <a:xfrm>
              <a:off x="468360" y="587772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dsliteTunnel</a:t>
              </a:r>
              <a:endParaRPr b="0" lang="en-US" sz="16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71" name="TextBox 24"/>
            <p:cNvSpPr/>
            <p:nvPr/>
          </p:nvSpPr>
          <p:spPr>
            <a:xfrm>
              <a:off x="1980360" y="5875560"/>
              <a:ext cx="129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dsliteNAT</a:t>
              </a:r>
              <a:endParaRPr b="0" lang="en-US" sz="16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72" name="TextBox 25"/>
            <p:cNvSpPr/>
            <p:nvPr/>
          </p:nvSpPr>
          <p:spPr>
            <a:xfrm>
              <a:off x="3708360" y="5877720"/>
              <a:ext cx="122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dsliteInfo</a:t>
              </a:r>
              <a:endParaRPr b="0" lang="en-US" sz="16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73" name="TextBox 26"/>
            <p:cNvSpPr/>
            <p:nvPr/>
          </p:nvSpPr>
          <p:spPr>
            <a:xfrm>
              <a:off x="5072400" y="5899320"/>
              <a:ext cx="172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dsliteTraps</a:t>
              </a:r>
              <a:endParaRPr b="0" lang="en-US" sz="16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74" name="TextBox 27"/>
            <p:cNvSpPr/>
            <p:nvPr/>
          </p:nvSpPr>
          <p:spPr>
            <a:xfrm>
              <a:off x="6767640" y="5900400"/>
              <a:ext cx="201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dsliteConformance</a:t>
              </a:r>
              <a:endParaRPr b="0" lang="en-US" sz="16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429840"/>
            <a:ext cx="849636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utigerNext LT Medium"/>
              </a:rPr>
              <a:t>dsliteTunnel</a:t>
            </a:r>
            <a:r>
              <a:rPr b="1" lang="en-GB" sz="3600" spc="-1" strike="noStrike">
                <a:solidFill>
                  <a:srgbClr val="000000"/>
                </a:solidFill>
                <a:latin typeface="FrutigerNext LT Medium"/>
              </a:rPr>
              <a:t>::={dsliteMIB 1}</a:t>
            </a:r>
            <a:endParaRPr b="0" lang="en-US" sz="36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4360" y="1483920"/>
            <a:ext cx="8238960" cy="1932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87000"/>
          </a:bodyPr>
          <a:p>
            <a:pPr marL="260640" indent="-26064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DS-Lite  Tunnel  parameters are defined in this objec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60640" indent="-26064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Objects imported from Tunnel MIB: </a:t>
            </a:r>
            <a:r>
              <a:rPr b="1" lang="en-GB" sz="1800" spc="-1" strike="noStrike">
                <a:solidFill>
                  <a:srgbClr val="000000"/>
                </a:solidFill>
                <a:latin typeface="FrutigerNext LT Regular"/>
              </a:rPr>
              <a:t>dsliteTunnelIfIndex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60640" indent="-26064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New objects defined in our MIB: </a:t>
            </a:r>
            <a:r>
              <a:rPr b="1" lang="en-GB" sz="1800" spc="-1" strike="noStrike">
                <a:solidFill>
                  <a:srgbClr val="000000"/>
                </a:solidFill>
                <a:latin typeface="FrutigerNext LT Regular"/>
              </a:rPr>
              <a:t>dsliteTunnelID, dsliteTunnelStartAddress, dsliteTunnelStartAddPreLen, dsliteTunnelEndAddress  (Since these objects defined in Tunnel MIB is not access, we define these new objects in our MIB)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60640" indent="-26064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177" name="组合 24"/>
          <p:cNvGrpSpPr/>
          <p:nvPr/>
        </p:nvGrpSpPr>
        <p:grpSpPr>
          <a:xfrm>
            <a:off x="1116000" y="4149720"/>
            <a:ext cx="6624720" cy="2300760"/>
            <a:chOff x="1116000" y="4149720"/>
            <a:chExt cx="6624720" cy="2300760"/>
          </a:xfrm>
        </p:grpSpPr>
        <p:sp>
          <p:nvSpPr>
            <p:cNvPr id="178" name="直接连接符 19"/>
            <p:cNvSpPr/>
            <p:nvPr/>
          </p:nvSpPr>
          <p:spPr>
            <a:xfrm>
              <a:off x="4428360" y="5445360"/>
              <a:ext cx="0" cy="50364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79" name="直接连接符 29"/>
            <p:cNvSpPr/>
            <p:nvPr/>
          </p:nvSpPr>
          <p:spPr>
            <a:xfrm>
              <a:off x="2124000" y="5661360"/>
              <a:ext cx="4968720" cy="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0" name="直接连接符 31"/>
            <p:cNvSpPr/>
            <p:nvPr/>
          </p:nvSpPr>
          <p:spPr>
            <a:xfrm>
              <a:off x="2124000" y="5655240"/>
              <a:ext cx="0" cy="29412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1" name="直接连接符 33"/>
            <p:cNvSpPr/>
            <p:nvPr/>
          </p:nvSpPr>
          <p:spPr>
            <a:xfrm>
              <a:off x="7092720" y="5661360"/>
              <a:ext cx="0" cy="288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2" name="TextBox 35"/>
            <p:cNvSpPr/>
            <p:nvPr/>
          </p:nvSpPr>
          <p:spPr>
            <a:xfrm>
              <a:off x="1116000" y="5930280"/>
              <a:ext cx="1368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TunnelStartAddress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3" name="直接连接符 37"/>
            <p:cNvSpPr/>
            <p:nvPr/>
          </p:nvSpPr>
          <p:spPr>
            <a:xfrm>
              <a:off x="3132000" y="5661360"/>
              <a:ext cx="0" cy="216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4" name="TextBox 38"/>
            <p:cNvSpPr/>
            <p:nvPr/>
          </p:nvSpPr>
          <p:spPr>
            <a:xfrm>
              <a:off x="2412000" y="5930280"/>
              <a:ext cx="1368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TunnelStartAddPreLen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5" name="TextBox 49"/>
            <p:cNvSpPr/>
            <p:nvPr/>
          </p:nvSpPr>
          <p:spPr>
            <a:xfrm>
              <a:off x="3780360" y="5930280"/>
              <a:ext cx="122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TunnelEndAddress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6" name="直接连接符 51"/>
            <p:cNvSpPr/>
            <p:nvPr/>
          </p:nvSpPr>
          <p:spPr>
            <a:xfrm>
              <a:off x="5652720" y="5661360"/>
              <a:ext cx="0" cy="288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7" name="TextBox 54"/>
            <p:cNvSpPr/>
            <p:nvPr/>
          </p:nvSpPr>
          <p:spPr>
            <a:xfrm>
              <a:off x="5076360" y="5930280"/>
              <a:ext cx="108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TunnelID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8" name="TextBox 55"/>
            <p:cNvSpPr/>
            <p:nvPr/>
          </p:nvSpPr>
          <p:spPr>
            <a:xfrm>
              <a:off x="6444720" y="5930280"/>
              <a:ext cx="129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TunnelIfIndex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9" name="TextBox 18"/>
            <p:cNvSpPr/>
            <p:nvPr/>
          </p:nvSpPr>
          <p:spPr>
            <a:xfrm>
              <a:off x="3636360" y="4149720"/>
              <a:ext cx="158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Tunnel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0" name="直接连接符 20"/>
            <p:cNvSpPr/>
            <p:nvPr/>
          </p:nvSpPr>
          <p:spPr>
            <a:xfrm>
              <a:off x="4428360" y="4447080"/>
              <a:ext cx="0" cy="2682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1" name="TextBox 21"/>
            <p:cNvSpPr/>
            <p:nvPr/>
          </p:nvSpPr>
          <p:spPr>
            <a:xfrm>
              <a:off x="3564360" y="4597560"/>
              <a:ext cx="165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TunnelTable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2" name="TextBox 22"/>
            <p:cNvSpPr/>
            <p:nvPr/>
          </p:nvSpPr>
          <p:spPr>
            <a:xfrm>
              <a:off x="3564360" y="5137920"/>
              <a:ext cx="172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TunnelEntry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3" name="直接连接符 23"/>
            <p:cNvSpPr/>
            <p:nvPr/>
          </p:nvSpPr>
          <p:spPr>
            <a:xfrm>
              <a:off x="4428360" y="4869360"/>
              <a:ext cx="0" cy="360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utigerNext LT Medium"/>
              </a:rPr>
              <a:t>dsliteNAT</a:t>
            </a:r>
            <a:r>
              <a:rPr b="1" lang="en-GB" sz="3600" spc="-1" strike="noStrike">
                <a:solidFill>
                  <a:srgbClr val="000000"/>
                </a:solidFill>
                <a:latin typeface="FrutigerNext LT Medium"/>
              </a:rPr>
              <a:t>::={dsliteMIB 2}</a:t>
            </a:r>
            <a:endParaRPr b="0" lang="en-US" sz="36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8360" y="980640"/>
            <a:ext cx="7929360" cy="302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DS-Lite NAT parameters are defined in this objec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Objects imported from NAT MIB: </a:t>
            </a:r>
            <a:r>
              <a:rPr b="1" lang="en-GB" sz="1400" spc="-1" strike="noStrike">
                <a:solidFill>
                  <a:srgbClr val="000000"/>
                </a:solidFill>
                <a:latin typeface="FrutigerNext LT Regular"/>
              </a:rPr>
              <a:t>19 objects are imported from NAT MIB</a:t>
            </a:r>
            <a:endParaRPr b="1" lang="en-US" sz="14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New objects defined in our MIB</a:t>
            </a: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</a:rPr>
              <a:t>:</a:t>
            </a:r>
            <a:r>
              <a:rPr b="1" lang="en-GB" sz="12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FrutigerNext LT Regular"/>
              </a:rPr>
              <a:t>dsliteNATBindLocalAddr, dsliteNATBindLocalPort (Since these objects defined in NAT MIB is not access, we define this new objects in our MIB), dsliteB4Addr, dsliteB4PreLen</a:t>
            </a:r>
            <a:endParaRPr b="1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196" name="组合 18"/>
          <p:cNvGrpSpPr/>
          <p:nvPr/>
        </p:nvGrpSpPr>
        <p:grpSpPr>
          <a:xfrm>
            <a:off x="1692360" y="3716280"/>
            <a:ext cx="5616360" cy="2342160"/>
            <a:chOff x="1692360" y="3716280"/>
            <a:chExt cx="5616360" cy="2342160"/>
          </a:xfrm>
        </p:grpSpPr>
        <p:sp>
          <p:nvSpPr>
            <p:cNvPr id="197" name="TextBox 5"/>
            <p:cNvSpPr/>
            <p:nvPr/>
          </p:nvSpPr>
          <p:spPr>
            <a:xfrm>
              <a:off x="3780360" y="3716280"/>
              <a:ext cx="158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NAT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8" name="直接连接符 6"/>
            <p:cNvSpPr/>
            <p:nvPr/>
          </p:nvSpPr>
          <p:spPr>
            <a:xfrm>
              <a:off x="4572720" y="4003920"/>
              <a:ext cx="0" cy="21564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9" name="TextBox 7"/>
            <p:cNvSpPr/>
            <p:nvPr/>
          </p:nvSpPr>
          <p:spPr>
            <a:xfrm>
              <a:off x="1764360" y="4363920"/>
              <a:ext cx="18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NATMapTable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0" name="TextBox 8"/>
            <p:cNvSpPr/>
            <p:nvPr/>
          </p:nvSpPr>
          <p:spPr>
            <a:xfrm>
              <a:off x="1692360" y="4917960"/>
              <a:ext cx="19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NATMapEntry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1" name="直接连接符 9"/>
            <p:cNvSpPr/>
            <p:nvPr/>
          </p:nvSpPr>
          <p:spPr>
            <a:xfrm>
              <a:off x="2700360" y="5155920"/>
              <a:ext cx="0" cy="50364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2" name="TextBox 16"/>
            <p:cNvSpPr/>
            <p:nvPr/>
          </p:nvSpPr>
          <p:spPr>
            <a:xfrm>
              <a:off x="2124360" y="565956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FrutigerNext LT Regular"/>
                </a:rPr>
                <a:t>……</a:t>
              </a:r>
              <a:endParaRPr b="0" lang="en-US" sz="20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3" name="直接连接符 28"/>
            <p:cNvSpPr/>
            <p:nvPr/>
          </p:nvSpPr>
          <p:spPr>
            <a:xfrm>
              <a:off x="2700360" y="4633200"/>
              <a:ext cx="0" cy="35964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4" name="TextBox 31"/>
            <p:cNvSpPr/>
            <p:nvPr/>
          </p:nvSpPr>
          <p:spPr>
            <a:xfrm>
              <a:off x="5364720" y="4363920"/>
              <a:ext cx="18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NATBindTable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5" name="直接连接符 32"/>
            <p:cNvSpPr/>
            <p:nvPr/>
          </p:nvSpPr>
          <p:spPr>
            <a:xfrm>
              <a:off x="6300720" y="4651920"/>
              <a:ext cx="0" cy="35964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6" name="直接连接符 34"/>
            <p:cNvSpPr/>
            <p:nvPr/>
          </p:nvSpPr>
          <p:spPr>
            <a:xfrm>
              <a:off x="2700360" y="4219920"/>
              <a:ext cx="3600360" cy="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7" name="直接连接符 38"/>
            <p:cNvSpPr/>
            <p:nvPr/>
          </p:nvSpPr>
          <p:spPr>
            <a:xfrm>
              <a:off x="2700360" y="4219920"/>
              <a:ext cx="0" cy="28764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8" name="直接连接符 40"/>
            <p:cNvSpPr/>
            <p:nvPr/>
          </p:nvSpPr>
          <p:spPr>
            <a:xfrm>
              <a:off x="6300720" y="4219920"/>
              <a:ext cx="0" cy="21564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9" name="TextBox 42"/>
            <p:cNvSpPr/>
            <p:nvPr/>
          </p:nvSpPr>
          <p:spPr>
            <a:xfrm>
              <a:off x="5364720" y="4939920"/>
              <a:ext cx="19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NATBindEntry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10" name="直接连接符 48"/>
            <p:cNvSpPr/>
            <p:nvPr/>
          </p:nvSpPr>
          <p:spPr>
            <a:xfrm>
              <a:off x="6300720" y="5227920"/>
              <a:ext cx="0" cy="50364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11" name="TextBox 49"/>
            <p:cNvSpPr/>
            <p:nvPr/>
          </p:nvSpPr>
          <p:spPr>
            <a:xfrm>
              <a:off x="5724720" y="565956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FrutigerNext LT Regular"/>
                </a:rPr>
                <a:t>……</a:t>
              </a:r>
              <a:endParaRPr b="0" lang="en-US" sz="20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02476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utigerNext LT Medium"/>
              </a:rPr>
              <a:t>Mapping information for Tunnel and NAT</a:t>
            </a:r>
            <a:endParaRPr b="0" lang="en-US" sz="32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11280" y="1125000"/>
            <a:ext cx="792936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We define </a:t>
            </a:r>
            <a:r>
              <a:rPr b="1" lang="en-GB" sz="1800" spc="-1" strike="noStrike">
                <a:solidFill>
                  <a:srgbClr val="000000"/>
                </a:solidFill>
                <a:latin typeface="FrutigerNext LT Regular"/>
              </a:rPr>
              <a:t>dsliteTunnelStartAddress, dsliteTunnelStartAddPreLen  in dsliteTunnel  subtree to present the Ipv6 address </a:t>
            </a: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and prefix </a:t>
            </a:r>
            <a:r>
              <a:rPr b="1" lang="en-GB" sz="1800" spc="-1" strike="noStrike">
                <a:solidFill>
                  <a:srgbClr val="000000"/>
                </a:solidFill>
                <a:latin typeface="FrutigerNext LT Regular"/>
              </a:rPr>
              <a:t>for B4. These two objects can be used to identify the tunnel entry. So the dsliteB4Addr, dsliteB4PreLen  in dsliteNATBindTable entry are equalled to the these two objects to map the </a:t>
            </a: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dsliteTunnelTable entry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4" name="TextBox 24"/>
          <p:cNvSpPr/>
          <p:nvPr/>
        </p:nvSpPr>
        <p:spPr>
          <a:xfrm>
            <a:off x="6372360" y="3789360"/>
            <a:ext cx="2592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FrutigerNext LT Regular"/>
              </a:rPr>
              <a:t>Open Question: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nother method to create mapping information for Bind Enry is to use the </a:t>
            </a:r>
            <a:r>
              <a:rPr b="0" lang="en-US" sz="1600" spc="-1" strike="noStrike">
                <a:solidFill>
                  <a:srgbClr val="ff0000"/>
                </a:solidFill>
                <a:latin typeface="FrutigerNext LT Regular"/>
              </a:rPr>
              <a:t>RowPointer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to point to the Tunnel entry, does that method better?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</p:txBody>
      </p:sp>
      <p:grpSp>
        <p:nvGrpSpPr>
          <p:cNvPr id="215" name="组合 32"/>
          <p:cNvGrpSpPr/>
          <p:nvPr/>
        </p:nvGrpSpPr>
        <p:grpSpPr>
          <a:xfrm>
            <a:off x="900000" y="3213000"/>
            <a:ext cx="5265720" cy="3337200"/>
            <a:chOff x="900000" y="3213000"/>
            <a:chExt cx="5265720" cy="3337200"/>
          </a:xfrm>
        </p:grpSpPr>
        <p:sp>
          <p:nvSpPr>
            <p:cNvPr id="216" name="矩形 4"/>
            <p:cNvSpPr/>
            <p:nvPr/>
          </p:nvSpPr>
          <p:spPr>
            <a:xfrm>
              <a:off x="900000" y="3860640"/>
              <a:ext cx="2016000" cy="42948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</a:t>
              </a:r>
              <a:r>
                <a:rPr b="0" lang="en-US" sz="1200" spc="-1" strike="noStrike">
                  <a:solidFill>
                    <a:srgbClr val="ff0000"/>
                  </a:solidFill>
                  <a:latin typeface="FrutigerNext LT Regular"/>
                </a:rPr>
                <a:t>1 </a:t>
              </a:r>
              <a:r>
                <a:rPr b="0" lang="en-US" sz="1200" spc="-1" strike="noStrike">
                  <a:solidFill>
                    <a:srgbClr val="000000"/>
                  </a:solidFill>
                  <a:latin typeface="FrutigerNext LT Regular"/>
                </a:rPr>
                <a:t>......</a:t>
              </a:r>
              <a:r>
                <a:rPr b="0" lang="en-GB" sz="1200" spc="-1" strike="noStrike">
                  <a:solidFill>
                    <a:srgbClr val="000000"/>
                  </a:solidFill>
                  <a:latin typeface="FrutigerNext LT Regular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dsliteB4Addr, dsliteB4PreLen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17" name="TextBox 5"/>
            <p:cNvSpPr/>
            <p:nvPr/>
          </p:nvSpPr>
          <p:spPr>
            <a:xfrm>
              <a:off x="912600" y="321588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NATBindTable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18" name="矩形 6"/>
            <p:cNvSpPr/>
            <p:nvPr/>
          </p:nvSpPr>
          <p:spPr>
            <a:xfrm>
              <a:off x="900000" y="4279680"/>
              <a:ext cx="2016000" cy="41436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2 </a:t>
              </a:r>
              <a:r>
                <a:rPr b="0" lang="en-US" sz="1100" spc="-1" strike="noStrike">
                  <a:solidFill>
                    <a:srgbClr val="000000"/>
                  </a:solidFill>
                  <a:latin typeface="FrutigerNext LT Regular"/>
                </a:rPr>
                <a:t>......</a:t>
              </a: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dsliteB4Addr, dsliteB4PreLen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19" name="矩形 7"/>
            <p:cNvSpPr/>
            <p:nvPr/>
          </p:nvSpPr>
          <p:spPr>
            <a:xfrm>
              <a:off x="900000" y="4700520"/>
              <a:ext cx="2016000" cy="41436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3 </a:t>
              </a:r>
              <a:r>
                <a:rPr b="0" lang="en-US" sz="1100" spc="-1" strike="noStrike">
                  <a:solidFill>
                    <a:srgbClr val="000000"/>
                  </a:solidFill>
                  <a:latin typeface="FrutigerNext LT Regular"/>
                </a:rPr>
                <a:t>......</a:t>
              </a: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dsliteB4Addr, dsliteB4PreLen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20" name="矩形 8"/>
            <p:cNvSpPr/>
            <p:nvPr/>
          </p:nvSpPr>
          <p:spPr>
            <a:xfrm>
              <a:off x="900000" y="5122800"/>
              <a:ext cx="2016000" cy="41436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4 </a:t>
              </a:r>
              <a:r>
                <a:rPr b="0" lang="en-US" sz="1100" spc="-1" strike="noStrike">
                  <a:solidFill>
                    <a:srgbClr val="000000"/>
                  </a:solidFill>
                  <a:latin typeface="FrutigerNext LT Regular"/>
                </a:rPr>
                <a:t>......</a:t>
              </a: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dsliteB4Addr, dsliteB4PreLen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21" name="矩形 9"/>
            <p:cNvSpPr/>
            <p:nvPr/>
          </p:nvSpPr>
          <p:spPr>
            <a:xfrm>
              <a:off x="900000" y="5538960"/>
              <a:ext cx="2016000" cy="56700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rutigerNext LT Regular"/>
                </a:rPr>
                <a:t>........</a:t>
              </a:r>
              <a:endParaRPr b="0" lang="en-US" sz="32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22" name="矩形 10"/>
            <p:cNvSpPr/>
            <p:nvPr/>
          </p:nvSpPr>
          <p:spPr>
            <a:xfrm>
              <a:off x="3995640" y="3781080"/>
              <a:ext cx="2160720" cy="73404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1 </a:t>
              </a:r>
              <a:r>
                <a:rPr b="0" lang="en-US" sz="1200" spc="-1" strike="noStrike">
                  <a:solidFill>
                    <a:srgbClr val="000000"/>
                  </a:solidFill>
                  <a:latin typeface="FrutigerNext LT Regular"/>
                </a:rPr>
                <a:t>......</a:t>
              </a: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FrutigerNext LT Regular"/>
                </a:rPr>
                <a:t>dsliteTunnelStartAddress</a:t>
              </a:r>
              <a:endParaRPr b="0" lang="en-US" sz="1000" spc="-1" strike="noStrike">
                <a:solidFill>
                  <a:srgbClr val="ffffff"/>
                </a:solidFill>
                <a:latin typeface="FrutigerNext LT Regular"/>
              </a:endParaRPr>
            </a:p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FrutigerNext LT Regular"/>
                </a:rPr>
                <a:t>, dsliteTunnelStartAddPreLen</a:t>
              </a:r>
              <a:endParaRPr b="0" lang="en-US" sz="1000" spc="-1" strike="noStrike">
                <a:solidFill>
                  <a:srgbClr val="ffffff"/>
                </a:solidFill>
                <a:latin typeface="FrutigerNext LT Regular"/>
              </a:endParaRPr>
            </a:p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23" name="矩形 11"/>
            <p:cNvSpPr/>
            <p:nvPr/>
          </p:nvSpPr>
          <p:spPr>
            <a:xfrm>
              <a:off x="3995640" y="5967720"/>
              <a:ext cx="2160720" cy="50616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FrutigerNext LT Regular"/>
                </a:rPr>
                <a:t>........</a:t>
              </a:r>
              <a:endParaRPr b="0" lang="en-US" sz="28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24" name="矩形 12"/>
            <p:cNvSpPr/>
            <p:nvPr/>
          </p:nvSpPr>
          <p:spPr>
            <a:xfrm>
              <a:off x="4066920" y="6235920"/>
              <a:ext cx="649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n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25" name="矩形 13"/>
            <p:cNvSpPr/>
            <p:nvPr/>
          </p:nvSpPr>
          <p:spPr>
            <a:xfrm>
              <a:off x="3995640" y="4502160"/>
              <a:ext cx="2160720" cy="71892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2 </a:t>
              </a:r>
              <a:r>
                <a:rPr b="0" lang="en-US" sz="1100" spc="-1" strike="noStrike">
                  <a:solidFill>
                    <a:srgbClr val="000000"/>
                  </a:solidFill>
                  <a:latin typeface="FrutigerNext LT Regular"/>
                </a:rPr>
                <a:t>......</a:t>
              </a: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FrutigerNext LT Regular"/>
                </a:rPr>
                <a:t>dsliteTunnelStartAddress</a:t>
              </a:r>
              <a:endParaRPr b="0" lang="en-US" sz="1000" spc="-1" strike="noStrike">
                <a:solidFill>
                  <a:srgbClr val="ffffff"/>
                </a:solidFill>
                <a:latin typeface="FrutigerNext LT Regular"/>
              </a:endParaRPr>
            </a:p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FrutigerNext LT Regular"/>
                </a:rPr>
                <a:t>, dsliteTunnelStartAddPreLen</a:t>
              </a:r>
              <a:endParaRPr b="0" lang="en-US" sz="1000" spc="-1" strike="noStrike">
                <a:solidFill>
                  <a:srgbClr val="ffffff"/>
                </a:solidFill>
                <a:latin typeface="FrutigerNext LT Regular"/>
              </a:endParaRPr>
            </a:p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26" name="矩形 14"/>
            <p:cNvSpPr/>
            <p:nvPr/>
          </p:nvSpPr>
          <p:spPr>
            <a:xfrm>
              <a:off x="4005000" y="5237280"/>
              <a:ext cx="2160720" cy="71892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3 </a:t>
              </a:r>
              <a:r>
                <a:rPr b="0" lang="en-US" sz="1100" spc="-1" strike="noStrike">
                  <a:solidFill>
                    <a:srgbClr val="000000"/>
                  </a:solidFill>
                  <a:latin typeface="FrutigerNext LT Regular"/>
                </a:rPr>
                <a:t>......</a:t>
              </a: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FrutigerNext LT Regular"/>
                </a:rPr>
                <a:t>dsliteTunnelStartAddress</a:t>
              </a:r>
              <a:endParaRPr b="0" lang="en-US" sz="1000" spc="-1" strike="noStrike">
                <a:solidFill>
                  <a:srgbClr val="ffffff"/>
                </a:solidFill>
                <a:latin typeface="FrutigerNext LT Regular"/>
              </a:endParaRPr>
            </a:p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FrutigerNext LT Regular"/>
                </a:rPr>
                <a:t>, dsliteTunnelStartAddPreLen</a:t>
              </a:r>
              <a:endParaRPr b="0" lang="en-US" sz="1000" spc="-1" strike="noStrike">
                <a:solidFill>
                  <a:srgbClr val="ffffff"/>
                </a:solidFill>
                <a:latin typeface="FrutigerNext LT Regular"/>
              </a:endParaRPr>
            </a:p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cxnSp>
          <p:nvCxnSpPr>
            <p:cNvPr id="227" name="直接箭头连接符 15"/>
            <p:cNvCxnSpPr/>
            <p:nvPr/>
          </p:nvCxnSpPr>
          <p:spPr>
            <a:xfrm>
              <a:off x="2685960" y="4016160"/>
              <a:ext cx="1597680" cy="73440"/>
            </a:xfrm>
            <a:prstGeom prst="straightConnector1">
              <a:avLst/>
            </a:prstGeom>
            <a:ln w="12600">
              <a:solidFill>
                <a:srgbClr val="00b0f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228" name="直接箭头连接符 16"/>
            <p:cNvCxnSpPr/>
            <p:nvPr/>
          </p:nvCxnSpPr>
          <p:spPr>
            <a:xfrm>
              <a:off x="2916000" y="4581000"/>
              <a:ext cx="1080000" cy="980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229" name="直接箭头连接符 17"/>
            <p:cNvCxnSpPr/>
            <p:nvPr/>
          </p:nvCxnSpPr>
          <p:spPr>
            <a:xfrm flipV="1">
              <a:off x="2916000" y="5012640"/>
              <a:ext cx="1080000" cy="45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230" name="TextBox 18"/>
            <p:cNvSpPr/>
            <p:nvPr/>
          </p:nvSpPr>
          <p:spPr>
            <a:xfrm>
              <a:off x="3210120" y="5372280"/>
              <a:ext cx="4852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utigerNext LT Regular"/>
                </a:rPr>
                <a:t>...…</a:t>
              </a:r>
              <a:endParaRPr b="0" lang="en-US" sz="20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1" name="TextBox 19"/>
            <p:cNvSpPr/>
            <p:nvPr/>
          </p:nvSpPr>
          <p:spPr>
            <a:xfrm>
              <a:off x="1625760" y="5516640"/>
              <a:ext cx="4852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utigerNext LT Regular"/>
                </a:rPr>
                <a:t>...…</a:t>
              </a:r>
              <a:endParaRPr b="0" lang="en-US" sz="20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2" name="TextBox 20"/>
            <p:cNvSpPr/>
            <p:nvPr/>
          </p:nvSpPr>
          <p:spPr>
            <a:xfrm>
              <a:off x="4847040" y="5902560"/>
              <a:ext cx="4852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utigerNext LT Regular"/>
                </a:rPr>
                <a:t>...…</a:t>
              </a:r>
              <a:endParaRPr b="0" lang="en-US" sz="20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3" name="TextBox 21"/>
            <p:cNvSpPr/>
            <p:nvPr/>
          </p:nvSpPr>
          <p:spPr>
            <a:xfrm>
              <a:off x="4140000" y="321300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TunnelTable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4" name="矩形 22"/>
            <p:cNvSpPr/>
            <p:nvPr/>
          </p:nvSpPr>
          <p:spPr>
            <a:xfrm>
              <a:off x="900000" y="5867640"/>
              <a:ext cx="647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n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5" name="TextBox 23"/>
            <p:cNvSpPr/>
            <p:nvPr/>
          </p:nvSpPr>
          <p:spPr>
            <a:xfrm>
              <a:off x="2267640" y="3645000"/>
              <a:ext cx="2016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1 mapping to Entry 1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6" name="矩形 26"/>
            <p:cNvSpPr/>
            <p:nvPr/>
          </p:nvSpPr>
          <p:spPr>
            <a:xfrm>
              <a:off x="1822320" y="3919320"/>
              <a:ext cx="865080" cy="144360"/>
            </a:xfrm>
            <a:prstGeom prst="rect">
              <a:avLst/>
            </a:prstGeom>
            <a:noFill/>
            <a:ln w="1260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7" name="矩形 27"/>
            <p:cNvSpPr/>
            <p:nvPr/>
          </p:nvSpPr>
          <p:spPr>
            <a:xfrm>
              <a:off x="4284720" y="3992400"/>
              <a:ext cx="1582560" cy="142560"/>
            </a:xfrm>
            <a:prstGeom prst="rect">
              <a:avLst/>
            </a:prstGeom>
            <a:noFill/>
            <a:ln w="1260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8" name="矩形 30"/>
            <p:cNvSpPr/>
            <p:nvPr/>
          </p:nvSpPr>
          <p:spPr>
            <a:xfrm>
              <a:off x="1402920" y="4089240"/>
              <a:ext cx="1008000" cy="142560"/>
            </a:xfrm>
            <a:prstGeom prst="rect">
              <a:avLst/>
            </a:prstGeom>
            <a:noFill/>
            <a:ln w="12600">
              <a:solidFill>
                <a:srgbClr val="d398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9" name="矩形 31"/>
            <p:cNvSpPr/>
            <p:nvPr/>
          </p:nvSpPr>
          <p:spPr>
            <a:xfrm>
              <a:off x="4271760" y="4160880"/>
              <a:ext cx="1655640" cy="144360"/>
            </a:xfrm>
            <a:prstGeom prst="rect">
              <a:avLst/>
            </a:prstGeom>
            <a:noFill/>
            <a:ln w="12600">
              <a:solidFill>
                <a:srgbClr val="d398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cxnSp>
          <p:nvCxnSpPr>
            <p:cNvPr id="240" name="直接箭头连接符 33"/>
            <p:cNvCxnSpPr>
              <a:stCxn id="238" idx="3"/>
            </p:cNvCxnSpPr>
            <p:nvPr/>
          </p:nvCxnSpPr>
          <p:spPr>
            <a:xfrm>
              <a:off x="2411280" y="4160520"/>
              <a:ext cx="1800720" cy="60840"/>
            </a:xfrm>
            <a:prstGeom prst="straightConnector1">
              <a:avLst/>
            </a:prstGeom>
            <a:ln w="12600">
              <a:solidFill>
                <a:srgbClr val="d3981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41" name="TextBox 40"/>
            <p:cNvSpPr/>
            <p:nvPr/>
          </p:nvSpPr>
          <p:spPr>
            <a:xfrm>
              <a:off x="3058920" y="3838320"/>
              <a:ext cx="93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FrutigerNext LT Regular"/>
                </a:rPr>
                <a:t>equal to</a:t>
              </a:r>
              <a:endParaRPr b="0" lang="en-US" sz="12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42" name="TextBox 41"/>
            <p:cNvSpPr/>
            <p:nvPr/>
          </p:nvSpPr>
          <p:spPr>
            <a:xfrm>
              <a:off x="3058920" y="4149720"/>
              <a:ext cx="93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FrutigerNext LT Regular"/>
                </a:rPr>
                <a:t>equal to</a:t>
              </a:r>
              <a:endParaRPr b="0" lang="en-US" sz="12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cxnSp>
          <p:nvCxnSpPr>
            <p:cNvPr id="243" name="直接箭头连接符 43"/>
            <p:cNvCxnSpPr/>
            <p:nvPr/>
          </p:nvCxnSpPr>
          <p:spPr>
            <a:xfrm>
              <a:off x="2915640" y="3933360"/>
              <a:ext cx="11516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FrutigerNext LT Medium"/>
              </a:rPr>
              <a:t>dsliteInfo :: =  { dsliteMIB 3 }</a:t>
            </a:r>
            <a:endParaRPr b="0" lang="en-US" sz="36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4360" y="1196640"/>
            <a:ext cx="7929360" cy="28796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The statistical information for DS-lite scenario are described in this object.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Next LT Regular"/>
              </a:rPr>
              <a:t>The number and type of session limit are defined in this object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Next LT Regular"/>
              </a:rPr>
              <a:t>The number and type of  port limit are defined in this object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Next LT Regular"/>
              </a:rPr>
              <a:t>Some alarm scalars of AFTR are defined in this object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Next LT Regular"/>
              </a:rPr>
              <a:t>The statistical parameters for packets and session are defined in this object.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246" name="组合 27"/>
          <p:cNvGrpSpPr/>
          <p:nvPr/>
        </p:nvGrpSpPr>
        <p:grpSpPr>
          <a:xfrm>
            <a:off x="179280" y="4005360"/>
            <a:ext cx="8785440" cy="2332800"/>
            <a:chOff x="179280" y="4005360"/>
            <a:chExt cx="8785440" cy="2332800"/>
          </a:xfrm>
        </p:grpSpPr>
        <p:sp>
          <p:nvSpPr>
            <p:cNvPr id="247" name="TextBox 5"/>
            <p:cNvSpPr/>
            <p:nvPr/>
          </p:nvSpPr>
          <p:spPr>
            <a:xfrm>
              <a:off x="3852000" y="4005360"/>
              <a:ext cx="12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Info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48" name="直接连接符 12"/>
            <p:cNvSpPr/>
            <p:nvPr/>
          </p:nvSpPr>
          <p:spPr>
            <a:xfrm>
              <a:off x="4428000" y="4293360"/>
              <a:ext cx="0" cy="216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49" name="直接连接符 14"/>
            <p:cNvSpPr/>
            <p:nvPr/>
          </p:nvSpPr>
          <p:spPr>
            <a:xfrm>
              <a:off x="1403280" y="4509360"/>
              <a:ext cx="6481080" cy="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0" name="直接连接符 19"/>
            <p:cNvSpPr/>
            <p:nvPr/>
          </p:nvSpPr>
          <p:spPr>
            <a:xfrm>
              <a:off x="3275640" y="4509360"/>
              <a:ext cx="0" cy="504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1" name="直接连接符 21"/>
            <p:cNvSpPr/>
            <p:nvPr/>
          </p:nvSpPr>
          <p:spPr>
            <a:xfrm>
              <a:off x="5868360" y="4509360"/>
              <a:ext cx="0" cy="504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2" name="直接连接符 23"/>
            <p:cNvSpPr/>
            <p:nvPr/>
          </p:nvSpPr>
          <p:spPr>
            <a:xfrm>
              <a:off x="7884720" y="4509360"/>
              <a:ext cx="0" cy="432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3" name="TextBox 24"/>
            <p:cNvSpPr/>
            <p:nvPr/>
          </p:nvSpPr>
          <p:spPr>
            <a:xfrm>
              <a:off x="7164360" y="5013360"/>
              <a:ext cx="180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</a:t>
              </a: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eStatisticTable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4" name="TextBox 25"/>
            <p:cNvSpPr/>
            <p:nvPr/>
          </p:nvSpPr>
          <p:spPr>
            <a:xfrm>
              <a:off x="4932000" y="5013360"/>
              <a:ext cx="21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AFTR</a:t>
              </a: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AlarmScalar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5" name="TextBox 26"/>
            <p:cNvSpPr/>
            <p:nvPr/>
          </p:nvSpPr>
          <p:spPr>
            <a:xfrm>
              <a:off x="2555640" y="5013360"/>
              <a:ext cx="187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</a:t>
              </a: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PortLimitTable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6" name="TextBox 28"/>
            <p:cNvSpPr/>
            <p:nvPr/>
          </p:nvSpPr>
          <p:spPr>
            <a:xfrm>
              <a:off x="179280" y="5013360"/>
              <a:ext cx="230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FrutigerNext LT Regular"/>
                </a:rPr>
                <a:t>e</a:t>
              </a: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SessionLimitTable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7" name="直接连接符 30"/>
            <p:cNvSpPr/>
            <p:nvPr/>
          </p:nvSpPr>
          <p:spPr>
            <a:xfrm>
              <a:off x="1403280" y="4509360"/>
              <a:ext cx="0" cy="504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8" name="直接连接符 32"/>
            <p:cNvSpPr/>
            <p:nvPr/>
          </p:nvSpPr>
          <p:spPr>
            <a:xfrm>
              <a:off x="1403280" y="5301360"/>
              <a:ext cx="0" cy="504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9" name="TextBox 36"/>
            <p:cNvSpPr/>
            <p:nvPr/>
          </p:nvSpPr>
          <p:spPr>
            <a:xfrm>
              <a:off x="251280" y="5805360"/>
              <a:ext cx="21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SessionLimitEntry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0" name="直接连接符 38"/>
            <p:cNvSpPr/>
            <p:nvPr/>
          </p:nvSpPr>
          <p:spPr>
            <a:xfrm>
              <a:off x="3275640" y="5301360"/>
              <a:ext cx="0" cy="504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1" name="TextBox 40"/>
            <p:cNvSpPr/>
            <p:nvPr/>
          </p:nvSpPr>
          <p:spPr>
            <a:xfrm>
              <a:off x="2555640" y="5817960"/>
              <a:ext cx="1800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PortLimitEntry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2" name="直接连接符 42"/>
            <p:cNvSpPr/>
            <p:nvPr/>
          </p:nvSpPr>
          <p:spPr>
            <a:xfrm>
              <a:off x="5868360" y="5301360"/>
              <a:ext cx="0" cy="576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3" name="直接连接符 47"/>
            <p:cNvSpPr/>
            <p:nvPr/>
          </p:nvSpPr>
          <p:spPr>
            <a:xfrm>
              <a:off x="7884720" y="5301360"/>
              <a:ext cx="0" cy="504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4" name="TextBox 48"/>
            <p:cNvSpPr/>
            <p:nvPr/>
          </p:nvSpPr>
          <p:spPr>
            <a:xfrm>
              <a:off x="7092360" y="5785560"/>
              <a:ext cx="180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</a:t>
              </a: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eStatisticEntry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5" name="TextBox 65"/>
            <p:cNvSpPr/>
            <p:nvPr/>
          </p:nvSpPr>
          <p:spPr>
            <a:xfrm>
              <a:off x="4644000" y="580536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..….</a:t>
              </a:r>
              <a:endParaRPr b="0" lang="en-US" sz="16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sp>
        <p:nvSpPr>
          <p:cNvPr id="266" name="Text Box 25"/>
          <p:cNvSpPr/>
          <p:nvPr/>
        </p:nvSpPr>
        <p:spPr>
          <a:xfrm>
            <a:off x="755640" y="630864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FrutigerNext LT Regular"/>
              </a:rPr>
              <a:t>Open Question: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Shall we need to describe the statistical information in our mib? 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FrutigerNext LT Medium"/>
              </a:rPr>
              <a:t>dslit</a:t>
            </a:r>
            <a:r>
              <a:rPr b="0" lang="en-US" sz="3600" spc="-1" strike="noStrike">
                <a:solidFill>
                  <a:srgbClr val="000000"/>
                </a:solidFill>
                <a:latin typeface="FrutigerNext LT Medium"/>
              </a:rPr>
              <a:t>eTraps</a:t>
            </a:r>
            <a:r>
              <a:rPr b="0" lang="en-GB" sz="3600" spc="-1" strike="noStrike">
                <a:solidFill>
                  <a:srgbClr val="000000"/>
                </a:solidFill>
                <a:latin typeface="FrutigerNext LT Medium"/>
              </a:rPr>
              <a:t> :: =  { dsliteMIB 4 }</a:t>
            </a:r>
            <a:endParaRPr b="0" lang="en-US" sz="36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51960" y="1641240"/>
            <a:ext cx="7929720" cy="9954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e Alarm information for the DS-Lite scenario is defined in this object.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269" name="组合 15"/>
          <p:cNvGrpSpPr/>
          <p:nvPr/>
        </p:nvGrpSpPr>
        <p:grpSpPr>
          <a:xfrm>
            <a:off x="539640" y="2637000"/>
            <a:ext cx="8124840" cy="2176560"/>
            <a:chOff x="539640" y="2637000"/>
            <a:chExt cx="8124840" cy="2176560"/>
          </a:xfrm>
        </p:grpSpPr>
        <p:sp>
          <p:nvSpPr>
            <p:cNvPr id="270" name="TextBox 4"/>
            <p:cNvSpPr/>
            <p:nvPr/>
          </p:nvSpPr>
          <p:spPr>
            <a:xfrm>
              <a:off x="3479760" y="2637000"/>
              <a:ext cx="201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Traps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1" name="TextBox 5"/>
            <p:cNvSpPr/>
            <p:nvPr/>
          </p:nvSpPr>
          <p:spPr>
            <a:xfrm>
              <a:off x="539640" y="4221360"/>
              <a:ext cx="165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</a:t>
              </a: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eTunnelNumAlarm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2" name="直接连接符 7"/>
            <p:cNvSpPr/>
            <p:nvPr/>
          </p:nvSpPr>
          <p:spPr>
            <a:xfrm>
              <a:off x="4487760" y="2944800"/>
              <a:ext cx="0" cy="113256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3" name="直接连接符 9"/>
            <p:cNvSpPr/>
            <p:nvPr/>
          </p:nvSpPr>
          <p:spPr>
            <a:xfrm>
              <a:off x="1247040" y="3357000"/>
              <a:ext cx="6409080" cy="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4" name="TextBox 11"/>
            <p:cNvSpPr/>
            <p:nvPr/>
          </p:nvSpPr>
          <p:spPr>
            <a:xfrm>
              <a:off x="3335400" y="4293360"/>
              <a:ext cx="208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</a:t>
              </a: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eAFTRUserSessionNumAlarm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5" name="TextBox 12"/>
            <p:cNvSpPr/>
            <p:nvPr/>
          </p:nvSpPr>
          <p:spPr>
            <a:xfrm>
              <a:off x="6504120" y="4293360"/>
              <a:ext cx="2160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</a:t>
              </a: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eAFTRPortUsageOfSpecificIpAlarm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6" name="直接连接符 18"/>
            <p:cNvSpPr/>
            <p:nvPr/>
          </p:nvSpPr>
          <p:spPr>
            <a:xfrm>
              <a:off x="1247040" y="3357000"/>
              <a:ext cx="0" cy="792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7" name="直接连接符 20"/>
            <p:cNvSpPr/>
            <p:nvPr/>
          </p:nvSpPr>
          <p:spPr>
            <a:xfrm>
              <a:off x="7656480" y="3357000"/>
              <a:ext cx="0" cy="792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sp>
        <p:nvSpPr>
          <p:cNvPr id="278" name="Text Box 14"/>
          <p:cNvSpPr/>
          <p:nvPr/>
        </p:nvSpPr>
        <p:spPr>
          <a:xfrm>
            <a:off x="900000" y="5445000"/>
            <a:ext cx="7344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FrutigerNext LT Regular"/>
              </a:rPr>
              <a:t>Open Question: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Shall we need the alarm information in our mib?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re there any other alarm objects need to define?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826560" y="11970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utigerNext LT Regular"/>
              </a:rPr>
              <a:t>Comments and suggestions are  welcome!</a:t>
            </a: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utigerNext LT Regular"/>
              </a:rPr>
              <a:t>Adopt as softwire WG item?</a:t>
            </a: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600" spc="-1" strike="noStrike">
                <a:solidFill>
                  <a:srgbClr val="ffae0d"/>
                </a:solidFill>
                <a:latin typeface="FrutigerNext LT Regular"/>
              </a:rPr>
              <a:t>Thank you !</a:t>
            </a:r>
            <a:endParaRPr b="1" lang="en-US" sz="36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6:17:47Z</dcterms:created>
  <dc:creator>蒋胜</dc:creator>
  <dc:description/>
  <dc:language>en-US</dc:language>
  <cp:lastModifiedBy>Fuyu 00171927</cp:lastModifiedBy>
  <dcterms:modified xsi:type="dcterms:W3CDTF">2011-11-11T07:58:17Z</dcterms:modified>
  <cp:revision>38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c+T8k9b/qAuo31oeM1UzgjVVOw1IeqPzQEStTrifUW2arGG47ALbAXVONU45m+TRV2lUQTRB
Y6PEJXP21uRcKYLjah7xnvwrcT63nGeHhOaNDyB4+xjbuQOKIYR00Nra9JYLNBXyP4myw/xw
ssX8VCuFHorxzObpRMcORHL0Ai6anG/4gvWDcU7P171ZAXmQI2Nso6HzytstnBIsT5dfqlKV
oWH95Js+QHDzWvbnC6Up9</vt:lpwstr>
  </property>
  <property fmtid="{D5CDD505-2E9C-101B-9397-08002B2CF9AE}" pid="3" name="_ms_pID_7253431">
    <vt:lpwstr>PazRod0oSbMTjYFeiEQH2iJqnvBH2zd0gDwOMYrOXZjwxE7x91W
e+29WukRurb2B0XcamjeRMTmvtXhNOg3ZM64n8sIz2wxM6UV8btOzvehW5tUy5m/B7mEdVou
KcBvvmVZQ8hMT7aeNMtvbLbY</vt:lpwstr>
  </property>
  <property fmtid="{D5CDD505-2E9C-101B-9397-08002B2CF9AE}" pid="4" name="sflag">
    <vt:lpwstr>1320978793</vt:lpwstr>
  </property>
</Properties>
</file>