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B5B-8C42-4B93-9409-1AD09B73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D56-9E97-4F14-9051-5C0BDE77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6A1EE-A49F-4A0F-8A02-90744435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D35C9-44A3-4590-89BE-39D9936D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4F23D-6822-455E-959E-030E6A76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4EA87-9F31-4125-BA54-8EFCD38F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B44D6-B38D-432B-B09B-7164A4D4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938FD-32DC-4F7B-8A47-8F940467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FD02D-2FA5-4D2F-BB21-5E154CC8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DE766-6C25-4526-A6CD-ABAD59BC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7B11A-4FC9-4517-8D22-9866EE1C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B08E2-A89D-4B57-9CA3-E239A3F2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36E-0361-47CE-94E7-4CA32194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3EF2E-2C0F-413A-9747-29B03380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C8635-FAA2-4496-96ED-6BB656A6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330D1-25D3-4978-B996-09435DFB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25A48-58E4-47DB-B8C4-7D759057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9A1AC-0E17-4348-9929-4A06CAAB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EF8B2-6D45-40A8-8B5E-03EE76AB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F34CD-E10F-4FB5-95F8-45A1B52F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B71D3-4EC0-40CD-A709-C21396D5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6E83A-B4AD-4DD9-AC87-4F41F556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56624-5935-4E28-A1E7-F60ACE55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50B-C34F-4A38-905B-223D2B77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495E4-7D56-4A50-8456-9794E21D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0D92-F35B-454B-A3E9-3DA7A18E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A632-86F0-47E8-A3D5-15F6BB66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D805-076B-4B8F-8085-559279EB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E9A6-EF9B-444E-8F30-88356E2A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A3A5-F1DC-422A-8426-C83D37C6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F528-987A-4034-A1A7-B1CC2F4F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E75D-FC7B-4AC1-B543-9B07DCF6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AAC-5509-453D-802A-9F183A18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374D-D143-4A93-90E1-79DFB4C1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3059-B1E0-4021-804B-97741757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CEB8-5680-4736-B427-F2EC611E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F9AE-615A-429C-AE52-BD62ECE1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2FD4-9742-493D-823F-7BAE3B33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4CD78-0A98-47B5-BF5D-BA2834A6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EC73-2799-4465-94C0-38C92467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3EF4-B23B-403D-A7EB-8850C32D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20DA-D6E9-4567-8D2D-21838443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73A11-B33F-44DA-ACA7-645108D9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59B-6E6A-429A-BA65-D2517E7B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35C42-DD9C-4E51-B99A-45AEF1DB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2E0A-2024-4B39-8D06-50441256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A97F-AAD8-498D-AD6D-12CB63F7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0920-DA8F-485F-A548-216DC5CA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93D9F-2013-4FC7-9B24-9F08E7D2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EECD-46EB-4963-B104-7C72FD65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CD05-E188-42A2-89DA-7655441A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804C2-7898-4DEF-981E-B285EDF6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A3CB-454C-4727-AB3D-84F8CDE3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EC397-AFF9-419D-85B9-FF1EBEE1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867-2684-4E40-BF61-AD867BC8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8F843-794A-4538-95CB-8B149B82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BF5F-BF45-4FE9-8EC8-293F98AB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EC842-8710-47F6-ABA8-B0D1E710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0714C-C156-46F8-AF73-4DC873EC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94B3C-2492-4310-9055-3355515C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CAC2-84B2-4812-A037-DAB47E37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9F6D4-F236-4B4B-9279-59A9B73B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29C70-69A0-40B1-ABE1-1ACAA2D2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117CC-BD5E-4EA0-AE6A-7AAFD180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E3A7E-A1D9-483D-931E-11D2F8AD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28D-09AF-4CBC-8CB2-2F9DE32F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75D89-7396-451D-A8A4-DCC6AFF0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D815E-824E-4923-B25C-2074802F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2AEE0-BF5C-4011-8183-52F48FB2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39596-7C96-4B64-AE2C-792DE4A4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D4AE7-C291-4A2C-A746-8F2252EB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3D3F9-D61D-4F14-981C-D341E285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88333-7B79-41D5-B0B3-5FBF0EF1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A4F11-4242-442E-A72F-8AD5A932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34B20-F807-48A8-B194-4A91143A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EB53E-03DD-4D2C-BB36-CE7E1059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DA6-5201-4E93-84C7-F3BF58CA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AB91A-550A-48B3-BCC9-1BEEFA51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F383B-E5C8-4246-9138-0AF4D315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9C7E1-7FA0-42BD-AC30-D57B330F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0D67E-8949-4737-8F68-4F408B98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EFB71-50C0-4B2C-A4BA-A0B375B8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406E3-1841-4DBA-8E3F-B0A82D60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15353-77E4-4BDF-B59F-7936E143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35670-7EAB-4836-A443-9EEF09D8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C307E-051A-4310-8B75-983F207D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98283-C7BE-4858-A312-746FC818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8CE-90C2-4C60-B7F0-2E392DE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9E1B7-F498-4855-8E06-0ACE3F9F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36E7E-A259-4452-A877-1E259598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EFE16-0D46-468F-9068-D31AB11E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9C207-6364-4C84-9546-46EF29A7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746B-6DDD-41B4-9D2C-5019368A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920A7-0648-4621-92B8-516FBCE5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13B16-9102-4175-93C8-1C6B9174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CF55C-80C5-4AE0-9A4C-1D50910A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31DF7-014C-4E27-9728-4F35664A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0BE30-26D2-41E8-AEFF-6FEA7669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784-EFC3-45DE-B5D6-000676A5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603E4-71D0-47A2-AB23-F27DC23D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7F0A0-EE7D-484F-8181-56BA73A7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F83AA-263C-4F10-ABE5-11708D7A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BB40F-C5D3-4F89-AC43-218022A5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B213B-E7FD-45E7-92BF-566FE2CE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07D68-EB83-4220-9733-6E5427FB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EC11A-2AA5-4565-9DA3-BD5D8A61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39902-DF16-4FCB-9EAD-A04FB971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DB71D-3B93-4498-AEC1-A0E2DA6B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F675F-19EC-4BBC-A9F6-B0BFD72B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D6E-5FCC-4521-9EC0-0B5A2C6C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B72FB-BF90-4065-8A63-882735DF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422D6-2B90-4A88-B58E-4CB5264D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F1E3E-F70D-4100-AEC1-5FE55594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C54B4-9EB5-4022-8588-E2569A90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8B7B8-E77C-4F8E-93E7-780715E0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0F098-3137-4112-9576-6CB2F604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7A2E8-66D1-4EA0-84C6-1E5113D2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FDD94-F99D-460F-B137-4C11418B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0E2BE-98AF-4EE6-ACF0-E577C910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F9B44-27C0-44A8-A50B-BFCBB418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F084-8753-4231-B454-4A06B68F6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7862760" y="2253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3C50-F5BE-4A2A-A5C4-849D293EB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7862760" y="2253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B2EA-2CAE-4F29-B886-F710554A0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F963-685A-4502-AEE6-92891B11B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B4D4-16E6-4640-A676-6FDDE9B36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4AED-748E-427E-A3AA-77DB5F57C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3105-7C66-45B1-A3B8-7B292A055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BF0B-D1D9-4A7D-86C8-1FA3AF896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6"/>
          <p:cNvSpPr/>
          <p:nvPr/>
        </p:nvSpPr>
        <p:spPr>
          <a:xfrm>
            <a:off x="7862760" y="2253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20E8-35CC-445F-9193-04F8F7672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6"/>
          <p:cNvSpPr/>
          <p:nvPr/>
        </p:nvSpPr>
        <p:spPr>
          <a:xfrm>
            <a:off x="7859880" y="225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C688-1FAE-4ED7-847A-80B1AE92E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Multicast Extensions to DS-Lite Technique in Broadband Deployments </a:t>
            </a:r>
            <a:br>
              <a:rPr sz="3600"/>
            </a:b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draft-ietf-softwire-dslite-multicast-</a:t>
            </a:r>
            <a:r>
              <a:rPr b="0" i="1" lang="en-US" sz="2200" spc="-1" strike="noStrike">
                <a:solidFill>
                  <a:srgbClr val="558ed5"/>
                </a:solidFill>
                <a:latin typeface="Calibri"/>
                <a:ea typeface="Microsoft YaHei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776160" y="3886200"/>
            <a:ext cx="6996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ang, Q., Qin, J., Boucadair, M., Jacquenet, C., and Y. 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Scope &amp; Use 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n IPv4 receiver accesses IPv4 multicast contents over an IPv6-only multicast-enabled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Use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liver multicast-based service offerings to DS-Lite serviced customers in ASM and SSM m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Found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ddress Map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Use [I-D.boucadair-behave-64-multicast-address-format] to build multicast IPv4-embedded IPv6 addr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Use [RFC6052] to build unicast IPv4-embedded IPv6 addresses representing IPv4 sources in the IPv6 real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underneath network delivers encapsulated packet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in standard multicast fash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andwidth optimization is ens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ll involved interworking functions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wo fundamental elements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mB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mAFT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6"/>
          <p:cNvSpPr/>
          <p:nvPr/>
        </p:nvSpPr>
        <p:spPr>
          <a:xfrm>
            <a:off x="5715000" y="1947960"/>
            <a:ext cx="3124080" cy="2547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5"/>
          <p:cNvSpPr/>
          <p:nvPr/>
        </p:nvSpPr>
        <p:spPr>
          <a:xfrm>
            <a:off x="2438280" y="1947960"/>
            <a:ext cx="3124440" cy="2547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4"/>
          <p:cNvSpPr/>
          <p:nvPr/>
        </p:nvSpPr>
        <p:spPr>
          <a:xfrm>
            <a:off x="457200" y="1947960"/>
            <a:ext cx="1828800" cy="2547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7710480" y="15098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IPv4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61920" y="149544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IPv4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4"/>
          <p:cNvSpPr/>
          <p:nvPr/>
        </p:nvSpPr>
        <p:spPr>
          <a:xfrm>
            <a:off x="5213880" y="14907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mAF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5"/>
          <p:cNvSpPr/>
          <p:nvPr/>
        </p:nvSpPr>
        <p:spPr>
          <a:xfrm>
            <a:off x="2057040" y="14698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m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838080" y="1947960"/>
            <a:ext cx="0" cy="237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7"/>
          <p:cNvSpPr/>
          <p:nvPr/>
        </p:nvSpPr>
        <p:spPr>
          <a:xfrm>
            <a:off x="2362320" y="1947960"/>
            <a:ext cx="0" cy="237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8"/>
          <p:cNvSpPr/>
          <p:nvPr/>
        </p:nvSpPr>
        <p:spPr>
          <a:xfrm>
            <a:off x="5641920" y="1947960"/>
            <a:ext cx="0" cy="237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9"/>
          <p:cNvSpPr/>
          <p:nvPr/>
        </p:nvSpPr>
        <p:spPr>
          <a:xfrm>
            <a:off x="8435880" y="1947960"/>
            <a:ext cx="0" cy="237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0"/>
          <p:cNvSpPr/>
          <p:nvPr/>
        </p:nvSpPr>
        <p:spPr>
          <a:xfrm>
            <a:off x="955800" y="2328840"/>
            <a:ext cx="129528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1"/>
          <p:cNvSpPr/>
          <p:nvPr/>
        </p:nvSpPr>
        <p:spPr>
          <a:xfrm>
            <a:off x="1338480" y="1947960"/>
            <a:ext cx="6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G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2"/>
          <p:cNvSpPr/>
          <p:nvPr/>
        </p:nvSpPr>
        <p:spPr>
          <a:xfrm>
            <a:off x="2452680" y="2328840"/>
            <a:ext cx="146196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3"/>
          <p:cNvSpPr/>
          <p:nvPr/>
        </p:nvSpPr>
        <p:spPr>
          <a:xfrm>
            <a:off x="2822760" y="194796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M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44"/>
          <p:cNvSpPr/>
          <p:nvPr/>
        </p:nvSpPr>
        <p:spPr>
          <a:xfrm>
            <a:off x="3676680" y="955800"/>
            <a:ext cx="609480" cy="507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5"/>
          <p:cNvSpPr/>
          <p:nvPr/>
        </p:nvSpPr>
        <p:spPr>
          <a:xfrm>
            <a:off x="3340440" y="149076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MLD Quer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6"/>
          <p:cNvSpPr/>
          <p:nvPr/>
        </p:nvSpPr>
        <p:spPr>
          <a:xfrm>
            <a:off x="3968640" y="1947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7"/>
          <p:cNvSpPr/>
          <p:nvPr/>
        </p:nvSpPr>
        <p:spPr>
          <a:xfrm>
            <a:off x="4024440" y="2328840"/>
            <a:ext cx="146340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8"/>
          <p:cNvSpPr/>
          <p:nvPr/>
        </p:nvSpPr>
        <p:spPr>
          <a:xfrm>
            <a:off x="4201560" y="19479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Pv6 P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9"/>
          <p:cNvSpPr/>
          <p:nvPr/>
        </p:nvSpPr>
        <p:spPr>
          <a:xfrm>
            <a:off x="5715000" y="2328840"/>
            <a:ext cx="160020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0"/>
          <p:cNvSpPr/>
          <p:nvPr/>
        </p:nvSpPr>
        <p:spPr>
          <a:xfrm>
            <a:off x="5954400" y="19479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Pv4 P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1"/>
          <p:cNvSpPr/>
          <p:nvPr/>
        </p:nvSpPr>
        <p:spPr>
          <a:xfrm>
            <a:off x="5761080" y="3940200"/>
            <a:ext cx="25606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2"/>
          <p:cNvSpPr/>
          <p:nvPr/>
        </p:nvSpPr>
        <p:spPr>
          <a:xfrm>
            <a:off x="2498760" y="3940200"/>
            <a:ext cx="30178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3"/>
          <p:cNvSpPr/>
          <p:nvPr/>
        </p:nvSpPr>
        <p:spPr>
          <a:xfrm>
            <a:off x="873000" y="39402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4"/>
          <p:cNvSpPr/>
          <p:nvPr/>
        </p:nvSpPr>
        <p:spPr>
          <a:xfrm>
            <a:off x="6407640" y="352260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Pv4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5"/>
          <p:cNvSpPr/>
          <p:nvPr/>
        </p:nvSpPr>
        <p:spPr>
          <a:xfrm>
            <a:off x="3028320" y="351144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Pv4-in-IPv6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5791320" y="2666880"/>
            <a:ext cx="2286000" cy="685800"/>
          </a:xfrm>
          <a:prstGeom prst="wedgeRoundRectCallout">
            <a:avLst>
              <a:gd name="adj1" fmla="val -56555"/>
              <a:gd name="adj2" fmla="val -87495"/>
              <a:gd name="adj3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tateless IPv4-IPv6 PIM Interworking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2438280" y="2689200"/>
            <a:ext cx="2210040" cy="641520"/>
          </a:xfrm>
          <a:prstGeom prst="wedgeRoundRectCallout">
            <a:avLst>
              <a:gd name="adj1" fmla="val -53916"/>
              <a:gd name="adj2" fmla="val -91925"/>
              <a:gd name="adj3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tateless IGMP-MLD Interworking Fun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5791320" y="4648320"/>
            <a:ext cx="2819160" cy="914400"/>
          </a:xfrm>
          <a:prstGeom prst="wedgeRoundRectCallout">
            <a:avLst>
              <a:gd name="adj1" fmla="val -53671"/>
              <a:gd name="adj2" fmla="val -105365"/>
              <a:gd name="adj3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tateless encapsul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IPv4 -&gt; IPv6 header mapp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of multicast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"/>
          <p:cNvSpPr/>
          <p:nvPr/>
        </p:nvSpPr>
        <p:spPr>
          <a:xfrm>
            <a:off x="1371600" y="5715000"/>
            <a:ext cx="6248520" cy="914400"/>
          </a:xfrm>
          <a:prstGeom prst="wedgeRoundRectCallout">
            <a:avLst>
              <a:gd name="adj1" fmla="val 42902"/>
              <a:gd name="adj2" fmla="val 18782"/>
              <a:gd name="adj3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Overall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 procedures with involved interworking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Need to provision the mB4 with mPREFIX64 and uPREFIX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9"/>
          <p:cNvSpPr/>
          <p:nvPr/>
        </p:nvSpPr>
        <p:spPr>
          <a:xfrm>
            <a:off x="6648840" y="419112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IPv4 Rea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32" descr="Gateway"/>
          <p:cNvPicPr/>
          <p:nvPr/>
        </p:nvPicPr>
        <p:blipFill>
          <a:blip r:embed="rId1"/>
          <a:stretch/>
        </p:blipFill>
        <p:spPr>
          <a:xfrm>
            <a:off x="5394240" y="907920"/>
            <a:ext cx="506520" cy="5605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69"/>
          <p:cNvSpPr/>
          <p:nvPr/>
        </p:nvSpPr>
        <p:spPr>
          <a:xfrm>
            <a:off x="3281760" y="417816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IPv6 Rea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4"/>
          <p:cNvSpPr/>
          <p:nvPr/>
        </p:nvSpPr>
        <p:spPr>
          <a:xfrm>
            <a:off x="1108440" y="351144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Pv4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6967440" y="963720"/>
            <a:ext cx="609840" cy="507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50"/>
          <p:cNvSpPr/>
          <p:nvPr/>
        </p:nvSpPr>
        <p:spPr>
          <a:xfrm>
            <a:off x="609480" y="988920"/>
            <a:ext cx="609840" cy="5079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51"/>
          <p:cNvSpPr/>
          <p:nvPr/>
        </p:nvSpPr>
        <p:spPr>
          <a:xfrm>
            <a:off x="8118360" y="949320"/>
            <a:ext cx="609840" cy="5079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9"/>
          <p:cNvSpPr/>
          <p:nvPr/>
        </p:nvSpPr>
        <p:spPr>
          <a:xfrm>
            <a:off x="857520" y="419112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IPv4 Rea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2514600" y="4648320"/>
            <a:ext cx="2514600" cy="685800"/>
          </a:xfrm>
          <a:prstGeom prst="wedgeRoundRectCallout">
            <a:avLst>
              <a:gd name="adj1" fmla="val -55606"/>
              <a:gd name="adj2" fmla="val -114324"/>
              <a:gd name="adj3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tateless de-encapsulation of multicast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58"/>
          <p:cNvGrpSpPr/>
          <p:nvPr/>
        </p:nvGrpSpPr>
        <p:grpSpPr>
          <a:xfrm>
            <a:off x="2100240" y="1017720"/>
            <a:ext cx="519120" cy="452520"/>
            <a:chOff x="2100240" y="1017720"/>
            <a:chExt cx="519120" cy="452520"/>
          </a:xfrm>
        </p:grpSpPr>
        <p:pic>
          <p:nvPicPr>
            <p:cNvPr id="467" name="Picture 127" descr="routerfirwl"/>
            <p:cNvPicPr/>
            <p:nvPr/>
          </p:nvPicPr>
          <p:blipFill>
            <a:blip r:embed="rId2"/>
            <a:stretch/>
          </p:blipFill>
          <p:spPr>
            <a:xfrm>
              <a:off x="2100240" y="1017720"/>
              <a:ext cx="51912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Rectangle 60"/>
            <p:cNvSpPr/>
            <p:nvPr/>
          </p:nvSpPr>
          <p:spPr>
            <a:xfrm>
              <a:off x="2111040" y="1132920"/>
              <a:ext cx="49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Calibri"/>
                </a:rPr>
                <a:t>C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Routing Conside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mAFTR interconnects the IPv4 multicast distribution tree (MDT) with the corresponding IPv6 MD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mAFTR MUST use the uPrefix64 to build the IPv6 source addresses of the multicast group address derived from mPrefix6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 other words, the mAFTR MUST be the multicast source derived from mPrefix6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mAFTR MUST advertise the route of uPrefix64 to the IPv6 IG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Demonstration for PO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1"/>
          <a:stretch/>
        </p:blipFill>
        <p:spPr>
          <a:xfrm>
            <a:off x="471600" y="1471680"/>
            <a:ext cx="82105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Next Ste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Please check the demo for PO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Comments are 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Jacni Qin</cp:lastModifiedBy>
  <dcterms:modified xsi:type="dcterms:W3CDTF">2011-11-14T01:44:48Z</dcterms:modified>
  <cp:revision>430</cp:revision>
  <dc:subject/>
  <dc:title>幻灯片 1</dc:title>
</cp:coreProperties>
</file>