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431-4FB2-4B5F-B95E-E90594D6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F82-40F5-499A-A561-9E040F02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ED191-9EDE-45A9-903F-1A3B1158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6639A-54BD-4260-B8B3-D701642A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464DB-7490-45BA-AB04-0FBC10F9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D2CEC-196D-4FF1-BBD4-1F5075D9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C4073-4154-4919-9769-7C4A6790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440B7-31A4-48E5-B5BA-1906C1D6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733FB-226E-4AD2-9273-1CC9B1CE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0FDD7-0A88-4FF6-89CF-8B5E0EFD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36468-2BDF-44E0-8E59-AED67697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EC230-9948-42D8-9319-8443DF37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E6D-0A6A-4DD7-9495-0EE94D71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7A704-5F0F-4C3A-A45B-77205D5B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93599-991C-479A-AE67-B0713C33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18993-D7A6-4E63-8FF6-04E2F7BB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7E55E-2857-4B40-AB01-1113BA20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AC987-6F30-466C-9B84-D98511BC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B2949-F8F0-44BB-9C03-B78FBBF5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3C35F-300B-4F90-97D7-0C85A65B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7FA4B-EACC-48A5-B2C0-6113000B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9E2C2-FD60-47C7-B787-C49A1660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CEEFA-0982-434A-AB70-1B409789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796-EF70-4F96-ABE9-470E83EA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C9E4E-E453-4A2B-9CBC-1BEB853F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2F92-2BE8-4D08-B64B-6490B806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C12D-C374-46BC-8DD8-06C34209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3DBC-476D-4454-AE64-C67C20C9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674A-0BF5-4DBE-9209-533D9368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165F-DEEE-4E38-B42B-8B43BBD1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5F82-43C3-4F78-BBF0-BE1FF9B0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9CFE-4B2C-4B74-AE28-07C1B1B2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978-940B-41F8-993D-D33ADD95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A4C7-26D4-4F46-8CBE-052A9818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F530-DCF2-40B8-9282-DD667E08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7C27-E571-4E9D-A9EB-663FD431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9797-CD94-42D5-ADEE-FB3DB81F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B700-C0E5-4233-A433-DD1DEA98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3EEBD-79E3-4A28-9873-AC9893C7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0F03-E8ED-40FE-875C-A05AF934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F5D5-F7DC-4503-9FFE-3ABD68C4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0410-AF80-4B74-87D6-4E4042F0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CD144-0F46-4072-972C-2B9CED96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C40-7931-4EDF-AFBD-88B4F5B9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474DC-6A9D-4FCA-9B99-54116E4A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800B5-D46E-4194-BD81-170F6F7D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750B8-E562-4F88-9697-74646855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D3548-FED4-4DAE-BC01-369B567B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3E5A3-2FDF-4F5C-AD90-987F76F4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31E8-67E0-4BE9-B6CF-797B17D6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35BFF-C6C1-43ED-BF3F-AFCB4129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49A3F-F3BC-4BD6-9387-CD51E9F6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0510D-AAB0-41C6-A876-9F88BEFE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2DD50-5CC5-4B25-A232-3AD3FAA6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FC6-8A2E-4BAC-A567-9A57A52A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5E6EC-49B8-465D-ADE2-26EC1BCA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80A35-9E27-42F7-9584-2C308D17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D9946-DF9B-4FFA-A67C-2CC0CAFB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55222-EC2E-4855-A24C-B7BE1C3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31B49-04D0-41D3-81BF-E9EA242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2D888-00C2-42B9-88A2-7A926169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948A-B1E4-4D83-AC8F-A820FD3A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E8C12-F1F1-408E-A06D-B9AE355C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CF0F-94A8-492C-9C58-A396C338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286A7-9CAD-4AB0-A540-584FA085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D69-263E-4C14-A460-BFFCE1E4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889F0-5129-46A6-9F2F-9385885B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7A916-4951-468C-B124-F2E56765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0C129-EE4B-4DA6-AC79-62E85481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A3DAD-30C9-45E6-97E3-46C28B19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11104-794A-49E9-81D5-26E485C0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56379-7DF0-4FD2-BC6D-2FF469F1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6A917-D15A-40E3-91D0-B6F3E67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ABA37-F51F-4FDA-A629-C59256E7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5D65A-CAD4-4E13-9AAE-D69D66E3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0E315-EF08-4853-BA70-FC820196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58B-B6FA-4398-A48B-16AC84BC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D996F-BFCC-4154-8D26-8D63E0BA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232BE-FAF6-45A1-B4D4-4C774B8D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056DB-7B32-42E4-84CE-7918479E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65667-B472-4CA2-B115-25F1BFAD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219D4-67C2-443D-8DD9-F04A0968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8CC25-4511-4A01-9068-2982234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27825-2671-4BDC-B823-54DA3CB1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11052-02EE-4305-8BDC-82BB046D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327CD-389F-4A2F-9DA1-04156368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ACDDC-CDC5-442E-AE11-F30502C5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9A5-AAAB-4284-970A-FE108E6F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E106C-62B4-4F99-AB47-341261C7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7BC7E-85AD-4DCC-81CB-86CAB757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1012E-250D-4EE0-8DAE-1D159350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BB626-3135-49FF-A3FE-449A02F1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DD5F9-2A33-4F8E-AF74-AB065AB6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0C428-369A-4B66-A5FF-69B57559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B3FFF-4103-4AB1-B69D-0E52F9E1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6B1BB-DBA3-42D2-A653-E1E3E2FF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EEC5F-B6D6-48A8-8243-44D2BC42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D79D8-2629-48FA-9F0C-B28D60BE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7D8-49E3-4B84-BABD-74706A44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CC2A9-7264-4940-AA98-C9FCC5D0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BFBB7-D33F-4B3B-A4B3-1AEF3F96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0BE69-2EFD-45B1-BF4C-7ED4F514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85216-8143-457B-81E7-C186E09F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2F676-B412-4F56-BEC1-49F88680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C4AA5-FA13-4F30-925E-E2E80947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6AD2D-C3A0-4107-B381-789386EC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4EDAA-1408-4474-ABB4-B288E6DB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4645F-62A1-4D77-B451-F463340A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DB32B-77ED-4504-8D29-392CCE6A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454-547F-4841-BEB3-4045FAE5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3B7D1-76FF-4224-AE60-B6206E60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F7E36-FDD3-4F10-8627-C73CD6CD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F4B40-30B5-49CC-B307-E3B5C9DA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CFF31-BCA1-4731-8F0E-20AFC825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D9BCA-0F82-4628-819A-5E3FC7E0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E61BF-F139-4E16-9B97-9091D6FD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2575E-5376-4B87-AD83-EAA9AAA4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68CDB-8140-4C97-A2F3-7660D6FD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2788C-164F-4E7E-8BA7-8ACBC0E3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B38E0-DB59-4A1F-B2DA-7FD2481C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B243-0952-4F1C-98A4-E48E129CC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7862760" y="2253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1B97-7393-495F-9130-81827A474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7862760" y="2253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5BFB-D082-4A9C-A49C-785F557C9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0A1E-BAF6-491F-9ACA-F18B0F34A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59B9-55C9-45C0-8B5A-FC8D834EE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D8A9-6346-42EE-B499-7A3DBEA44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1E1D-7805-49BE-BBF6-BC1D8CF9D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1DB4-ECBD-43A8-994D-C58AC8170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6"/>
          <p:cNvSpPr/>
          <p:nvPr/>
        </p:nvSpPr>
        <p:spPr>
          <a:xfrm>
            <a:off x="7862760" y="2253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6546-23B7-417E-8B09-77F2563A0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3D40-FBF3-4DB0-9ADA-71A39CB26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Multicast Extensions to DS-Lite Technique in Broadband Deployments </a:t>
            </a:r>
            <a:br>
              <a:rPr sz="3600"/>
            </a:b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draft-ietf-softwire-dslite-multicast-</a:t>
            </a:r>
            <a:r>
              <a:rPr b="0" i="1" lang="en-US" sz="2200" spc="-1" strike="noStrike">
                <a:solidFill>
                  <a:srgbClr val="558ed5"/>
                </a:solidFill>
                <a:latin typeface="Calibri"/>
                <a:ea typeface="Microsoft YaHei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776160" y="3886200"/>
            <a:ext cx="6996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ang, Q., Qin, J., Boucadair, M., Jacquenet, C., and Y. 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Scope &amp; Use 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n IPv4 receiver accesses IPv4 multicast contents over an IPv6-only multicast-enabled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Use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liver multicast-based service offerings to DS-Lite serviced customers in ASM and SSM m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Found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ddress Map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Use [I-D.boucadair-behave-64-multicast-address-format] to build multicast IPv4-embedded IPv6 addr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Use [RFC6052] to build unicast IPv4-embedded IPv6 addresses representing IPv4 sources in the IPv6 real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underneath network delivers encapsulated packet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in standard multicast fash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andwidth optimization is ens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ll involved interworking functions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wo fundamental elements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mB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mAFT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6"/>
          <p:cNvSpPr/>
          <p:nvPr/>
        </p:nvSpPr>
        <p:spPr>
          <a:xfrm>
            <a:off x="5715000" y="1947960"/>
            <a:ext cx="3124080" cy="2547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5"/>
          <p:cNvSpPr/>
          <p:nvPr/>
        </p:nvSpPr>
        <p:spPr>
          <a:xfrm>
            <a:off x="2438280" y="1947960"/>
            <a:ext cx="3124440" cy="2547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4"/>
          <p:cNvSpPr/>
          <p:nvPr/>
        </p:nvSpPr>
        <p:spPr>
          <a:xfrm>
            <a:off x="457200" y="1947960"/>
            <a:ext cx="1828800" cy="2547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7710480" y="15098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IPv4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61920" y="149544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IPv4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4"/>
          <p:cNvSpPr/>
          <p:nvPr/>
        </p:nvSpPr>
        <p:spPr>
          <a:xfrm>
            <a:off x="5213880" y="14907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mAF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5"/>
          <p:cNvSpPr/>
          <p:nvPr/>
        </p:nvSpPr>
        <p:spPr>
          <a:xfrm>
            <a:off x="2057040" y="14698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m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838080" y="1947960"/>
            <a:ext cx="0" cy="237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7"/>
          <p:cNvSpPr/>
          <p:nvPr/>
        </p:nvSpPr>
        <p:spPr>
          <a:xfrm>
            <a:off x="2362320" y="1947960"/>
            <a:ext cx="0" cy="237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8"/>
          <p:cNvSpPr/>
          <p:nvPr/>
        </p:nvSpPr>
        <p:spPr>
          <a:xfrm>
            <a:off x="5641920" y="1947960"/>
            <a:ext cx="0" cy="237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9"/>
          <p:cNvSpPr/>
          <p:nvPr/>
        </p:nvSpPr>
        <p:spPr>
          <a:xfrm>
            <a:off x="8435880" y="1947960"/>
            <a:ext cx="0" cy="237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0"/>
          <p:cNvSpPr/>
          <p:nvPr/>
        </p:nvSpPr>
        <p:spPr>
          <a:xfrm>
            <a:off x="955800" y="2328840"/>
            <a:ext cx="129528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1"/>
          <p:cNvSpPr/>
          <p:nvPr/>
        </p:nvSpPr>
        <p:spPr>
          <a:xfrm>
            <a:off x="1338480" y="1947960"/>
            <a:ext cx="6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G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2"/>
          <p:cNvSpPr/>
          <p:nvPr/>
        </p:nvSpPr>
        <p:spPr>
          <a:xfrm>
            <a:off x="2452680" y="2328840"/>
            <a:ext cx="146196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3"/>
          <p:cNvSpPr/>
          <p:nvPr/>
        </p:nvSpPr>
        <p:spPr>
          <a:xfrm>
            <a:off x="2822760" y="194796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M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44"/>
          <p:cNvSpPr/>
          <p:nvPr/>
        </p:nvSpPr>
        <p:spPr>
          <a:xfrm>
            <a:off x="3676680" y="955800"/>
            <a:ext cx="609480" cy="507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5"/>
          <p:cNvSpPr/>
          <p:nvPr/>
        </p:nvSpPr>
        <p:spPr>
          <a:xfrm>
            <a:off x="3340440" y="149076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MLD Quer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6"/>
          <p:cNvSpPr/>
          <p:nvPr/>
        </p:nvSpPr>
        <p:spPr>
          <a:xfrm>
            <a:off x="3968640" y="1947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7"/>
          <p:cNvSpPr/>
          <p:nvPr/>
        </p:nvSpPr>
        <p:spPr>
          <a:xfrm>
            <a:off x="4024440" y="2328840"/>
            <a:ext cx="146340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8"/>
          <p:cNvSpPr/>
          <p:nvPr/>
        </p:nvSpPr>
        <p:spPr>
          <a:xfrm>
            <a:off x="4201560" y="19479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Pv6 P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9"/>
          <p:cNvSpPr/>
          <p:nvPr/>
        </p:nvSpPr>
        <p:spPr>
          <a:xfrm>
            <a:off x="5715000" y="2328840"/>
            <a:ext cx="160020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0"/>
          <p:cNvSpPr/>
          <p:nvPr/>
        </p:nvSpPr>
        <p:spPr>
          <a:xfrm>
            <a:off x="5954400" y="19479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Pv4 P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1"/>
          <p:cNvSpPr/>
          <p:nvPr/>
        </p:nvSpPr>
        <p:spPr>
          <a:xfrm>
            <a:off x="5761080" y="3940200"/>
            <a:ext cx="25606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2"/>
          <p:cNvSpPr/>
          <p:nvPr/>
        </p:nvSpPr>
        <p:spPr>
          <a:xfrm>
            <a:off x="2498760" y="3940200"/>
            <a:ext cx="30178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3"/>
          <p:cNvSpPr/>
          <p:nvPr/>
        </p:nvSpPr>
        <p:spPr>
          <a:xfrm>
            <a:off x="873000" y="39402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4"/>
          <p:cNvSpPr/>
          <p:nvPr/>
        </p:nvSpPr>
        <p:spPr>
          <a:xfrm>
            <a:off x="6407640" y="352260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Pv4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5"/>
          <p:cNvSpPr/>
          <p:nvPr/>
        </p:nvSpPr>
        <p:spPr>
          <a:xfrm>
            <a:off x="3028320" y="351144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Pv4-in-IPv6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5791320" y="2666880"/>
            <a:ext cx="2286000" cy="685800"/>
          </a:xfrm>
          <a:prstGeom prst="wedgeRoundRectCallout">
            <a:avLst>
              <a:gd name="adj1" fmla="val -56555"/>
              <a:gd name="adj2" fmla="val -87495"/>
              <a:gd name="adj3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tateless IPv4-IPv6 PIM Interworking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2438280" y="2689200"/>
            <a:ext cx="2210040" cy="641520"/>
          </a:xfrm>
          <a:prstGeom prst="wedgeRoundRectCallout">
            <a:avLst>
              <a:gd name="adj1" fmla="val -53916"/>
              <a:gd name="adj2" fmla="val -91925"/>
              <a:gd name="adj3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tateless IGMP-MLD Interworking Fun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5791320" y="4648320"/>
            <a:ext cx="2819160" cy="914400"/>
          </a:xfrm>
          <a:prstGeom prst="wedgeRoundRectCallout">
            <a:avLst>
              <a:gd name="adj1" fmla="val -53671"/>
              <a:gd name="adj2" fmla="val -105365"/>
              <a:gd name="adj3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tateless encapsul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IPv4 -&gt; IPv6 header mapp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of multicast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"/>
          <p:cNvSpPr/>
          <p:nvPr/>
        </p:nvSpPr>
        <p:spPr>
          <a:xfrm>
            <a:off x="1371600" y="5715000"/>
            <a:ext cx="6248520" cy="914400"/>
          </a:xfrm>
          <a:prstGeom prst="wedgeRoundRectCallout">
            <a:avLst>
              <a:gd name="adj1" fmla="val 42902"/>
              <a:gd name="adj2" fmla="val 18782"/>
              <a:gd name="adj3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Overall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 procedures with involved interworking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Need to provision the mB4 with mPREFIX64 and uPREFIX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9"/>
          <p:cNvSpPr/>
          <p:nvPr/>
        </p:nvSpPr>
        <p:spPr>
          <a:xfrm>
            <a:off x="6648840" y="419112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IPv4 Rea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32" descr="Gateway"/>
          <p:cNvPicPr/>
          <p:nvPr/>
        </p:nvPicPr>
        <p:blipFill>
          <a:blip r:embed="rId1"/>
          <a:stretch/>
        </p:blipFill>
        <p:spPr>
          <a:xfrm>
            <a:off x="5394240" y="907920"/>
            <a:ext cx="506520" cy="5605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69"/>
          <p:cNvSpPr/>
          <p:nvPr/>
        </p:nvSpPr>
        <p:spPr>
          <a:xfrm>
            <a:off x="3281760" y="417816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IPv6 Rea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4"/>
          <p:cNvSpPr/>
          <p:nvPr/>
        </p:nvSpPr>
        <p:spPr>
          <a:xfrm>
            <a:off x="1108440" y="351144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Pv4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6967440" y="963720"/>
            <a:ext cx="609840" cy="507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50"/>
          <p:cNvSpPr/>
          <p:nvPr/>
        </p:nvSpPr>
        <p:spPr>
          <a:xfrm>
            <a:off x="609480" y="988920"/>
            <a:ext cx="609840" cy="5079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51"/>
          <p:cNvSpPr/>
          <p:nvPr/>
        </p:nvSpPr>
        <p:spPr>
          <a:xfrm>
            <a:off x="8118360" y="949320"/>
            <a:ext cx="609840" cy="5079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9"/>
          <p:cNvSpPr/>
          <p:nvPr/>
        </p:nvSpPr>
        <p:spPr>
          <a:xfrm>
            <a:off x="857520" y="419112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IPv4 Rea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2514600" y="4648320"/>
            <a:ext cx="2514600" cy="685800"/>
          </a:xfrm>
          <a:prstGeom prst="wedgeRoundRectCallout">
            <a:avLst>
              <a:gd name="adj1" fmla="val -55606"/>
              <a:gd name="adj2" fmla="val -114324"/>
              <a:gd name="adj3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tateless de-encapsulation of multicast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58"/>
          <p:cNvGrpSpPr/>
          <p:nvPr/>
        </p:nvGrpSpPr>
        <p:grpSpPr>
          <a:xfrm>
            <a:off x="2100240" y="1017720"/>
            <a:ext cx="519120" cy="452520"/>
            <a:chOff x="2100240" y="1017720"/>
            <a:chExt cx="519120" cy="452520"/>
          </a:xfrm>
        </p:grpSpPr>
        <p:pic>
          <p:nvPicPr>
            <p:cNvPr id="467" name="Picture 127" descr="routerfirwl"/>
            <p:cNvPicPr/>
            <p:nvPr/>
          </p:nvPicPr>
          <p:blipFill>
            <a:blip r:embed="rId2"/>
            <a:stretch/>
          </p:blipFill>
          <p:spPr>
            <a:xfrm>
              <a:off x="2100240" y="1017720"/>
              <a:ext cx="51912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Rectangle 60"/>
            <p:cNvSpPr/>
            <p:nvPr/>
          </p:nvSpPr>
          <p:spPr>
            <a:xfrm>
              <a:off x="2111040" y="1132920"/>
              <a:ext cx="49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Calibri"/>
                </a:rPr>
                <a:t>C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Routing Conside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mAFTR interconnects the IPv4 multicast distribution tree (MDT) with the corresponding IPv6 MD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mAFTR MUST use the uPrefix64 to build the IPv6 source addresses of the multicast group address derived from mPrefix6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 other words, the mAFTR MUST be the multicast source derived from mPrefix6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mAFTR MUST advertise the route of uPrefix64 to the IPv6 IG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Demonstration for PO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1"/>
          <a:stretch/>
        </p:blipFill>
        <p:spPr>
          <a:xfrm>
            <a:off x="471600" y="1471680"/>
            <a:ext cx="82105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Next Ste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Please check the demo for PO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Comments are 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Jacni Qin</cp:lastModifiedBy>
  <dcterms:modified xsi:type="dcterms:W3CDTF">2011-11-14T01:44:48Z</dcterms:modified>
  <cp:revision>430</cp:revision>
  <dc:subject/>
  <dc:title>幻灯片 1</dc:title>
</cp:coreProperties>
</file>