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8640" y="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8D53-A0AF-49CB-81E9-BE507441BD74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HCPv6 Options for IPv6 DS-Lite Multicast Prefix</a:t>
            </a:r>
            <a:br>
              <a:rPr sz="4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qin-softwire-multicast-prefix-option-0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2-Taipei, Novembe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Qin, M. Boucadair and T. Ts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cument defines DHCPv6 options to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PREFIX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PREFIX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icast PREFIX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synthesize unicast IPv4-embedded IPv6 address following RFC6052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ulticast PREFIX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synthesize unicast IPv4-embedded IPv6 address as defined in I-D.boucadair-behave-64-multicast-address-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belong to the SSM range (i.e., ff3x::/32 [RFC4607]) or ASM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D.venaas-behave-mcast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less local synthesize of source/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D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etf-softwire-dslite-multicast: mB4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PREFIX64 for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tateless synthesize of source IPv6 add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a discovered IPv4 sourc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PREFIX64 for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tateless synthesize of group IPv6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PREFIX64 and Multicast PREFIX64 for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tateless decapsulation of multicast IPv4-in-IPv6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Unicast PREFIX64 and Unicast PREFIX64 MUST be configured to the mAF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it as a WG doc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hamed BOUCADAIR</cp:lastModifiedBy>
  <dcterms:modified xsi:type="dcterms:W3CDTF">2011-11-02T15:26:11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716227470</vt:r8>
  </property>
  <property fmtid="{D5CDD505-2E9C-101B-9397-08002B2CF9AE}" pid="4" name="_AuthorEmail">
    <vt:lpwstr>mohamed.boucadair@orange.com</vt:lpwstr>
  </property>
  <property fmtid="{D5CDD505-2E9C-101B-9397-08002B2CF9AE}" pid="5" name="_AuthorEmailDisplayName">
    <vt:lpwstr>BOUCADAIR Mohamed OLNC/NAD/TIP</vt:lpwstr>
  </property>
  <property fmtid="{D5CDD505-2E9C-101B-9397-08002B2CF9AE}" pid="6" name="_EmailSubject">
    <vt:lpwstr>Slides for draft-qin-softwire-multicast-prefix-option</vt:lpwstr>
  </property>
  <property fmtid="{D5CDD505-2E9C-101B-9397-08002B2CF9AE}" pid="7" name="_NewReviewCycle">
    <vt:lpwstr/>
  </property>
  <property fmtid="{D5CDD505-2E9C-101B-9397-08002B2CF9AE}" pid="8" name="_PreviousAdHocReviewCycleID">
    <vt:r8>1215789113</vt:r8>
  </property>
</Properties>
</file>