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48E-C583-4325-8DD5-F6B12F8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E21-3FD2-48FB-BC30-1FB6CE1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04F-D6A7-412C-9797-407EA1F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B22-609B-4C6A-BCCF-35506F6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CCC-29EB-42D1-91A5-0ABFAA3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5CC-B55F-4441-840B-DFA63CC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257-97DD-44B0-B50C-316D15D7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C2A-D67E-4FB8-906A-7210BD7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3B7-0DA7-4895-95CC-8D262E93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DEF-2C37-408D-8B6E-7BE3FDA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85D-3036-428F-B9AA-17EEAE5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CCC-CDAC-4708-B98F-A31AB91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57E-A3E6-48E6-9FD3-527A32C3F74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145" TargetMode="External"/><Relationship Id="rId2" Type="http://schemas.openxmlformats.org/officeDocument/2006/relationships/hyperlink" Target="http://tools.ietf.org/html/rfc6146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146" TargetMode="External"/><Relationship Id="rId2" Type="http://schemas.openxmlformats.org/officeDocument/2006/relationships/hyperlink" Target="http://tools.ietf.org/html/rfc6145" TargetMode="External"/><Relationship Id="rId3" Type="http://schemas.openxmlformats.org/officeDocument/2006/relationships/hyperlink" Target="http://tools.ietf.org/html/rfc6147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052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082960"/>
            <a:ext cx="889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464XLAT : Combination of Stateful and Stateless Translation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draft-mawatari-softwire-464xlat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IETF 82 @ Taipe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0800" y="4343400"/>
            <a:ext cx="7561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11 / 11 /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.Mawatari @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pan Internet Exchange Co.,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.Kawashima @ NEC AccessTechnica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.Byrne @ T-Mobil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52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s and suggestions are welcom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464XL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0666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4XLAT is a simple technique to provide IPv4 access service while avoiding encapsulation just by using twice IPv4/ IPv6 translation standardized in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FC614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] and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FC614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440" y="1091520"/>
            <a:ext cx="869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LAT: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rovider side translator(X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 stateful transla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mplies with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FC614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tha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s 1:N translation. It translates global IPv6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dress to global IPv4 address,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CLAT:Customer side translator(X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 stateless transla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mplies with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FC614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tha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s 1: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ranslation. It algorithmically translat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ivate IPv4 address to global IPv6 addres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ther features are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IPv6 router, DHCPv6 Server/Client,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ccess Control, DNS Prox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presence of DNS64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FC614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and any por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pping algorithm are not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MPLS cloud"/>
          <p:cNvPicPr/>
          <p:nvPr/>
        </p:nvPicPr>
        <p:blipFill>
          <a:blip r:embed="rId1"/>
          <a:stretch/>
        </p:blipFill>
        <p:spPr>
          <a:xfrm>
            <a:off x="6477120" y="19051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43640" y="4753080"/>
            <a:ext cx="1105200" cy="228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3360" y="5210280"/>
            <a:ext cx="131436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2600" y="5219640"/>
            <a:ext cx="131436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3800" y="4772160"/>
            <a:ext cx="128592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560" y="521964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76244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MPLS cloud"/>
          <p:cNvPicPr/>
          <p:nvPr/>
        </p:nvPicPr>
        <p:blipFill>
          <a:blip r:embed="rId2"/>
          <a:stretch/>
        </p:blipFill>
        <p:spPr>
          <a:xfrm>
            <a:off x="380880" y="188280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TDM cloud"/>
          <p:cNvPicPr/>
          <p:nvPr/>
        </p:nvPicPr>
        <p:blipFill>
          <a:blip r:embed="rId3"/>
          <a:stretch/>
        </p:blipFill>
        <p:spPr>
          <a:xfrm>
            <a:off x="3276720" y="1654200"/>
            <a:ext cx="274320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94"/>
          <p:cNvSpPr/>
          <p:nvPr/>
        </p:nvSpPr>
        <p:spPr>
          <a:xfrm>
            <a:off x="2209680" y="2494080"/>
            <a:ext cx="1227240" cy="596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ゴシック"/>
              </a:rPr>
              <a:t>C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94"/>
          <p:cNvSpPr/>
          <p:nvPr/>
        </p:nvSpPr>
        <p:spPr>
          <a:xfrm>
            <a:off x="5783400" y="2492280"/>
            <a:ext cx="1226880" cy="6098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ゴシック"/>
              </a:rPr>
              <a:t>P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0"/>
          <p:cNvSpPr/>
          <p:nvPr/>
        </p:nvSpPr>
        <p:spPr>
          <a:xfrm>
            <a:off x="40384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6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263080" y="2340000"/>
            <a:ext cx="80460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2280" y="298944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20"/>
          <p:cNvSpPr/>
          <p:nvPr/>
        </p:nvSpPr>
        <p:spPr>
          <a:xfrm>
            <a:off x="7628040" y="32860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198.51.10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0"/>
          <p:cNvSpPr/>
          <p:nvPr/>
        </p:nvSpPr>
        <p:spPr>
          <a:xfrm>
            <a:off x="156600" y="385452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192.168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0"/>
          <p:cNvSpPr/>
          <p:nvPr/>
        </p:nvSpPr>
        <p:spPr>
          <a:xfrm>
            <a:off x="70102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4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0"/>
          <p:cNvSpPr/>
          <p:nvPr/>
        </p:nvSpPr>
        <p:spPr>
          <a:xfrm>
            <a:off x="8380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4[P]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86320" y="3246480"/>
            <a:ext cx="2081160" cy="115092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PLA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IPv4 poo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192.0.2.1 - 192.0.2.100]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DST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1234::/96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254400"/>
            <a:ext cx="1981080" cy="115092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CLAT&gt;</a:t>
            </a:r>
            <a:br>
              <a:rPr sz="15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SRC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aaaa::/96]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DST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1234::/96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9"/>
          <p:cNvSpPr/>
          <p:nvPr/>
        </p:nvSpPr>
        <p:spPr>
          <a:xfrm>
            <a:off x="680400" y="4486320"/>
            <a:ext cx="133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SRC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2.168.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DST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30"/>
          <p:cNvSpPr/>
          <p:nvPr/>
        </p:nvSpPr>
        <p:spPr>
          <a:xfrm>
            <a:off x="3345840" y="4495680"/>
            <a:ext cx="2780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6 SRC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mic Sans MS"/>
                <a:ea typeface="ＭＳ ゴシック"/>
              </a:rPr>
              <a:t>2001:db8:aaaa::192.168.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6 DST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mic Sans MS"/>
                <a:ea typeface="ＭＳ ゴシック"/>
              </a:rPr>
              <a:t>2001:db8:1234::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1"/>
          <p:cNvSpPr/>
          <p:nvPr/>
        </p:nvSpPr>
        <p:spPr>
          <a:xfrm>
            <a:off x="7359120" y="4473720"/>
            <a:ext cx="133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SRC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2.0.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DST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直線矢印コネクタ 33"/>
          <p:cNvCxnSpPr/>
          <p:nvPr/>
        </p:nvCxnSpPr>
        <p:spPr>
          <a:xfrm>
            <a:off x="2285640" y="4965480"/>
            <a:ext cx="849960" cy="54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直線矢印コネクタ 34"/>
          <p:cNvCxnSpPr/>
          <p:nvPr/>
        </p:nvCxnSpPr>
        <p:spPr>
          <a:xfrm flipV="1">
            <a:off x="6424200" y="4952520"/>
            <a:ext cx="662760" cy="1656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テキスト ボックス 20"/>
          <p:cNvSpPr/>
          <p:nvPr/>
        </p:nvSpPr>
        <p:spPr>
          <a:xfrm>
            <a:off x="444240" y="3139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52280" y="167652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20"/>
          <p:cNvSpPr/>
          <p:nvPr/>
        </p:nvSpPr>
        <p:spPr>
          <a:xfrm>
            <a:off x="106560" y="137160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2001:db8:aaaa::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20"/>
          <p:cNvSpPr/>
          <p:nvPr/>
        </p:nvSpPr>
        <p:spPr>
          <a:xfrm>
            <a:off x="460080" y="18399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343400" y="1219320"/>
            <a:ext cx="804960" cy="93492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0"/>
          <p:cNvSpPr/>
          <p:nvPr/>
        </p:nvSpPr>
        <p:spPr>
          <a:xfrm>
            <a:off x="8321400" y="23781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0"/>
          <p:cNvSpPr/>
          <p:nvPr/>
        </p:nvSpPr>
        <p:spPr>
          <a:xfrm>
            <a:off x="4412880" y="123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7440" y="3165480"/>
            <a:ext cx="7239240" cy="12600"/>
          </a:xfrm>
          <a:custGeom>
            <a:avLst/>
            <a:gdLst/>
            <a:ahLst/>
            <a:rect l="l" t="t" r="r" b="b"/>
            <a:pathLst>
              <a:path w="4560" h="8">
                <a:moveTo>
                  <a:pt x="0" y="0"/>
                </a:moveTo>
                <a:cubicBezTo>
                  <a:pt x="1884" y="4"/>
                  <a:pt x="3768" y="8"/>
                  <a:pt x="4560" y="0"/>
                </a:cubicBezTo>
              </a:path>
            </a:pathLst>
          </a:custGeom>
          <a:noFill/>
          <a:ln w="63360">
            <a:solidFill>
              <a:srgbClr val="ff0000"/>
            </a:solidFill>
            <a:prstDash val="sysDot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7440" y="1905120"/>
            <a:ext cx="3353040" cy="533160"/>
          </a:xfrm>
          <a:custGeom>
            <a:avLst/>
            <a:gdLst/>
            <a:ahLst/>
            <a:rect l="l" t="t" r="r" b="b"/>
            <a:pathLst>
              <a:path w="2256" h="336">
                <a:moveTo>
                  <a:pt x="0" y="288"/>
                </a:moveTo>
                <a:cubicBezTo>
                  <a:pt x="604" y="312"/>
                  <a:pt x="1208" y="336"/>
                  <a:pt x="1584" y="288"/>
                </a:cubicBezTo>
                <a:cubicBezTo>
                  <a:pt x="1960" y="240"/>
                  <a:pt x="2108" y="120"/>
                  <a:pt x="2256" y="0"/>
                </a:cubicBezTo>
              </a:path>
            </a:pathLst>
          </a:custGeom>
          <a:noFill/>
          <a:ln w="63360">
            <a:solidFill>
              <a:srgbClr val="0000ff"/>
            </a:solidFill>
            <a:prstDash val="sysDot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0"/>
          <p:cNvSpPr/>
          <p:nvPr/>
        </p:nvSpPr>
        <p:spPr>
          <a:xfrm>
            <a:off x="3668040" y="9144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2001:db8:cafe::c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0"/>
          <p:cNvSpPr/>
          <p:nvPr/>
        </p:nvSpPr>
        <p:spPr>
          <a:xfrm>
            <a:off x="2063880" y="20001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 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0"/>
          <p:cNvSpPr/>
          <p:nvPr/>
        </p:nvSpPr>
        <p:spPr>
          <a:xfrm>
            <a:off x="4074480" y="32050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メイリオ"/>
              </a:rPr>
              <a:t>464X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20"/>
          <p:cNvSpPr/>
          <p:nvPr/>
        </p:nvSpPr>
        <p:spPr>
          <a:xfrm>
            <a:off x="2140920" y="5057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Statel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X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20"/>
          <p:cNvSpPr/>
          <p:nvPr/>
        </p:nvSpPr>
        <p:spPr>
          <a:xfrm>
            <a:off x="6242760" y="5057640"/>
            <a:ext cx="98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Statefu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X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7150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his architecture consist of CLAT and PLAT have the applicability to landline network (e.g. FTTH) and mobile network (e.g. 3GP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tures that differentiate 464XLAT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20880"/>
          <a:ext cx="8534160" cy="55562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4XL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 of NAPT44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er side(PL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h vs. Hub &amp; Spo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b &amp; Spo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lation vs. Encaps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 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ful XLATE &amp; Stateless XLA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does the CPE “learns” its IPv4 address &amp; port rang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 port mapping algorithm are 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ress mapping r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format is defined in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hlinkClick r:id="rId1"/>
                        </a:rPr>
                        <a:t>Section 2.2 of [RFC605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use the WKP “64:ff9b::/96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orts IPv6-IPv4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s DNS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05720" y="3508200"/>
            <a:ext cx="2054160" cy="205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des already are running on the field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ndline networ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PIX have started providing 464XLAT trial service since July/2010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T is implemented to existing CPE router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have running code. N900 Mobile (CLAT) and T-Mobile USA (PLAT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pplication Avail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, Mail, Video Streaming..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stant Message, Skype...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We have no major issu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530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 AccessTech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-AT1000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route from CL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-AT1000P Web-GUI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al tool of IPv6 tracerout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680" y="2951280"/>
            <a:ext cx="554832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loud5"/>
          <p:cNvPicPr/>
          <p:nvPr/>
        </p:nvPicPr>
        <p:blipFill>
          <a:blip r:embed="rId2"/>
          <a:stretch/>
        </p:blipFill>
        <p:spPr>
          <a:xfrm>
            <a:off x="5651640" y="4483080"/>
            <a:ext cx="316836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TDM cloud"/>
          <p:cNvPicPr/>
          <p:nvPr/>
        </p:nvPicPr>
        <p:blipFill>
          <a:blip r:embed="rId3"/>
          <a:stretch/>
        </p:blipFill>
        <p:spPr>
          <a:xfrm>
            <a:off x="5651640" y="2106720"/>
            <a:ext cx="3168360" cy="238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0920" y="3475080"/>
            <a:ext cx="1440000" cy="580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IPv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338720"/>
            <a:ext cx="144000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IPv4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475080"/>
            <a:ext cx="432000" cy="576360"/>
          </a:xfrm>
          <a:custGeom>
            <a:avLst/>
            <a:gdLst>
              <a:gd name="textAreaLeft" fmla="*/ 0 w 432000"/>
              <a:gd name="textAreaRight" fmla="*/ 155880 w 432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4122720"/>
            <a:ext cx="432000" cy="576360"/>
          </a:xfrm>
          <a:custGeom>
            <a:avLst/>
            <a:gdLst>
              <a:gd name="textAreaLeft" fmla="*/ 0 w 432000"/>
              <a:gd name="textAreaRight" fmla="*/ 155880 w 432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218"/>
                </a:lnTo>
                <a:cubicBezTo>
                  <a:pt x="10800" y="16118"/>
                  <a:pt x="16200" y="17018"/>
                  <a:pt x="21600" y="17018"/>
                </a:cubicBezTo>
                <a:cubicBezTo>
                  <a:pt x="16200" y="17018"/>
                  <a:pt x="10800" y="17918"/>
                  <a:pt x="10800" y="1881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84880" y="2178000"/>
            <a:ext cx="0" cy="36734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generic router"/>
          <p:cNvPicPr/>
          <p:nvPr/>
        </p:nvPicPr>
        <p:blipFill>
          <a:blip r:embed="rId4"/>
          <a:stretch/>
        </p:blipFill>
        <p:spPr>
          <a:xfrm>
            <a:off x="6929280" y="299880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eneric router"/>
          <p:cNvPicPr/>
          <p:nvPr/>
        </p:nvPicPr>
        <p:blipFill>
          <a:blip r:embed="rId5"/>
          <a:stretch/>
        </p:blipFill>
        <p:spPr>
          <a:xfrm>
            <a:off x="6935760" y="364500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generic router"/>
          <p:cNvPicPr/>
          <p:nvPr/>
        </p:nvPicPr>
        <p:blipFill>
          <a:blip r:embed="rId6"/>
          <a:stretch/>
        </p:blipFill>
        <p:spPr>
          <a:xfrm>
            <a:off x="6948360" y="5126040"/>
            <a:ext cx="509760" cy="5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2" descr="server6"/>
          <p:cNvPicPr/>
          <p:nvPr/>
        </p:nvPicPr>
        <p:blipFill>
          <a:blip r:embed="rId7"/>
          <a:stretch/>
        </p:blipFill>
        <p:spPr>
          <a:xfrm>
            <a:off x="6973920" y="5780160"/>
            <a:ext cx="457200" cy="790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wireless routing"/>
          <p:cNvPicPr/>
          <p:nvPr/>
        </p:nvPicPr>
        <p:blipFill>
          <a:blip r:embed="rId8"/>
          <a:stretch/>
        </p:blipFill>
        <p:spPr>
          <a:xfrm>
            <a:off x="6880320" y="1670040"/>
            <a:ext cx="622080" cy="5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6757920" y="4224240"/>
            <a:ext cx="865080" cy="47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generic router"/>
          <p:cNvPicPr/>
          <p:nvPr/>
        </p:nvPicPr>
        <p:blipFill>
          <a:blip r:embed="rId10"/>
          <a:stretch/>
        </p:blipFill>
        <p:spPr>
          <a:xfrm>
            <a:off x="6929280" y="2382840"/>
            <a:ext cx="509760" cy="509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996160"/>
            <a:ext cx="324000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target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22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3440" y="3776760"/>
            <a:ext cx="2303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3] 2400:3000:1000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8920" y="3143160"/>
            <a:ext cx="2520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2] 2400:3000:1000: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527200"/>
            <a:ext cx="20894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1] 2400:3000:50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068560"/>
            <a:ext cx="2160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80"/>
                </a:solidFill>
                <a:latin typeface="Arial"/>
              </a:rPr>
              <a:t>[src] 2400:3000:1::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91240" y="18907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C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4267080"/>
            <a:ext cx="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P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003640" y="4483080"/>
            <a:ext cx="1224000" cy="2087640"/>
          </a:xfrm>
          <a:custGeom>
            <a:avLst/>
            <a:gdLst>
              <a:gd name="textAreaLeft" fmla="*/ 0 w 1224000"/>
              <a:gd name="textAreaRight" fmla="*/ 442080 w 1224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5275440"/>
            <a:ext cx="36352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5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4554360"/>
            <a:ext cx="352728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4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1a0</a:t>
            </a:r>
            <a:br>
              <a:rPr sz="1400"/>
            </a:b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(IPv4 Pool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03640" y="2035080"/>
            <a:ext cx="1224000" cy="2376720"/>
          </a:xfrm>
          <a:custGeom>
            <a:avLst/>
            <a:gdLst>
              <a:gd name="textAreaLeft" fmla="*/ 0 w 1224000"/>
              <a:gd name="textAreaRight" fmla="*/ 442080 w 1224000"/>
              <a:gd name="textAreaTop" fmla="*/ 75240 h 2376720"/>
              <a:gd name="textAreaBottom" fmla="*/ 230148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7"/>
                  <a:pt x="10800" y="2194"/>
                </a:cubicBezTo>
                <a:lnTo>
                  <a:pt x="10800" y="13366"/>
                </a:lnTo>
                <a:cubicBezTo>
                  <a:pt x="10800" y="14463"/>
                  <a:pt x="16200" y="15560"/>
                  <a:pt x="21600" y="15560"/>
                </a:cubicBezTo>
                <a:cubicBezTo>
                  <a:pt x="16200" y="15560"/>
                  <a:pt x="10800" y="16657"/>
                  <a:pt x="10800" y="17754"/>
                </a:cubicBezTo>
                <a:lnTo>
                  <a:pt x="10800" y="19406"/>
                </a:lnTo>
                <a:cubicBezTo>
                  <a:pt x="10800" y="20503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122800"/>
            <a:ext cx="50403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hree IPv4 addresses (from 4Hop to 6Hop) embedded in the low-order 32 bits of the IPv6 address are shown in the traceroute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XLAT PREFIX 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2400:3000:abab:abab::/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4200" y="4262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440" y="4478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440" y="4694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440" y="3613320"/>
            <a:ext cx="14652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828960"/>
            <a:ext cx="17287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440" y="4044960"/>
            <a:ext cx="1655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838080"/>
            <a:ext cx="8229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Adopt this I-D as a Softwire WG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Get more knowledges by running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xperiences from landline network and mobil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ditional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8229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900ipv6 (Running CLAT code for mob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ff"/>
                </a:solidFill>
                <a:uFillTx/>
                <a:latin typeface="Tahoma"/>
              </a:rPr>
              <a:t>https://code.google.com/p/n900ipv6/wiki/Nat6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JPIX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ff"/>
                </a:solidFill>
                <a:uFillTx/>
                <a:latin typeface="Tahoma"/>
              </a:rPr>
              <a:t>http://www.apricot.net/apricot2011/media/Masataka_Mawatari_IPv6v4_Exchange_Service_for_sharing_IPv4_addres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35:04Z</dcterms:created>
  <dc:creator/>
  <dc:description/>
  <dc:language>en-US</dc:language>
  <cp:lastModifiedBy>mawatari</cp:lastModifiedBy>
  <dcterms:modified xsi:type="dcterms:W3CDTF">2011-11-14T08:50:58Z</dcterms:modified>
  <cp:revision>400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