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7E8-9EAE-4F94-BA86-BB5981C165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pref=2001:c68:f000::/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ivi4=124.127.116.0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r=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t4=202.97.255.1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p4=202.97.25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t6=2001:c68:3000:100::1/6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p6=2001:c68:3000:100::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w6=2001:c68:3000: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nivi=2001:c68: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0000"/>
                </a:solidFill>
                <a:latin typeface="Arial"/>
              </a:rPr>
              <a:t>dns=2001:c68:3000:100: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D81-3A22-42B2-9EBB-36897150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42D-4F60-4B13-BBDA-BFE7BF47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CDF-F03B-4B9C-B3FA-C03D72F1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BA9-C2BC-45A1-BE66-0F7B9398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9CE-B4D2-4EDE-9CBA-271E359D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86D-E401-48E6-A322-3E645C0D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E4F-7C4C-4FFC-A712-51BFD64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F8E-E035-4B06-AB68-B682F5E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445-0282-4B8A-8D55-A2D4A88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89F-DF33-4BBB-8777-BE27EED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45F-D21C-40A2-8133-2144AF8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AF3-8600-435B-8613-B35116D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DD6B-AC13-4620-844F-66D04E079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xli-softwire-divi-pd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130120"/>
            <a:ext cx="8389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dIVI-pd: Dual-Stateless IPv4/IPv6 Translation with Prefix Del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. Li, C. Bao, W. Dec,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. Asati, C. Xie, Q. Su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1-11-12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IVI-PD OpenWRT configuratio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9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echo Start IVI mapping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p -6 route add 2001:da8:b00e:f37f:</a:t>
            </a:r>
            <a:r>
              <a:rPr b="0" lang="it-IT" sz="1800" spc="-1" strike="noStrike">
                <a:solidFill>
                  <a:srgbClr val="ff3300"/>
                </a:solidFill>
                <a:latin typeface="Consolas"/>
              </a:rPr>
              <a:t>ca26:66f3</a:t>
            </a: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it-IT" sz="1800" spc="-1" strike="noStrike">
                <a:solidFill>
                  <a:srgbClr val="0066ff"/>
                </a:solidFill>
                <a:latin typeface="Consolas"/>
              </a:rPr>
              <a:t>7f00</a:t>
            </a: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:0007/128 via fec0::2 dev ivi1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vimap -6 -H -l 64 -L 64 -b fec0::2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olas"/>
              </a:rPr>
              <a:t>ip route add default via 10.0.0.2 dev ivi0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ivimap -4 -m -H -r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o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 127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p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2001:da8:b00e:f37f::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l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64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P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2001:da8:b00e:ffff::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L </a:t>
            </a:r>
            <a:r>
              <a:rPr b="0" lang="pt-BR" sz="1800" spc="-1" strike="noStrike">
                <a:solidFill>
                  <a:srgbClr val="ff3300"/>
                </a:solidFill>
                <a:latin typeface="Consolas"/>
              </a:rPr>
              <a:t>64</a:t>
            </a:r>
            <a:r>
              <a:rPr b="0" lang="pt-BR" sz="1800" spc="-1" strike="noStrike">
                <a:solidFill>
                  <a:srgbClr val="000000"/>
                </a:solidFill>
                <a:latin typeface="Consolas"/>
              </a:rPr>
              <a:t> -b -C 1340 10.0.0.2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ip -6 route add default via 3ffe:3200::1 dev eth0.1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27000" y="1800360"/>
            <a:ext cx="6916680" cy="3838320"/>
            <a:chOff x="927000" y="1800360"/>
            <a:chExt cx="6916680" cy="3838320"/>
          </a:xfrm>
        </p:grpSpPr>
        <p:sp>
          <p:nvSpPr>
            <p:cNvPr id="160" name=""/>
            <p:cNvSpPr/>
            <p:nvPr/>
          </p:nvSpPr>
          <p:spPr>
            <a:xfrm>
              <a:off x="3105000" y="3656160"/>
              <a:ext cx="990720" cy="284040"/>
            </a:xfrm>
            <a:prstGeom prst="wedgeRectCallout">
              <a:avLst>
                <a:gd name="adj1" fmla="val 19550"/>
                <a:gd name="adj2" fmla="val 213129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7680" y="5354640"/>
              <a:ext cx="1751040" cy="284040"/>
            </a:xfrm>
            <a:prstGeom prst="wedgeRectCallout">
              <a:avLst>
                <a:gd name="adj1" fmla="val 26879"/>
                <a:gd name="adj2" fmla="val -240504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onsolas"/>
                </a:rPr>
                <a:t>DMR (BR prefix/l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8920" y="3679920"/>
              <a:ext cx="1904760" cy="284040"/>
            </a:xfrm>
            <a:prstGeom prst="wedgeRectCallout">
              <a:avLst>
                <a:gd name="adj1" fmla="val -38166"/>
                <a:gd name="adj2" fmla="val 195250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onsolas"/>
                </a:rPr>
                <a:t>BMR (CE prefix/l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91240" y="1800360"/>
              <a:ext cx="990360" cy="284040"/>
            </a:xfrm>
            <a:prstGeom prst="wedgeRectCallout">
              <a:avLst>
                <a:gd name="adj1" fmla="val 19550"/>
                <a:gd name="adj2" fmla="val 213129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IPv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8560" y="1814400"/>
              <a:ext cx="990720" cy="284400"/>
            </a:xfrm>
            <a:prstGeom prst="wedgeRectCallout">
              <a:avLst>
                <a:gd name="adj1" fmla="val -36379"/>
                <a:gd name="adj2" fmla="val 194694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5080" y="3681360"/>
              <a:ext cx="990360" cy="284040"/>
            </a:xfrm>
            <a:prstGeom prst="wedgeRectCallout">
              <a:avLst>
                <a:gd name="adj1" fmla="val 98879"/>
                <a:gd name="adj2" fmla="val 227097"/>
              </a:avLst>
            </a:prstGeom>
            <a:solidFill>
              <a:srgbClr val="bcfc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7000" y="4842000"/>
              <a:ext cx="3206880" cy="1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6080" y="4597560"/>
              <a:ext cx="3206880" cy="1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5AE-ACBD-4B67-A1AF-FA7C7004B0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al stateless translation is not harm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Pv4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ped (no h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d to traffic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and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/RFC6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P/ICM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layer (TCP, UDP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according to RFC6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99B-1279-41A3-8313-A40DDE672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8920" y="1471680"/>
            <a:ext cx="8354880" cy="4995720"/>
            <a:chOff x="358920" y="1471680"/>
            <a:chExt cx="8354880" cy="49957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58920" y="1925640"/>
              <a:ext cx="367344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01760" y="3436920"/>
              <a:ext cx="342576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473720" y="1905120"/>
              <a:ext cx="424008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417600" y="5232240"/>
              <a:ext cx="31590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1880" y="148428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5960" y="3056040"/>
              <a:ext cx="17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000" y="48322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F=1 &amp; MF=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4280" y="147168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MP/ICMPv6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BEF-3709-45D0-86BD-0F6DB938F2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can use existing tools for O&amp;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ull rou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AC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BR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97160" y="2833560"/>
            <a:ext cx="5559480" cy="173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83" name=""/>
          <p:cNvSpPr/>
          <p:nvPr/>
        </p:nvSpPr>
        <p:spPr>
          <a:xfrm flipV="1">
            <a:off x="1944720" y="3606480"/>
            <a:ext cx="1184400" cy="63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18240" y="24750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limi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DD5-0631-4608-821B-C37F71F72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398600"/>
            <a:ext cx="6306840" cy="4225680"/>
            <a:chOff x="1403280" y="1398600"/>
            <a:chExt cx="6306840" cy="42256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5111640" y="2155680"/>
              <a:ext cx="2598480" cy="19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3553560" y="1398600"/>
              <a:ext cx="1337400" cy="36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403280" y="2952000"/>
              <a:ext cx="1904040" cy="43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803960" y="5212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e trans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7600" y="5236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45000" y="5256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4600" y="5862600"/>
            <a:ext cx="65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t is tested at Tsinghua University and in China Telecom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086-290D-4406-8083-15F89AF07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is an extension of IPv6/IPv6 stateless transl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provides unique features for OPEX valu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VI-PD is compatible with MAP desig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2C-31C1-4F75-864A-D6AF36D0E7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IVI-PD is an extension of stateless IPv4/IPv6 translation with address shar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RFC6052: IPv6 Addressing of IPv4/IPv6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RFC6145: IP/ICMP Translation Algorithm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IVI-PD is compatible with MAP desig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Mapping of Address and Port (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DHCPv6 Options for Mapping of Address and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7F1-262B-48F1-AF84-6D79FF1CA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/IPv6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3520" y="1538280"/>
            <a:ext cx="8435880" cy="4924440"/>
            <a:chOff x="263520" y="1538280"/>
            <a:chExt cx="8435880" cy="4924440"/>
          </a:xfrm>
        </p:grpSpPr>
        <p:sp>
          <p:nvSpPr>
            <p:cNvPr id="54" name=""/>
            <p:cNvSpPr/>
            <p:nvPr/>
          </p:nvSpPr>
          <p:spPr>
            <a:xfrm>
              <a:off x="6184800" y="4253040"/>
              <a:ext cx="2514600" cy="220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IPv4 over IPv6  behav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63520" y="1538280"/>
              <a:ext cx="8084880" cy="4403880"/>
              <a:chOff x="263520" y="1538280"/>
              <a:chExt cx="8084880" cy="4403880"/>
            </a:xfrm>
          </p:grpSpPr>
          <p:grpSp>
            <p:nvGrpSpPr>
              <p:cNvPr id="56" name="圆角矩形 5"/>
              <p:cNvGrpSpPr/>
              <p:nvPr/>
            </p:nvGrpSpPr>
            <p:grpSpPr>
              <a:xfrm>
                <a:off x="263520" y="3017880"/>
                <a:ext cx="2212920" cy="970200"/>
                <a:chOff x="263520" y="3017880"/>
                <a:chExt cx="2212920" cy="970200"/>
              </a:xfrm>
            </p:grpSpPr>
            <p:pic>
              <p:nvPicPr>
                <p:cNvPr id="57" name="圆角矩形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3520" y="3017880"/>
                  <a:ext cx="221292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>
                  <a:off x="368280" y="3095640"/>
                  <a:ext cx="20034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IPv4/IPv6 transl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圆角矩形 6"/>
              <p:cNvGrpSpPr/>
              <p:nvPr/>
            </p:nvGrpSpPr>
            <p:grpSpPr>
              <a:xfrm>
                <a:off x="2573280" y="1616040"/>
                <a:ext cx="1888920" cy="976320"/>
                <a:chOff x="2573280" y="1616040"/>
                <a:chExt cx="1888920" cy="976320"/>
              </a:xfrm>
            </p:grpSpPr>
            <p:pic>
              <p:nvPicPr>
                <p:cNvPr id="60" name="圆角矩形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73280" y="1616040"/>
                  <a:ext cx="1888920" cy="97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2676240" y="1695600"/>
                  <a:ext cx="16923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Statefu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7"/>
              <p:cNvGrpSpPr/>
              <p:nvPr/>
            </p:nvGrpSpPr>
            <p:grpSpPr>
              <a:xfrm>
                <a:off x="2549520" y="4384800"/>
                <a:ext cx="1912680" cy="1120680"/>
                <a:chOff x="2549520" y="4384800"/>
                <a:chExt cx="1912680" cy="1120680"/>
              </a:xfrm>
            </p:grpSpPr>
            <p:pic>
              <p:nvPicPr>
                <p:cNvPr id="63" name="圆角矩形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49520" y="4384800"/>
                  <a:ext cx="1912680" cy="112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2658960" y="4467240"/>
                  <a:ext cx="1701720" cy="91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Statel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直接连接符 9"/>
              <p:cNvSpPr/>
              <p:nvPr/>
            </p:nvSpPr>
            <p:spPr>
              <a:xfrm flipV="1">
                <a:off x="2414520" y="2085840"/>
                <a:ext cx="220680" cy="13986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11"/>
              <p:cNvSpPr/>
              <p:nvPr/>
            </p:nvSpPr>
            <p:spPr>
              <a:xfrm>
                <a:off x="2414520" y="3484800"/>
                <a:ext cx="195120" cy="14396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15"/>
              <p:cNvSpPr/>
              <p:nvPr/>
            </p:nvSpPr>
            <p:spPr>
              <a:xfrm>
                <a:off x="4410000" y="1898640"/>
                <a:ext cx="2259000" cy="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圆角矩形 24"/>
              <p:cNvGrpSpPr/>
              <p:nvPr/>
            </p:nvGrpSpPr>
            <p:grpSpPr>
              <a:xfrm>
                <a:off x="6642000" y="2546640"/>
                <a:ext cx="1706400" cy="657000"/>
                <a:chOff x="6642000" y="2546640"/>
                <a:chExt cx="1706400" cy="657000"/>
              </a:xfrm>
            </p:grpSpPr>
            <p:pic>
              <p:nvPicPr>
                <p:cNvPr id="69" name="圆角矩形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42000" y="2546640"/>
                  <a:ext cx="1706400" cy="65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>
                  <a:off x="6738840" y="260676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1 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26"/>
              <p:cNvGrpSpPr/>
              <p:nvPr/>
            </p:nvGrpSpPr>
            <p:grpSpPr>
              <a:xfrm>
                <a:off x="6642000" y="1538280"/>
                <a:ext cx="1693800" cy="657000"/>
                <a:chOff x="6642000" y="1538280"/>
                <a:chExt cx="1693800" cy="657000"/>
              </a:xfrm>
            </p:grpSpPr>
            <p:pic>
              <p:nvPicPr>
                <p:cNvPr id="72" name="圆角矩形 2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642000" y="1538280"/>
                  <a:ext cx="1693800" cy="65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>
                  <a:off x="6726240" y="160308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NAT6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直接连接符 29"/>
              <p:cNvSpPr/>
              <p:nvPr/>
            </p:nvSpPr>
            <p:spPr>
              <a:xfrm>
                <a:off x="4410000" y="5210280"/>
                <a:ext cx="1081080" cy="36036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48"/>
              <p:cNvSpPr/>
              <p:nvPr/>
            </p:nvSpPr>
            <p:spPr>
              <a:xfrm>
                <a:off x="5491080" y="5570640"/>
                <a:ext cx="1197000" cy="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62"/>
              <p:cNvSpPr/>
              <p:nvPr/>
            </p:nvSpPr>
            <p:spPr>
              <a:xfrm flipV="1">
                <a:off x="5562360" y="2906640"/>
                <a:ext cx="1170000" cy="61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82"/>
              <p:cNvSpPr/>
              <p:nvPr/>
            </p:nvSpPr>
            <p:spPr>
              <a:xfrm flipV="1">
                <a:off x="4410000" y="2907000"/>
                <a:ext cx="1152360" cy="18000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圆角矩形 14"/>
              <p:cNvGrpSpPr/>
              <p:nvPr/>
            </p:nvGrpSpPr>
            <p:grpSpPr>
              <a:xfrm>
                <a:off x="6642000" y="3409920"/>
                <a:ext cx="1700280" cy="658800"/>
                <a:chOff x="6642000" y="3409920"/>
                <a:chExt cx="1700280" cy="658800"/>
              </a:xfrm>
            </p:grpSpPr>
            <p:pic>
              <p:nvPicPr>
                <p:cNvPr id="79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42000" y="340992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732720" y="3475080"/>
                  <a:ext cx="1530360" cy="4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圆角矩形 25"/>
              <p:cNvGrpSpPr/>
              <p:nvPr/>
            </p:nvGrpSpPr>
            <p:grpSpPr>
              <a:xfrm>
                <a:off x="6642000" y="5283360"/>
                <a:ext cx="1700280" cy="658800"/>
                <a:chOff x="6642000" y="5283360"/>
                <a:chExt cx="1700280" cy="658800"/>
              </a:xfrm>
            </p:grpSpPr>
            <p:pic>
              <p:nvPicPr>
                <p:cNvPr id="82" name="圆角矩形 2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42000" y="528336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6732720" y="5343840"/>
                  <a:ext cx="15303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dIVI-P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直接连接符 82"/>
              <p:cNvSpPr/>
              <p:nvPr/>
            </p:nvSpPr>
            <p:spPr>
              <a:xfrm flipV="1">
                <a:off x="4410000" y="3699000"/>
                <a:ext cx="1152360" cy="12240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62"/>
              <p:cNvSpPr/>
              <p:nvPr/>
            </p:nvSpPr>
            <p:spPr>
              <a:xfrm flipV="1">
                <a:off x="5562360" y="3699000"/>
                <a:ext cx="1170000" cy="64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62"/>
              <p:cNvSpPr/>
              <p:nvPr/>
            </p:nvSpPr>
            <p:spPr>
              <a:xfrm flipV="1">
                <a:off x="5562360" y="4707000"/>
                <a:ext cx="1170000" cy="64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82"/>
              <p:cNvSpPr/>
              <p:nvPr/>
            </p:nvSpPr>
            <p:spPr>
              <a:xfrm flipV="1">
                <a:off x="4410000" y="4706640"/>
                <a:ext cx="1152360" cy="36036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圆角矩形 25"/>
              <p:cNvGrpSpPr/>
              <p:nvPr/>
            </p:nvGrpSpPr>
            <p:grpSpPr>
              <a:xfrm>
                <a:off x="6642000" y="4346640"/>
                <a:ext cx="1700280" cy="658800"/>
                <a:chOff x="6642000" y="4346640"/>
                <a:chExt cx="1700280" cy="658800"/>
              </a:xfrm>
            </p:grpSpPr>
            <p:pic>
              <p:nvPicPr>
                <p:cNvPr id="89" name="圆角矩形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42000" y="4346640"/>
                  <a:ext cx="170028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6732720" y="4407120"/>
                  <a:ext cx="1530360" cy="49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1:N dIV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175520" y="4024440"/>
              <a:ext cx="152280" cy="304920"/>
            </a:xfrm>
            <a:prstGeom prst="downArrow">
              <a:avLst>
                <a:gd name="adj1" fmla="val 50000"/>
                <a:gd name="adj2" fmla="val 5005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75520" y="3110040"/>
              <a:ext cx="152280" cy="304920"/>
            </a:xfrm>
            <a:prstGeom prst="downArrow">
              <a:avLst>
                <a:gd name="adj1" fmla="val 50000"/>
                <a:gd name="adj2" fmla="val 5005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75520" y="5015160"/>
              <a:ext cx="152280" cy="304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A71-3266-4B85-9560-F28877323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1790640"/>
            <a:ext cx="7458120" cy="4245840"/>
            <a:chOff x="1066680" y="1790640"/>
            <a:chExt cx="7458120" cy="4245840"/>
          </a:xfrm>
        </p:grpSpPr>
        <p:sp>
          <p:nvSpPr>
            <p:cNvPr id="96" name=""/>
            <p:cNvSpPr/>
            <p:nvPr/>
          </p:nvSpPr>
          <p:spPr>
            <a:xfrm>
              <a:off x="1859040" y="2952720"/>
              <a:ext cx="61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0120" y="2824200"/>
              <a:ext cx="720720" cy="2732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3 C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aptop"/>
            <p:cNvSpPr/>
            <p:nvPr/>
          </p:nvSpPr>
          <p:spPr>
            <a:xfrm>
              <a:off x="7548480" y="2664000"/>
              <a:ext cx="976320" cy="75240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66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4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5760" y="2592360"/>
              <a:ext cx="86508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5760" y="3672000"/>
              <a:ext cx="863280" cy="7207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1:N state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Xla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1040" y="2232000"/>
              <a:ext cx="287280" cy="3095640"/>
            </a:xfrm>
            <a:custGeom>
              <a:avLst/>
              <a:gdLst>
                <a:gd name="textAreaLeft" fmla="*/ 14040 w 287280"/>
                <a:gd name="textAreaRight" fmla="*/ 273240 w 287280"/>
                <a:gd name="textAreaTop" fmla="*/ 14040 h 3095640"/>
                <a:gd name="textAreaBottom" fmla="*/ 3081600 h 3095640"/>
              </a:gdLst>
              <a:ahLst/>
              <a:rect l="textAreaLeft" t="textAreaTop" r="textAreaRight" b="textAreaBottom"/>
              <a:pathLst>
                <a:path w="21600" h="232491">
                  <a:moveTo>
                    <a:pt x="3600" y="0"/>
                  </a:moveTo>
                  <a:arcTo wR="3600" hR="3600" stAng="16200000" swAng="-5400000"/>
                  <a:lnTo>
                    <a:pt x="0" y="228891"/>
                  </a:lnTo>
                  <a:arcTo wR="3600" hR="3600" stAng="10800000" swAng="-5400000"/>
                  <a:lnTo>
                    <a:pt x="18000" y="23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olas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56120" y="33130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43040" y="4032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78320" y="403236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8320" y="417672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8320" y="432144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78320" y="446400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Cloud"/>
            <p:cNvSpPr/>
            <p:nvPr/>
          </p:nvSpPr>
          <p:spPr>
            <a:xfrm>
              <a:off x="1066680" y="2592360"/>
              <a:ext cx="1158840" cy="776520"/>
            </a:xfrm>
            <a:prstGeom prst="pi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loud"/>
            <p:cNvSpPr/>
            <p:nvPr/>
          </p:nvSpPr>
          <p:spPr>
            <a:xfrm>
              <a:off x="1066680" y="3672000"/>
              <a:ext cx="1158840" cy="7761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95760" y="3600720"/>
              <a:ext cx="24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90720" y="1851120"/>
              <a:ext cx="9144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223200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1040" y="2363760"/>
              <a:ext cx="13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6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(DHCPv6-P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920" y="1790640"/>
              <a:ext cx="13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4: DH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nsolas"/>
                </a:rPr>
                <a:t>IPv6: SLA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7840" y="297972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nsolas"/>
                </a:rPr>
                <a:t>Single PD /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6520" y="4876920"/>
              <a:ext cx="29239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ISP prefix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Domain-prefix 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CPE prefix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IPv4 sharing-ratio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Domain subscriber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nsola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9840" y="2470320"/>
              <a:ext cx="750600" cy="326880"/>
            </a:xfrm>
            <a:prstGeom prst="rightArrow">
              <a:avLst>
                <a:gd name="adj1" fmla="val 50000"/>
                <a:gd name="adj2" fmla="val 5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4360" y="2290680"/>
              <a:ext cx="750960" cy="327240"/>
            </a:xfrm>
            <a:prstGeom prst="rightArrow">
              <a:avLst>
                <a:gd name="adj1" fmla="val 50000"/>
                <a:gd name="adj2" fmla="val 573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53240" y="620856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datatracker.ietf.org/doc/draft-xli-softwire-divi-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2E0-7683-45B3-B0B0-735FEA9FD0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riginal design of dIVI-P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 forma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2200" y="1986120"/>
            <a:ext cx="5624640" cy="181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040" y="4549680"/>
            <a:ext cx="5270760" cy="19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45120" y="4172040"/>
            <a:ext cx="2610000" cy="231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47560" y="4162320"/>
            <a:ext cx="3505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rt mapp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4360" y="3711600"/>
            <a:ext cx="275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ffix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A8C-EC7A-40C6-BF0F-68DDFD1D1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040" y="141912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asic Mapping Rule (BM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080" y="2048040"/>
            <a:ext cx="8582040" cy="4409640"/>
            <a:chOff x="154080" y="2048040"/>
            <a:chExt cx="8582040" cy="44096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084320" y="2048040"/>
              <a:ext cx="6973920" cy="12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154080" y="3444840"/>
              <a:ext cx="5114880" cy="19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4811760" y="4981680"/>
              <a:ext cx="3924360" cy="14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1660320" y="2909880"/>
              <a:ext cx="1778040" cy="1211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45000" y="2909880"/>
              <a:ext cx="490680" cy="118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957920" y="2909880"/>
              <a:ext cx="541440" cy="2447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04080" y="2909880"/>
              <a:ext cx="773280" cy="2447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98760" y="2486160"/>
              <a:ext cx="1160640" cy="435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3120" y="2486160"/>
              <a:ext cx="2255760" cy="43596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4D2-5006-41C5-B93C-D3BDA0120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and MAP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8040" y="1419120"/>
            <a:ext cx="7364880" cy="4357800"/>
            <a:chOff x="428040" y="1419120"/>
            <a:chExt cx="7364880" cy="4357800"/>
          </a:xfrm>
        </p:grpSpPr>
        <p:sp>
          <p:nvSpPr>
            <p:cNvPr id="141" name=""/>
            <p:cNvSpPr/>
            <p:nvPr/>
          </p:nvSpPr>
          <p:spPr>
            <a:xfrm>
              <a:off x="428040" y="14191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Basic Mapping Rule (BM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720" y="371304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Default Mapping Rule (DM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190520" y="1968480"/>
              <a:ext cx="65325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066680" y="4119480"/>
              <a:ext cx="6726240" cy="16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46A-9C5C-4400-AB98-B576FAB45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25480" y="5035680"/>
            <a:ext cx="6029280" cy="72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VI-PD and MAP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9840" y="1303200"/>
            <a:ext cx="8256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eneralized modulus algorithm (GMA)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7120" y="2957400"/>
            <a:ext cx="5281560" cy="1822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14280" y="209196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P = R * M * j + M * K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K = (floor(P/M)) %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4806720"/>
            <a:ext cx="39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=0-65535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k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M&lt;=65536/R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m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78640" y="5217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a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30840" y="5229360"/>
            <a:ext cx="83664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91240" y="5459040"/>
            <a:ext cx="87624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98320" y="601020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olas"/>
              </a:rPr>
              <a:t>dIVI-PD: R=0-4096, M=1, a=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CBD-E18E-4DF6-9A79-10089D3E0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HC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defaul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IPv6 prefix/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BR prefix/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IPv4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PSID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haring ratio (R=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default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number of continue ports (M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SID length (c=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D91-63BF-4E33-AC82-DB4E8D378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19:58Z</dcterms:created>
  <dc:creator>xing</dc:creator>
  <dc:description/>
  <dc:language>en-US</dc:language>
  <cp:lastModifiedBy>xing</cp:lastModifiedBy>
  <dcterms:modified xsi:type="dcterms:W3CDTF">2011-11-13T09:24:53Z</dcterms:modified>
  <cp:revision>140</cp:revision>
  <dc:subject/>
  <dc:title>幻灯片 1</dc:title>
</cp:coreProperties>
</file>