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853D-CF27-4BD1-8AE8-9A76916739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0000"/>
                </a:solidFill>
                <a:latin typeface="Arial"/>
              </a:rPr>
              <a:t>pref=2001:c68:f000::/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0000"/>
                </a:solidFill>
                <a:latin typeface="Arial"/>
              </a:rPr>
              <a:t>ivi4=124.127.116.0/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0000"/>
                </a:solidFill>
                <a:latin typeface="Arial"/>
              </a:rPr>
              <a:t>r=1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int4=202.97.255.1/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op4=202.97.25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int6=2001:c68:3000:100::1/6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op6=2001:c68:3000:100::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gw6=2001:c68:3000: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0000"/>
                </a:solidFill>
                <a:latin typeface="Arial"/>
              </a:rPr>
              <a:t>nivi=2001:c68: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0000"/>
                </a:solidFill>
                <a:latin typeface="Arial"/>
              </a:rPr>
              <a:t>dns=2001:c68:3000:100::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0484-56D1-4C69-A34E-83397C5B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2312-FACB-4F4C-9770-CE4C11F0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2F94-A339-48A2-858C-46916876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D053-EC1C-4DBD-B826-C89AF34B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9A03-5C45-4C66-AAB3-BE3693A0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D39-CC49-4AB3-9B68-28E99293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E050-7C17-416B-9104-46E3C53F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F49-2888-4C4B-B4F3-AD1F12DF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1C0-FA24-4477-B23E-5FD7DABE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401-57DA-467D-97BA-280E25D3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6B01-4CFF-4730-964C-C3B27324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D6D6-3147-4E14-B782-AAC0F818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DE26-B117-48BA-86F5-E9692D891F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datatracker.ietf.org/doc/draft-xli-softwire-divi-pd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2130120"/>
            <a:ext cx="8389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dIVI-pd: Dual-Stateless IPv4/IPv6 Translation with Prefix Dele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00500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. Li, C. Bao, W. Dec,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. Asati, C. Xie, Q. Sun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11-11-12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dIVI-PD OpenWRT configuration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9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nsolas"/>
              </a:rPr>
              <a:t>echo Start IVI mapping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nsolas"/>
              </a:rPr>
              <a:t>ip -6 route add 2001:da8:b00e:f37f:</a:t>
            </a:r>
            <a:r>
              <a:rPr b="0" lang="it-IT" sz="1800" spc="-1" strike="noStrike">
                <a:solidFill>
                  <a:srgbClr val="ff3300"/>
                </a:solidFill>
                <a:latin typeface="Consolas"/>
              </a:rPr>
              <a:t>ca26:66f3</a:t>
            </a:r>
            <a:r>
              <a:rPr b="0" lang="it-IT" sz="1800" spc="-1" strike="noStrike">
                <a:solidFill>
                  <a:srgbClr val="000000"/>
                </a:solidFill>
                <a:latin typeface="Consolas"/>
              </a:rPr>
              <a:t>:</a:t>
            </a:r>
            <a:r>
              <a:rPr b="0" lang="it-IT" sz="1800" spc="-1" strike="noStrike">
                <a:solidFill>
                  <a:srgbClr val="0066ff"/>
                </a:solidFill>
                <a:latin typeface="Consolas"/>
              </a:rPr>
              <a:t>7f00</a:t>
            </a:r>
            <a:r>
              <a:rPr b="0" lang="it-IT" sz="1800" spc="-1" strike="noStrike">
                <a:solidFill>
                  <a:srgbClr val="000000"/>
                </a:solidFill>
                <a:latin typeface="Consolas"/>
              </a:rPr>
              <a:t>:0007/128 via fec0::2 dev ivi1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nsolas"/>
              </a:rPr>
              <a:t>ivimap -6 -H -l 64 -L 64 -b fec0::2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nsolas"/>
              </a:rPr>
              <a:t>ip route add default via 10.0.0.2 dev ivi0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nsolas"/>
              </a:rPr>
              <a:t>ivimap -4 -m -H -r </a:t>
            </a:r>
            <a:r>
              <a:rPr b="0" lang="pt-BR" sz="1800" spc="-1" strike="noStrike">
                <a:solidFill>
                  <a:srgbClr val="ff3300"/>
                </a:solidFill>
                <a:latin typeface="Consolas"/>
              </a:rPr>
              <a:t>7</a:t>
            </a:r>
            <a:r>
              <a:rPr b="0" lang="pt-BR" sz="1800" spc="-1" strike="noStrike">
                <a:solidFill>
                  <a:srgbClr val="000000"/>
                </a:solidFill>
                <a:latin typeface="Consolas"/>
              </a:rPr>
              <a:t> -o</a:t>
            </a:r>
            <a:r>
              <a:rPr b="0" lang="pt-BR" sz="1800" spc="-1" strike="noStrike">
                <a:solidFill>
                  <a:srgbClr val="ff3300"/>
                </a:solidFill>
                <a:latin typeface="Consolas"/>
              </a:rPr>
              <a:t> 127</a:t>
            </a:r>
            <a:r>
              <a:rPr b="0" lang="pt-BR" sz="1800" spc="-1" strike="noStrike">
                <a:solidFill>
                  <a:srgbClr val="000000"/>
                </a:solidFill>
                <a:latin typeface="Consolas"/>
              </a:rPr>
              <a:t> -p </a:t>
            </a:r>
            <a:r>
              <a:rPr b="0" lang="pt-BR" sz="1800" spc="-1" strike="noStrike">
                <a:solidFill>
                  <a:srgbClr val="ff3300"/>
                </a:solidFill>
                <a:latin typeface="Consolas"/>
              </a:rPr>
              <a:t>2001:da8:b00e:f37f::</a:t>
            </a:r>
            <a:r>
              <a:rPr b="0" lang="pt-BR" sz="1800" spc="-1" strike="noStrike">
                <a:solidFill>
                  <a:srgbClr val="000000"/>
                </a:solidFill>
                <a:latin typeface="Consolas"/>
              </a:rPr>
              <a:t> -l </a:t>
            </a:r>
            <a:r>
              <a:rPr b="0" lang="pt-BR" sz="1800" spc="-1" strike="noStrike">
                <a:solidFill>
                  <a:srgbClr val="ff3300"/>
                </a:solidFill>
                <a:latin typeface="Consolas"/>
              </a:rPr>
              <a:t>64</a:t>
            </a:r>
            <a:r>
              <a:rPr b="0" lang="pt-BR" sz="1800" spc="-1" strike="noStrike">
                <a:solidFill>
                  <a:srgbClr val="000000"/>
                </a:solidFill>
                <a:latin typeface="Consolas"/>
              </a:rPr>
              <a:t> -P </a:t>
            </a:r>
            <a:r>
              <a:rPr b="0" lang="pt-BR" sz="1800" spc="-1" strike="noStrike">
                <a:solidFill>
                  <a:srgbClr val="ff3300"/>
                </a:solidFill>
                <a:latin typeface="Consolas"/>
              </a:rPr>
              <a:t>2001:da8:b00e:ffff::</a:t>
            </a:r>
            <a:r>
              <a:rPr b="0" lang="pt-BR" sz="1800" spc="-1" strike="noStrike">
                <a:solidFill>
                  <a:srgbClr val="000000"/>
                </a:solidFill>
                <a:latin typeface="Consolas"/>
              </a:rPr>
              <a:t> -L </a:t>
            </a:r>
            <a:r>
              <a:rPr b="0" lang="pt-BR" sz="1800" spc="-1" strike="noStrike">
                <a:solidFill>
                  <a:srgbClr val="ff3300"/>
                </a:solidFill>
                <a:latin typeface="Consolas"/>
              </a:rPr>
              <a:t>64</a:t>
            </a:r>
            <a:r>
              <a:rPr b="0" lang="pt-BR" sz="1800" spc="-1" strike="noStrike">
                <a:solidFill>
                  <a:srgbClr val="000000"/>
                </a:solidFill>
                <a:latin typeface="Consolas"/>
              </a:rPr>
              <a:t> -b -C 1340 10.0.0.2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nsolas"/>
              </a:rPr>
              <a:t>ip -6 route add default via 3ffe:3200::1 dev eth0.1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927000" y="1800360"/>
            <a:ext cx="6916680" cy="3838320"/>
            <a:chOff x="927000" y="1800360"/>
            <a:chExt cx="6916680" cy="3838320"/>
          </a:xfrm>
        </p:grpSpPr>
        <p:sp>
          <p:nvSpPr>
            <p:cNvPr id="160" name=""/>
            <p:cNvSpPr/>
            <p:nvPr/>
          </p:nvSpPr>
          <p:spPr>
            <a:xfrm>
              <a:off x="3105000" y="3656160"/>
              <a:ext cx="990720" cy="284040"/>
            </a:xfrm>
            <a:prstGeom prst="wedgeRectCallout">
              <a:avLst>
                <a:gd name="adj1" fmla="val 19550"/>
                <a:gd name="adj2" fmla="val 213129"/>
              </a:avLst>
            </a:prstGeom>
            <a:solidFill>
              <a:srgbClr val="bcfca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nsolas"/>
                </a:rPr>
                <a:t>P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7680" y="5354640"/>
              <a:ext cx="1751040" cy="284040"/>
            </a:xfrm>
            <a:prstGeom prst="wedgeRectCallout">
              <a:avLst>
                <a:gd name="adj1" fmla="val 26879"/>
                <a:gd name="adj2" fmla="val -240504"/>
              </a:avLst>
            </a:prstGeom>
            <a:solidFill>
              <a:srgbClr val="bcfca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onsolas"/>
                </a:rPr>
                <a:t>DMR (BR prefix/le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8920" y="3679920"/>
              <a:ext cx="1904760" cy="284040"/>
            </a:xfrm>
            <a:prstGeom prst="wedgeRectCallout">
              <a:avLst>
                <a:gd name="adj1" fmla="val -38166"/>
                <a:gd name="adj2" fmla="val 195250"/>
              </a:avLst>
            </a:prstGeom>
            <a:solidFill>
              <a:srgbClr val="bcfca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onsolas"/>
                </a:rPr>
                <a:t>BMR (CE prefix/le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91240" y="1800360"/>
              <a:ext cx="990360" cy="284040"/>
            </a:xfrm>
            <a:prstGeom prst="wedgeRectCallout">
              <a:avLst>
                <a:gd name="adj1" fmla="val 19550"/>
                <a:gd name="adj2" fmla="val 213129"/>
              </a:avLst>
            </a:prstGeom>
            <a:solidFill>
              <a:srgbClr val="bcfca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nsolas"/>
                </a:rPr>
                <a:t>IPv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08560" y="1814400"/>
              <a:ext cx="990720" cy="284400"/>
            </a:xfrm>
            <a:prstGeom prst="wedgeRectCallout">
              <a:avLst>
                <a:gd name="adj1" fmla="val -36379"/>
                <a:gd name="adj2" fmla="val 194694"/>
              </a:avLst>
            </a:prstGeom>
            <a:solidFill>
              <a:srgbClr val="bcfca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nsolas"/>
                </a:rPr>
                <a:t>P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05080" y="3681360"/>
              <a:ext cx="990360" cy="284040"/>
            </a:xfrm>
            <a:prstGeom prst="wedgeRectCallout">
              <a:avLst>
                <a:gd name="adj1" fmla="val 98879"/>
                <a:gd name="adj2" fmla="val 227097"/>
              </a:avLst>
            </a:prstGeom>
            <a:solidFill>
              <a:srgbClr val="bcfca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nsolas"/>
                </a:rPr>
                <a:t>Rat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27000" y="4842000"/>
              <a:ext cx="3206880" cy="12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56080" y="4597560"/>
              <a:ext cx="3206880" cy="12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6CA-435B-4213-9473-DCBD767B75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al stateless translation is not harm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Pv4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ped (no ha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ed to traffic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TU and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d according to RFC6145/RFC61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MP/ICM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d according to RFC61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layer (TCP, UDP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d according to RFC61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043-5D9F-41FA-8DDE-F82CB88336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a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58920" y="1471680"/>
            <a:ext cx="8354880" cy="4995720"/>
            <a:chOff x="358920" y="1471680"/>
            <a:chExt cx="8354880" cy="499572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358920" y="1925640"/>
              <a:ext cx="3673440" cy="104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401760" y="3436920"/>
              <a:ext cx="3425760" cy="135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3"/>
            <a:stretch/>
          </p:blipFill>
          <p:spPr>
            <a:xfrm>
              <a:off x="4473720" y="1905120"/>
              <a:ext cx="4240080" cy="26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4"/>
            <a:stretch/>
          </p:blipFill>
          <p:spPr>
            <a:xfrm>
              <a:off x="417600" y="5232240"/>
              <a:ext cx="3159000" cy="12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71880" y="148428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tion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5960" y="3056040"/>
              <a:ext cx="171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6000" y="483228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F=1 &amp; MF=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54280" y="147168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CMP/ICMPv6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171B-A93C-4CF6-9654-596840AEC5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can use existing tools for O&amp;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0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ull route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C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AC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BR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197160" y="2833560"/>
            <a:ext cx="5559480" cy="17352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183" name=""/>
          <p:cNvSpPr/>
          <p:nvPr/>
        </p:nvSpPr>
        <p:spPr>
          <a:xfrm flipV="1">
            <a:off x="1944720" y="3606480"/>
            <a:ext cx="1184400" cy="63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18240" y="247500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 limit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513D-DC09-4137-99E7-6757854C4A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al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403280" y="1398600"/>
            <a:ext cx="6306840" cy="4225680"/>
            <a:chOff x="1403280" y="1398600"/>
            <a:chExt cx="6306840" cy="422568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5111640" y="2155680"/>
              <a:ext cx="2598480" cy="198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3553560" y="1398600"/>
              <a:ext cx="1337400" cy="368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1403280" y="2952000"/>
              <a:ext cx="1904040" cy="43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1803960" y="521244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re transl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27600" y="523620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45000" y="52560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524600" y="5862600"/>
            <a:ext cx="65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t is tested at Tsinghua University and in China Telecom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DE16-6E5F-4D83-B0C6-A4156107B7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IVI-PD is an extension of IPv6/IPv6 stateless translation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IVI-PD provides unique features for OPEX value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IVI-PD is compatible with MAP design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01C-EECD-4CB0-AF2C-7D1F9DC3BE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dIVI-PD is an extension of stateless IPv4/IPv6 translation with address sharing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RFC6052: IPv6 Addressing of IPv4/IPv6 Transl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RFC6145: IP/ICMP Translation Algorithm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dIVI-PD is compatible with MAP design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Mapping of Address and Port (M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DHCPv6 Options for Mapping of Address and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8A61-EFA5-47B0-97C7-C565ED8100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v4/IPv6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63520" y="1538280"/>
            <a:ext cx="8435880" cy="4924440"/>
            <a:chOff x="263520" y="1538280"/>
            <a:chExt cx="8435880" cy="4924440"/>
          </a:xfrm>
        </p:grpSpPr>
        <p:sp>
          <p:nvSpPr>
            <p:cNvPr id="54" name=""/>
            <p:cNvSpPr/>
            <p:nvPr/>
          </p:nvSpPr>
          <p:spPr>
            <a:xfrm>
              <a:off x="6184800" y="4253040"/>
              <a:ext cx="2514600" cy="2209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IPv4 over IPv6  behav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63520" y="1538280"/>
              <a:ext cx="8084880" cy="4403880"/>
              <a:chOff x="263520" y="1538280"/>
              <a:chExt cx="8084880" cy="4403880"/>
            </a:xfrm>
          </p:grpSpPr>
          <p:grpSp>
            <p:nvGrpSpPr>
              <p:cNvPr id="56" name="圆角矩形 5"/>
              <p:cNvGrpSpPr/>
              <p:nvPr/>
            </p:nvGrpSpPr>
            <p:grpSpPr>
              <a:xfrm>
                <a:off x="263520" y="3017880"/>
                <a:ext cx="2212920" cy="970200"/>
                <a:chOff x="263520" y="3017880"/>
                <a:chExt cx="2212920" cy="970200"/>
              </a:xfrm>
            </p:grpSpPr>
            <p:pic>
              <p:nvPicPr>
                <p:cNvPr id="57" name="圆角矩形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63520" y="3017880"/>
                  <a:ext cx="221292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>
                  <a:off x="368280" y="3095640"/>
                  <a:ext cx="2003400" cy="7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IPv4/IPv6 transl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圆角矩形 6"/>
              <p:cNvGrpSpPr/>
              <p:nvPr/>
            </p:nvGrpSpPr>
            <p:grpSpPr>
              <a:xfrm>
                <a:off x="2573280" y="1616040"/>
                <a:ext cx="1888920" cy="976320"/>
                <a:chOff x="2573280" y="1616040"/>
                <a:chExt cx="1888920" cy="976320"/>
              </a:xfrm>
            </p:grpSpPr>
            <p:pic>
              <p:nvPicPr>
                <p:cNvPr id="60" name="圆角矩形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73280" y="1616040"/>
                  <a:ext cx="1888920" cy="976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" name=""/>
                <p:cNvSpPr/>
                <p:nvPr/>
              </p:nvSpPr>
              <p:spPr>
                <a:xfrm>
                  <a:off x="2676240" y="1695600"/>
                  <a:ext cx="1692360" cy="7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Statefu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圆角矩形 7"/>
              <p:cNvGrpSpPr/>
              <p:nvPr/>
            </p:nvGrpSpPr>
            <p:grpSpPr>
              <a:xfrm>
                <a:off x="2549520" y="4384800"/>
                <a:ext cx="1912680" cy="1120680"/>
                <a:chOff x="2549520" y="4384800"/>
                <a:chExt cx="1912680" cy="1120680"/>
              </a:xfrm>
            </p:grpSpPr>
            <p:pic>
              <p:nvPicPr>
                <p:cNvPr id="63" name="圆角矩形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549520" y="4384800"/>
                  <a:ext cx="1912680" cy="112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" name=""/>
                <p:cNvSpPr/>
                <p:nvPr/>
              </p:nvSpPr>
              <p:spPr>
                <a:xfrm>
                  <a:off x="2658960" y="4467240"/>
                  <a:ext cx="1701720" cy="91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Stateles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直接连接符 9"/>
              <p:cNvSpPr/>
              <p:nvPr/>
            </p:nvSpPr>
            <p:spPr>
              <a:xfrm flipV="1">
                <a:off x="2414520" y="2085840"/>
                <a:ext cx="220680" cy="139860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直接连接符 11"/>
              <p:cNvSpPr/>
              <p:nvPr/>
            </p:nvSpPr>
            <p:spPr>
              <a:xfrm>
                <a:off x="2414520" y="3484800"/>
                <a:ext cx="195120" cy="14396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直接连接符 15"/>
              <p:cNvSpPr/>
              <p:nvPr/>
            </p:nvSpPr>
            <p:spPr>
              <a:xfrm>
                <a:off x="4410000" y="1898640"/>
                <a:ext cx="2259000" cy="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圆角矩形 24"/>
              <p:cNvGrpSpPr/>
              <p:nvPr/>
            </p:nvGrpSpPr>
            <p:grpSpPr>
              <a:xfrm>
                <a:off x="6642000" y="2546640"/>
                <a:ext cx="1706400" cy="657000"/>
                <a:chOff x="6642000" y="2546640"/>
                <a:chExt cx="1706400" cy="657000"/>
              </a:xfrm>
            </p:grpSpPr>
            <p:pic>
              <p:nvPicPr>
                <p:cNvPr id="69" name="圆角矩形 2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642000" y="2546640"/>
                  <a:ext cx="1706400" cy="65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"/>
                <p:cNvSpPr/>
                <p:nvPr/>
              </p:nvSpPr>
              <p:spPr>
                <a:xfrm>
                  <a:off x="6738840" y="2606760"/>
                  <a:ext cx="1530360" cy="4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1:1 IV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圆角矩形 26"/>
              <p:cNvGrpSpPr/>
              <p:nvPr/>
            </p:nvGrpSpPr>
            <p:grpSpPr>
              <a:xfrm>
                <a:off x="6642000" y="1538280"/>
                <a:ext cx="1693800" cy="657000"/>
                <a:chOff x="6642000" y="1538280"/>
                <a:chExt cx="1693800" cy="657000"/>
              </a:xfrm>
            </p:grpSpPr>
            <p:pic>
              <p:nvPicPr>
                <p:cNvPr id="72" name="圆角矩形 2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642000" y="1538280"/>
                  <a:ext cx="1693800" cy="65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>
                  <a:off x="6726240" y="1603080"/>
                  <a:ext cx="1530360" cy="4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NAT6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直接连接符 29"/>
              <p:cNvSpPr/>
              <p:nvPr/>
            </p:nvSpPr>
            <p:spPr>
              <a:xfrm>
                <a:off x="4410000" y="5210280"/>
                <a:ext cx="1081080" cy="36036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直接连接符 48"/>
              <p:cNvSpPr/>
              <p:nvPr/>
            </p:nvSpPr>
            <p:spPr>
              <a:xfrm>
                <a:off x="5491080" y="5570640"/>
                <a:ext cx="1197000" cy="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直接连接符 62"/>
              <p:cNvSpPr/>
              <p:nvPr/>
            </p:nvSpPr>
            <p:spPr>
              <a:xfrm flipV="1">
                <a:off x="5562360" y="2906640"/>
                <a:ext cx="1170000" cy="612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直接连接符 82"/>
              <p:cNvSpPr/>
              <p:nvPr/>
            </p:nvSpPr>
            <p:spPr>
              <a:xfrm flipV="1">
                <a:off x="4410000" y="2907000"/>
                <a:ext cx="1152360" cy="180000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" name="圆角矩形 14"/>
              <p:cNvGrpSpPr/>
              <p:nvPr/>
            </p:nvGrpSpPr>
            <p:grpSpPr>
              <a:xfrm>
                <a:off x="6642000" y="3409920"/>
                <a:ext cx="1700280" cy="658800"/>
                <a:chOff x="6642000" y="3409920"/>
                <a:chExt cx="1700280" cy="658800"/>
              </a:xfrm>
            </p:grpSpPr>
            <p:pic>
              <p:nvPicPr>
                <p:cNvPr id="79" name="圆角矩形 1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42000" y="3409920"/>
                  <a:ext cx="1700280" cy="65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6732720" y="3475080"/>
                  <a:ext cx="1530360" cy="4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1:N IV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圆角矩形 25"/>
              <p:cNvGrpSpPr/>
              <p:nvPr/>
            </p:nvGrpSpPr>
            <p:grpSpPr>
              <a:xfrm>
                <a:off x="6642000" y="5283360"/>
                <a:ext cx="1700280" cy="658800"/>
                <a:chOff x="6642000" y="5283360"/>
                <a:chExt cx="1700280" cy="658800"/>
              </a:xfrm>
            </p:grpSpPr>
            <p:pic>
              <p:nvPicPr>
                <p:cNvPr id="82" name="圆角矩形 2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642000" y="5283360"/>
                  <a:ext cx="1700280" cy="65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6732720" y="5343840"/>
                  <a:ext cx="153036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1:N dIVI-P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直接连接符 82"/>
              <p:cNvSpPr/>
              <p:nvPr/>
            </p:nvSpPr>
            <p:spPr>
              <a:xfrm flipV="1">
                <a:off x="4410000" y="3699000"/>
                <a:ext cx="1152360" cy="122400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直接连接符 62"/>
              <p:cNvSpPr/>
              <p:nvPr/>
            </p:nvSpPr>
            <p:spPr>
              <a:xfrm flipV="1">
                <a:off x="5562360" y="3699000"/>
                <a:ext cx="1170000" cy="648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直接连接符 62"/>
              <p:cNvSpPr/>
              <p:nvPr/>
            </p:nvSpPr>
            <p:spPr>
              <a:xfrm flipV="1">
                <a:off x="5562360" y="4707000"/>
                <a:ext cx="1170000" cy="648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直接连接符 82"/>
              <p:cNvSpPr/>
              <p:nvPr/>
            </p:nvSpPr>
            <p:spPr>
              <a:xfrm flipV="1">
                <a:off x="4410000" y="4706640"/>
                <a:ext cx="1152360" cy="36036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" name="圆角矩形 25"/>
              <p:cNvGrpSpPr/>
              <p:nvPr/>
            </p:nvGrpSpPr>
            <p:grpSpPr>
              <a:xfrm>
                <a:off x="6642000" y="4346640"/>
                <a:ext cx="1700280" cy="658800"/>
                <a:chOff x="6642000" y="4346640"/>
                <a:chExt cx="1700280" cy="658800"/>
              </a:xfrm>
            </p:grpSpPr>
            <p:pic>
              <p:nvPicPr>
                <p:cNvPr id="89" name="圆角矩形 2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642000" y="4346640"/>
                  <a:ext cx="1700280" cy="65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" name=""/>
                <p:cNvSpPr/>
                <p:nvPr/>
              </p:nvSpPr>
              <p:spPr>
                <a:xfrm>
                  <a:off x="6732720" y="4407120"/>
                  <a:ext cx="153036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1:N dIV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175520" y="4024440"/>
              <a:ext cx="152280" cy="304920"/>
            </a:xfrm>
            <a:prstGeom prst="downArrow">
              <a:avLst>
                <a:gd name="adj1" fmla="val 50000"/>
                <a:gd name="adj2" fmla="val 50059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75520" y="3110040"/>
              <a:ext cx="152280" cy="304920"/>
            </a:xfrm>
            <a:prstGeom prst="downArrow">
              <a:avLst>
                <a:gd name="adj1" fmla="val 50000"/>
                <a:gd name="adj2" fmla="val 50059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75520" y="5015160"/>
              <a:ext cx="152280" cy="304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BFD0-7BD3-493E-9F1B-53A2E2EC31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dIVI-PD sce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66680" y="1790640"/>
            <a:ext cx="7458120" cy="4245840"/>
            <a:chOff x="1066680" y="1790640"/>
            <a:chExt cx="7458120" cy="4245840"/>
          </a:xfrm>
        </p:grpSpPr>
        <p:sp>
          <p:nvSpPr>
            <p:cNvPr id="96" name=""/>
            <p:cNvSpPr/>
            <p:nvPr/>
          </p:nvSpPr>
          <p:spPr>
            <a:xfrm>
              <a:off x="1859040" y="2952720"/>
              <a:ext cx="612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80120" y="2824200"/>
              <a:ext cx="720720" cy="2732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3 C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aptop"/>
            <p:cNvSpPr/>
            <p:nvPr/>
          </p:nvSpPr>
          <p:spPr>
            <a:xfrm>
              <a:off x="7548480" y="2664000"/>
              <a:ext cx="976320" cy="75240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66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v4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95760" y="2592360"/>
              <a:ext cx="865080" cy="719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95760" y="3672000"/>
              <a:ext cx="863280" cy="7207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1:N statel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Xla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91040" y="2232000"/>
              <a:ext cx="287280" cy="3095640"/>
            </a:xfrm>
            <a:custGeom>
              <a:avLst/>
              <a:gdLst>
                <a:gd name="textAreaLeft" fmla="*/ 14040 w 287280"/>
                <a:gd name="textAreaRight" fmla="*/ 273240 w 287280"/>
                <a:gd name="textAreaTop" fmla="*/ 14040 h 3095640"/>
                <a:gd name="textAreaBottom" fmla="*/ 3081600 h 3095640"/>
              </a:gdLst>
              <a:ahLst/>
              <a:rect l="textAreaLeft" t="textAreaTop" r="textAreaRight" b="textAreaBottom"/>
              <a:pathLst>
                <a:path w="21600" h="232491">
                  <a:moveTo>
                    <a:pt x="3600" y="0"/>
                  </a:moveTo>
                  <a:arcTo wR="3600" hR="3600" stAng="16200000" swAng="-5400000"/>
                  <a:lnTo>
                    <a:pt x="0" y="228891"/>
                  </a:lnTo>
                  <a:arcTo wR="3600" hR="3600" stAng="10800000" swAng="-5400000"/>
                  <a:lnTo>
                    <a:pt x="18000" y="23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nsola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nsolas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nsolas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nsola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nsolas"/>
                </a:rPr>
                <a:t>M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56120" y="331308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643040" y="403236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78320" y="4032360"/>
              <a:ext cx="16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78320" y="4176720"/>
              <a:ext cx="16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78320" y="4321440"/>
              <a:ext cx="16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78320" y="4464000"/>
              <a:ext cx="16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Cloud"/>
            <p:cNvSpPr/>
            <p:nvPr/>
          </p:nvSpPr>
          <p:spPr>
            <a:xfrm>
              <a:off x="1066680" y="2592360"/>
              <a:ext cx="1158840" cy="776520"/>
            </a:xfrm>
            <a:prstGeom prst="pie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Cloud"/>
            <p:cNvSpPr/>
            <p:nvPr/>
          </p:nvSpPr>
          <p:spPr>
            <a:xfrm>
              <a:off x="1066680" y="3672000"/>
              <a:ext cx="1158840" cy="776160"/>
            </a:xfrm>
            <a:prstGeom prst="pi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95760" y="3600720"/>
              <a:ext cx="24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90720" y="1851120"/>
              <a:ext cx="91440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di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24080" y="2232000"/>
              <a:ext cx="228600" cy="381240"/>
            </a:xfrm>
            <a:prstGeom prst="upDownArrow">
              <a:avLst>
                <a:gd name="adj1" fmla="val 50000"/>
                <a:gd name="adj2" fmla="val 332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41040" y="2363760"/>
              <a:ext cx="135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nsolas"/>
                </a:rPr>
                <a:t>IPv6C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nsolas"/>
                </a:rPr>
                <a:t>(DHCPv6-P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50920" y="1790640"/>
              <a:ext cx="135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nsolas"/>
                </a:rPr>
                <a:t>IPv4: DHC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nsolas"/>
                </a:rPr>
                <a:t>IPv6: SLAA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97840" y="297972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nsolas"/>
                </a:rPr>
                <a:t>Single PD /6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16520" y="4876920"/>
              <a:ext cx="29239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ISP prefix</a:t>
              </a: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Domain-prefix </a:t>
              </a: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CPE prefix</a:t>
              </a: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IPv4 sharing-ratio</a:t>
              </a: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Domain subscriber</a:t>
              </a: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49840" y="2470320"/>
              <a:ext cx="750600" cy="326880"/>
            </a:xfrm>
            <a:prstGeom prst="rightArrow">
              <a:avLst>
                <a:gd name="adj1" fmla="val 50000"/>
                <a:gd name="adj2" fmla="val 5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94360" y="2290680"/>
              <a:ext cx="750960" cy="327240"/>
            </a:xfrm>
            <a:prstGeom prst="rightArrow">
              <a:avLst>
                <a:gd name="adj1" fmla="val 50000"/>
                <a:gd name="adj2" fmla="val 5737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353240" y="6208560"/>
            <a:ext cx="56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datatracker.ietf.org/doc/draft-xli-softwire-divi-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5403-87A8-415E-AB5F-643B8640BF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Original design of dIVI-P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ddress format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2200" y="1986120"/>
            <a:ext cx="5624640" cy="1814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65040" y="4549680"/>
            <a:ext cx="5270760" cy="1909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045120" y="4172040"/>
            <a:ext cx="2610000" cy="2314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547560" y="4162320"/>
            <a:ext cx="35053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ort mapping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4360" y="3711600"/>
            <a:ext cx="2755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ffix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9A40-82DE-46D1-8BF2-FC9E9CEC88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040" y="141912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Basic Mapping Rule (BM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4080" y="2048040"/>
            <a:ext cx="8582040" cy="4409640"/>
            <a:chOff x="154080" y="2048040"/>
            <a:chExt cx="8582040" cy="440964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1084320" y="2048040"/>
              <a:ext cx="6973920" cy="12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154080" y="3444840"/>
              <a:ext cx="5114880" cy="19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4811760" y="4981680"/>
              <a:ext cx="3924360" cy="14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flipH="1">
              <a:off x="1660320" y="2909880"/>
              <a:ext cx="1778040" cy="12110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45000" y="2909880"/>
              <a:ext cx="490680" cy="1185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957920" y="2909880"/>
              <a:ext cx="541440" cy="244764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04080" y="2909880"/>
              <a:ext cx="773280" cy="244764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98760" y="2486160"/>
              <a:ext cx="1160640" cy="4359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23120" y="2486160"/>
              <a:ext cx="2255760" cy="435960"/>
            </a:xfrm>
            <a:prstGeom prst="rect">
              <a:avLst/>
            </a:prstGeom>
            <a:noFill/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C24-E160-467E-ADBC-811E7AB19A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dIVI-PD and MAP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28040" y="1419120"/>
            <a:ext cx="7364880" cy="4357800"/>
            <a:chOff x="428040" y="1419120"/>
            <a:chExt cx="7364880" cy="4357800"/>
          </a:xfrm>
        </p:grpSpPr>
        <p:sp>
          <p:nvSpPr>
            <p:cNvPr id="141" name=""/>
            <p:cNvSpPr/>
            <p:nvPr/>
          </p:nvSpPr>
          <p:spPr>
            <a:xfrm>
              <a:off x="428040" y="1419120"/>
              <a:ext cx="32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Basic Mapping Rule (BM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1720" y="3713040"/>
              <a:ext cx="34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buClr>
                  <a:srgbClr val="0066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Arial"/>
                </a:rPr>
                <a:t>Default Mapping Rule (DM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1190520" y="1968480"/>
              <a:ext cx="6532560" cy="16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1066680" y="4119480"/>
              <a:ext cx="6726240" cy="165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67E5-95C3-42E3-BA69-C73566CA22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25480" y="5035680"/>
            <a:ext cx="6029280" cy="7207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dIVI-PD and MAP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9840" y="1303200"/>
            <a:ext cx="8256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Generalized modulus algorithm (GMA)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97120" y="2957400"/>
            <a:ext cx="5281560" cy="18226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114280" y="2091960"/>
            <a:ext cx="40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nsolas"/>
              </a:rPr>
              <a:t>P = R * M * j + M * K +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nsolas"/>
              </a:rPr>
              <a:t>K = (floor(P/M)) % 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4806720"/>
            <a:ext cx="39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R=0-65535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k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M&lt;=65536/R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m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78640" y="5217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a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30840" y="5229360"/>
            <a:ext cx="836640" cy="1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691240" y="5459040"/>
            <a:ext cx="87624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98320" y="6010200"/>
            <a:ext cx="45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nsolas"/>
              </a:rPr>
              <a:t>dIVI-PD: R=0-4096, M=1, a=4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018E-3996-440F-8C72-848EC8B977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HC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defaul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IPv6 prefix/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BR prefix/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IPv4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PSID 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sharing ratio (R=1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default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ximum number of continue ports (M=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SID length (c=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7616-FE81-40BA-91B8-796ED53AF4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0:19:58Z</dcterms:created>
  <dc:creator>xing</dc:creator>
  <dc:description/>
  <dc:language>en-US</dc:language>
  <cp:lastModifiedBy>xing</cp:lastModifiedBy>
  <dcterms:modified xsi:type="dcterms:W3CDTF">2011-11-13T09:24:53Z</dcterms:modified>
  <cp:revision>140</cp:revision>
  <dc:subject/>
  <dc:title>幻灯片 1</dc:title>
</cp:coreProperties>
</file>