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5"/>
          </p:nvPr>
        </p:nvSpPr>
        <p:spPr>
          <a:xfrm>
            <a:off x="3919680" y="-36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05040" y="4395600"/>
            <a:ext cx="5124240" cy="4167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6"/>
          </p:nvPr>
        </p:nvSpPr>
        <p:spPr>
          <a:xfrm>
            <a:off x="0" y="879120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7"/>
          </p:nvPr>
        </p:nvSpPr>
        <p:spPr>
          <a:xfrm>
            <a:off x="3919680" y="879120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A72DB45-F08B-4691-8656-40A592EB4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19680" y="8791560"/>
            <a:ext cx="3014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CF35518-9FE6-450A-A72D-6A351DB4CFD7}" type="slidenum"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5040" y="4395600"/>
            <a:ext cx="512424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19680" y="8791560"/>
            <a:ext cx="3014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F8711AB-625E-4BF0-8A4E-26CCC05CA296}" type="slidenum"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5040" y="4395600"/>
            <a:ext cx="512424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07BA4-F928-4D82-9F40-C73F7BAC7D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9921-B1EB-4F07-B12C-A487944A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37F29-4DD5-4FB1-8C5E-13F630C4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236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8788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236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8788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98B99-E4A1-48FF-8AC5-7742389385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A09F8-71C7-4248-82F4-D784A79736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BC243-C0D8-40AB-98B6-CED3C106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E62A7-6284-42D5-92CC-3C2B81F3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CB8E8-07EA-4C73-B1B2-AB37B334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89AC6-76CA-4F38-BBEE-941C5FEE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19120" y="228240"/>
            <a:ext cx="689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86243-7864-4E08-A263-11BA5F6C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EC7EF-E9D7-4095-BB6F-9FB79CDC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928F9-B8EF-4F70-A3B7-04D5C545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1DB16-E322-40AE-8507-BCBD2AEA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1928A-6737-4D18-B1CF-06D2A8D5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95010-6ED3-419C-8E4A-CFF60046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1C2EF-6D71-4EE1-A295-5FFA5AF3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2236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8788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2236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8788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D16D5-1C9B-4196-937F-BF718D86BD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1A0E4-BD2C-4BD3-912A-1BBBA792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AC3D6-B4E0-4BD9-89AC-CB79C9FB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D4F35-E323-4333-89EC-51CA2B3C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19120" y="228240"/>
            <a:ext cx="689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5977E-C8D8-42DD-AA35-65D69DD6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0C968-D21A-4DF6-90F5-A5D4DD3C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67E54-1751-4734-B096-7EEF01DA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5454D-FABA-4686-A4E4-CCFDA06C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6" descr="top-swoop-bw"/>
          <p:cNvPicPr/>
          <p:nvPr/>
        </p:nvPicPr>
        <p:blipFill>
          <a:blip r:embed="rId2"/>
          <a:stretch/>
        </p:blipFill>
        <p:spPr>
          <a:xfrm>
            <a:off x="-647640" y="333360"/>
            <a:ext cx="11495160" cy="798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5" descr="bot-swoop-bw"/>
          <p:cNvPicPr/>
          <p:nvPr/>
        </p:nvPicPr>
        <p:blipFill>
          <a:blip r:embed="rId3"/>
          <a:stretch/>
        </p:blipFill>
        <p:spPr>
          <a:xfrm>
            <a:off x="-1587600" y="5775480"/>
            <a:ext cx="10631520" cy="73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8708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7A72-0AB2-4267-A3A3-14CD067141DE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E9055ACE-1A02-4B80-AEA6-EF46E327E4B7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1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78636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2D57-D95B-44F5-AB29-B797B3844619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2173320" y="6356520"/>
            <a:ext cx="47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 flipH="1">
            <a:off x="554040" y="1539720"/>
            <a:ext cx="775800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 flipH="1">
            <a:off x="-22320" y="6462720"/>
            <a:ext cx="916632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Line 14"/>
          <p:cNvSpPr/>
          <p:nvPr/>
        </p:nvSpPr>
        <p:spPr>
          <a:xfrm flipH="1">
            <a:off x="554040" y="1539720"/>
            <a:ext cx="775800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Line 15"/>
          <p:cNvSpPr/>
          <p:nvPr/>
        </p:nvSpPr>
        <p:spPr>
          <a:xfrm flipH="1">
            <a:off x="-22320" y="6462720"/>
            <a:ext cx="916632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Rectangle 54"/>
          <p:cNvSpPr/>
          <p:nvPr/>
        </p:nvSpPr>
        <p:spPr>
          <a:xfrm>
            <a:off x="0" y="0"/>
            <a:ext cx="9144000" cy="320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6" descr="top-swoop-bw"/>
          <p:cNvPicPr/>
          <p:nvPr/>
        </p:nvPicPr>
        <p:blipFill>
          <a:blip r:embed="rId2"/>
          <a:stretch/>
        </p:blipFill>
        <p:spPr>
          <a:xfrm>
            <a:off x="-647640" y="754200"/>
            <a:ext cx="11495160" cy="798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2173320" y="6356520"/>
            <a:ext cx="47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0" name="Picture 3" descr="bot-swoop"/>
          <p:cNvPicPr/>
          <p:nvPr/>
        </p:nvPicPr>
        <p:blipFill>
          <a:blip r:embed="rId3"/>
          <a:stretch/>
        </p:blipFill>
        <p:spPr>
          <a:xfrm>
            <a:off x="-1611360" y="5711760"/>
            <a:ext cx="10887120" cy="844560"/>
          </a:xfrm>
          <a:prstGeom prst="rect">
            <a:avLst/>
          </a:prstGeom>
          <a:ln w="0">
            <a:noFill/>
          </a:ln>
        </p:spPr>
      </p:pic>
      <p:sp>
        <p:nvSpPr>
          <p:cNvPr id="51" name="Line 13"/>
          <p:cNvSpPr/>
          <p:nvPr/>
        </p:nvSpPr>
        <p:spPr>
          <a:xfrm flipH="1">
            <a:off x="0" y="6462720"/>
            <a:ext cx="916632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Line 14"/>
          <p:cNvSpPr/>
          <p:nvPr/>
        </p:nvSpPr>
        <p:spPr>
          <a:xfrm flipH="1">
            <a:off x="554040" y="2324160"/>
            <a:ext cx="775800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Line 18"/>
          <p:cNvSpPr/>
          <p:nvPr/>
        </p:nvSpPr>
        <p:spPr>
          <a:xfrm flipH="1">
            <a:off x="0" y="6462720"/>
            <a:ext cx="916632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4" name="Picture 55" descr="jt-viterbi"/>
          <p:cNvPicPr/>
          <p:nvPr/>
        </p:nvPicPr>
        <p:blipFill>
          <a:blip r:embed="rId4"/>
          <a:stretch/>
        </p:blipFill>
        <p:spPr>
          <a:xfrm>
            <a:off x="7307280" y="5365800"/>
            <a:ext cx="1519200" cy="906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8" descr="isi_logo"/>
          <p:cNvPicPr/>
          <p:nvPr/>
        </p:nvPicPr>
        <p:blipFill>
          <a:blip r:embed="rId5"/>
          <a:stretch/>
        </p:blipFill>
        <p:spPr>
          <a:xfrm>
            <a:off x="241200" y="1246320"/>
            <a:ext cx="968400" cy="6141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68"/>
          <p:cNvGrpSpPr/>
          <p:nvPr/>
        </p:nvGrpSpPr>
        <p:grpSpPr>
          <a:xfrm>
            <a:off x="0" y="0"/>
            <a:ext cx="9144000" cy="625320"/>
            <a:chOff x="0" y="0"/>
            <a:chExt cx="9144000" cy="625320"/>
          </a:xfrm>
        </p:grpSpPr>
        <p:sp>
          <p:nvSpPr>
            <p:cNvPr id="57" name="Rectangle 56"/>
            <p:cNvSpPr/>
            <p:nvPr/>
          </p:nvSpPr>
          <p:spPr>
            <a:xfrm>
              <a:off x="0" y="0"/>
              <a:ext cx="9144000" cy="6253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58" name="Picture 57" descr="mono_gold_trans"/>
            <p:cNvPicPr/>
            <p:nvPr/>
          </p:nvPicPr>
          <p:blipFill>
            <a:blip r:embed="rId6"/>
            <a:stretch/>
          </p:blipFill>
          <p:spPr>
            <a:xfrm>
              <a:off x="8242200" y="96840"/>
              <a:ext cx="67644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67" descr="usc text bar_600dpi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3008160" cy="3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3"/>
          </p:nvPr>
        </p:nvSpPr>
        <p:spPr>
          <a:xfrm>
            <a:off x="466200" y="6356160"/>
            <a:ext cx="1930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F1DD-D8E5-4584-9BC4-1FF53BA6011A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F2FF2DA0-E112-465A-A379-3CDF2CDD6E02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1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6859440" y="628452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8101-624D-4537-B3F4-5C0F7799A927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466560" y="6356520"/>
            <a:ext cx="193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53E3-60A2-4B0B-BD1B-237063DE9F91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C7767FED-8006-4B91-9528-E5FEA2B193B9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10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859440" y="628488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5BBD-ADE0-4633-A489-03B302029EB7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9760" y="1193760"/>
            <a:ext cx="754056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Shared Use of TCP Experimental Option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79440" y="3117600"/>
            <a:ext cx="7182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draft-touch-tcpm-experimental-options-00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IETF 82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Joe Touch, USC/ISI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Possible extension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Nonce + checksum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etects/avoids legacy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Larger space, higher computation cost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Use in other exp. codepoints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Notably TCP/UDP port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DF19-3FE3-4FC7-A78D-1C0E72925DE5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A48C8C1E-C0A1-4DB2-85A1-0FBDB7E7BC98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10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EFCD-3996-4CF6-A53C-A01CC2ECD10C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urrent experimental options overloaded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Multiple concurrent uses cannot be distinguished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Add nonce to EO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Nonce used to differentiate concurrent use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Informational (or BCP?)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2276-A510-4C7C-AD1D-F4C0B9D49689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458DAEC5-3F70-498B-A283-29192D7B80D0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10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6401-7AA4-4540-A62E-75DD29AF61FF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TCP Exp. Option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Kind = 253 or 254 [RFC4727]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D79A-AB99-40DE-95FA-1863496F91D0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E625C320-CB3E-4CFE-8750-382DFA44BBC3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10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F72F-1590-452A-9E08-C591E7E58E03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828800" y="3370320"/>
            <a:ext cx="5484960" cy="666720"/>
          </a:xfrm>
          <a:prstGeom prst="rect">
            <a:avLst/>
          </a:prstGeom>
          <a:solidFill>
            <a:srgbClr val="bbbb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828800" y="3370320"/>
            <a:ext cx="1371600" cy="666720"/>
          </a:xfrm>
          <a:prstGeom prst="rect">
            <a:avLst/>
          </a:prstGeom>
          <a:solidFill>
            <a:srgbClr val="bfbfb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Kind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198960" y="3370320"/>
            <a:ext cx="1371600" cy="666720"/>
          </a:xfrm>
          <a:prstGeom prst="rect">
            <a:avLst/>
          </a:prstGeom>
          <a:solidFill>
            <a:srgbClr val="bfbfb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en=var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4570560" y="3370320"/>
            <a:ext cx="274140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ption field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1828800" y="4029120"/>
            <a:ext cx="548316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ption fields (con’t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828800" y="5018040"/>
            <a:ext cx="548496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1827360" y="5684760"/>
            <a:ext cx="274140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Straight Connector 16"/>
          <p:cNvSpPr/>
          <p:nvPr/>
        </p:nvSpPr>
        <p:spPr>
          <a:xfrm>
            <a:off x="1826640" y="4732200"/>
            <a:ext cx="4680" cy="100836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Straight Connector 18"/>
          <p:cNvSpPr/>
          <p:nvPr/>
        </p:nvSpPr>
        <p:spPr>
          <a:xfrm>
            <a:off x="7313760" y="4732200"/>
            <a:ext cx="0" cy="95256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TCP Experiment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812600"/>
            <a:ext cx="8513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Precursor to TCP AO (253, 254)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CP Cookie Transactions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As deployed (31, 32)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As spec’d (253)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cpcrypt (76, 77, 78)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Other commercial products (33, 76, 77, 78)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030B-5CB7-4805-8D02-2B76BA0F34F9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749D1191-3776-47EA-A1BF-8BC19297F079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10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6931-284A-4588-A6AB-0C0C0D1E758B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19120" y="42660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Approaches to increased experiment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Relax IANA assignment hurdles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The pool is very small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The pool already has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Increase number of EOs from 2 to 18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Per draft-eddy-tcpm-addl-exp-opt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oesn’t address existing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Requires IANA oversight of new 16 value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93FD-2641-4F31-8905-54CD15EBFE02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E8D8E3BD-A050-4181-8107-FC9C3932D166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10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425E-C57D-4E1B-A4ED-8D726CC615FD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19120" y="42660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Problems with existing approache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Usage collision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Useful to avoid future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Useful to mitigate existing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IANA oversigh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Useful to avoid need for oversight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mall codepoint space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16 now; another 16, then another…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A1EA-64D2-441F-9F95-313E0A36707B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E30A9609-0369-42FA-B06E-99B8952E1796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10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E82B-47DD-449C-8C4A-1E8064760F5A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19120" y="45036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Proposed Shared Use of TCP Exp. Option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Kind = 253 or 254 [RFC4727]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Nonce = arbitrary per-experiment value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Typ. 32-bits, e.g., Unix </a:t>
            </a:r>
            <a:r>
              <a:rPr b="0" i="1" lang="en-US" sz="2400" spc="-1" strike="noStrike">
                <a:solidFill>
                  <a:srgbClr val="99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1247-8AD5-448B-BCE7-0AAD8DD32E92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31EA55FA-3BE6-41AE-85B1-EA044A630218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10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6458-AAD6-42D0-BEB9-C3C787B95502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828800" y="3370320"/>
            <a:ext cx="5484960" cy="666720"/>
          </a:xfrm>
          <a:prstGeom prst="rect">
            <a:avLst/>
          </a:prstGeom>
          <a:solidFill>
            <a:srgbClr val="bbbb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828800" y="3370320"/>
            <a:ext cx="1371600" cy="666720"/>
          </a:xfrm>
          <a:prstGeom prst="rect">
            <a:avLst/>
          </a:prstGeom>
          <a:solidFill>
            <a:srgbClr val="bfbfb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Kind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198960" y="3370320"/>
            <a:ext cx="1371600" cy="666720"/>
          </a:xfrm>
          <a:prstGeom prst="rect">
            <a:avLst/>
          </a:prstGeom>
          <a:solidFill>
            <a:srgbClr val="bfbfb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en=var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570560" y="3370320"/>
            <a:ext cx="2741400" cy="666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Nonce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1828800" y="4029120"/>
            <a:ext cx="548316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ption field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828800" y="5018040"/>
            <a:ext cx="548496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ption fields (con’t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827360" y="5684760"/>
            <a:ext cx="274140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Straight Connector 16"/>
          <p:cNvSpPr/>
          <p:nvPr/>
        </p:nvSpPr>
        <p:spPr>
          <a:xfrm>
            <a:off x="1826640" y="4732200"/>
            <a:ext cx="4680" cy="100836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Straight Connector 18"/>
          <p:cNvSpPr/>
          <p:nvPr/>
        </p:nvSpPr>
        <p:spPr>
          <a:xfrm>
            <a:off x="7313760" y="4732200"/>
            <a:ext cx="0" cy="95256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827360" y="4029120"/>
            <a:ext cx="2739960" cy="666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Nonce (con’t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19120" y="40140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Properties of this proposed solution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Helps avoid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Unlikely nonce will overlay with misbehaving experiment option values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Self-managed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Self-assigned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an use any method, e.g., Unix </a:t>
            </a:r>
            <a:r>
              <a:rPr b="0" i="1" lang="en-US" sz="2400" spc="-1" strike="noStrike">
                <a:solidFill>
                  <a:srgbClr val="99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Large codepoint space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onsumes space, but experiments should leave room for future option use anyway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EDA6-DDC9-4F24-AF6D-68680CA4CE1E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25C18C64-1C6F-40A9-8AC7-27E68A04AE6C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10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1137-F793-440F-B4BD-87087E9EAC99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19120" y="20268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Issue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68876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Processing KIND=253/254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heck nonce FIRST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Process each nonce as a separate option kind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Ignore if nonce not known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Len = total option (including nonce)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Nonce length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SHOULD be 32 bits 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Alignment unaffected if Nonce is removed if permanent</a:t>
            </a:r>
            <a:endParaRPr b="0" lang="en-US" sz="20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MAY be 16 bits if desired 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high half of Unix 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time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 is enough if experiments aren’t created more than once every 20 hours</a:t>
            </a:r>
            <a:endParaRPr b="0" lang="en-US" sz="20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6194-B6C5-46D5-819D-49E2479EB230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332814C5-CABA-41DD-8CB4-39E8EFC0F197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10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7A72-844C-4AD1-AF0D-87E2C96D8F59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07:17:19Z</dcterms:created>
  <dc:creator>Joseph D. Touch</dc:creator>
  <dc:description/>
  <dc:language>en-US</dc:language>
  <cp:lastModifiedBy>touch</cp:lastModifiedBy>
  <cp:lastPrinted>1999-12-13T07:41:19Z</cp:lastPrinted>
  <dcterms:modified xsi:type="dcterms:W3CDTF">2011-11-12T23:25:00Z</dcterms:modified>
  <cp:revision>229</cp:revision>
  <dc:subject/>
  <dc:title>draft-touch-trill-prob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 Author">
    <vt:lpwstr>Joe Touch</vt:lpwstr>
  </property>
  <property fmtid="{D5CDD505-2E9C-101B-9397-08002B2CF9AE}" pid="3" name="Template Date">
    <vt:lpwstr>Oct. 16, 2002</vt:lpwstr>
  </property>
</Properties>
</file>