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5"/>
          </p:nvPr>
        </p:nvSpPr>
        <p:spPr>
          <a:xfrm>
            <a:off x="3919680" y="-36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6"/>
          </p:nvPr>
        </p:nvSpPr>
        <p:spPr>
          <a:xfrm>
            <a:off x="0" y="8791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7"/>
          </p:nvPr>
        </p:nvSpPr>
        <p:spPr>
          <a:xfrm>
            <a:off x="3919680" y="8791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B96B8E4-7E07-4B02-BF37-2BD1AC43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19680" y="8791560"/>
            <a:ext cx="301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17DBEAB-EC2E-4657-9EA4-24FB45E3D646}" type="slidenum"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19680" y="8791560"/>
            <a:ext cx="301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BC9CD61-CAE4-45D0-B810-6CF6D6FBC65D}" type="slidenum"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39D1-8ACB-452C-BAFC-B6DC4F32F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7056-D44F-407C-BD2D-B0E44F9B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23B4-003E-4ED0-B985-D1598C4A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ED85-2D6C-4144-8840-09E9C90375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6A798-1F1B-4E81-A121-9FDBF5CA4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28F2E-06E0-43F9-8E00-C2699DAE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00A0D-AB3D-4B99-92BC-72E18634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E5984-21E6-4CCB-998A-3DB9ABA9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66DD2-080E-479E-B552-ED0AC3B0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92160-98BF-48C4-A1EF-B31B8FBA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A6A6E-A1FD-42D1-AF35-126A900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E0D4-043D-4243-B2CB-E9DB4523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D9D0F-32CE-4C96-90D2-E545EBD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E4B8C-36BD-43BD-A399-7D7CE9B5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B929D-6E29-41DA-92BE-2B2188D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C618E-52F3-4C92-BB3B-CC46F0C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4BF1B-8129-4A18-B6EA-B77803D48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1176-D50A-4419-9BB6-17FBF8ED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3B22-0473-4292-86DC-C2DB3E46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790F-FBE8-475F-B587-FCB34450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4E1B-E310-4F25-9AE3-2E717F4F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802F-4A70-43F0-8382-B636D6A9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2FC0-1B9E-46E4-AA8F-6C74C76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D3C8-4437-4DCB-AAD4-95EAB0E3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8AB-A6D1-44E9-AF1C-6257A1C8F794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23C56DF-C2FF-4D8F-AFEE-952B073D8802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C70D-5753-4FB1-9500-732E9797E95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E624-C749-4B8B-A77F-D0EE7DE57B4B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819C3425-3016-4482-A37A-0CA42D89340D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1829-C174-41CF-9166-12F5F19A500A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BAFE-88E2-46F8-8CF2-C06DD0A70B92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2617E51-45ED-4F49-B08F-5934D22DE578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264A-BAA0-41C4-B01B-1E17CDFA272F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hared Use of TCP Experimental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touch-tcpm-experimental-options-00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ossible extens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once + checksum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etects/avoids legacy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arger space, higher computation cos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Use in other exp. codepoint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tably TCP/UDP port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3F6E-52C2-4616-B884-3AC0491A5825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AB8E2259-88BD-4F32-9662-98034B814E0D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9127-7C0E-43C9-BF8A-65DC98C980D6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urrent experimental options overloaded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ultiple concurrent uses cannot be distinguish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dd nonce to EO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used to differentiate concurrent us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nformational (or BCP?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42A7-77D7-4322-9018-1C79CEB58046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F8961307-620C-4F77-8A5D-F229FFC52204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6166-81FF-454C-8F4D-EB20E530F851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Exp.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Kind = 253 or 254 [RFC4727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F5A2-0C26-4946-9C02-5B161C6926A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4B0E7F0-B38E-4C12-A3E6-9DC56DEE6E17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FFB5-F2B7-4F89-AC27-D614B362F37D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828800" y="3370320"/>
            <a:ext cx="5484960" cy="666720"/>
          </a:xfrm>
          <a:prstGeom prst="rect">
            <a:avLst/>
          </a:prstGeom>
          <a:solidFill>
            <a:srgbClr val="bbbb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82880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in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19896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n=var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570560" y="337032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828800" y="4029120"/>
            <a:ext cx="54831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828800" y="5018040"/>
            <a:ext cx="54849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827360" y="568476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Straight Connector 16"/>
          <p:cNvSpPr/>
          <p:nvPr/>
        </p:nvSpPr>
        <p:spPr>
          <a:xfrm>
            <a:off x="1826640" y="4732200"/>
            <a:ext cx="4680" cy="10083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Straight Connector 18"/>
          <p:cNvSpPr/>
          <p:nvPr/>
        </p:nvSpPr>
        <p:spPr>
          <a:xfrm>
            <a:off x="7313760" y="4732200"/>
            <a:ext cx="0" cy="9525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Experime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812600"/>
            <a:ext cx="8513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Precursor to TCP AO (253, 254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CP Cookie Transaction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s deployed (31, 32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s spec’d (253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cpcrypt (76, 77, 78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Other commercial products (33, 76, 77, 78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3F18-27FA-4D1D-8073-85F18CC2D451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D4051EEE-181C-400D-B650-1DC7329D8325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B81B-4E9F-4BCF-904B-7DD6DF3CBB18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Approaches to increased experime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lax IANA assignment hurdle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pool is very small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pool already has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ncrease number of EOs from 2 to 18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er draft-eddy-tcpm-addl-exp-opt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oesn’t address existing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quires IANA oversight of new 16 valu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71E8-3113-4E0C-ABCD-C45440DB62F6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D41BE849-20E4-4375-9141-7E1B82CC1451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2260-2DF1-496B-9342-3EE21980E72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blems with existing approach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Usage collision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avoid future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mitigate existing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ANA oversigh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avoid need for oversigh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mall codepoint space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16 now; another 16, then another…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A597-F622-46A9-B8D8-B25B0E583698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41002D3-49A5-4B52-BE6D-70678B29746B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E11-3210-4B8D-9734-170ED62773AF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19120" y="45036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osed Shared Use of TCP Exp.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Kind = 253 or 254 [RFC4727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= arbitrary per-experiment valu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yp. 32-bits, e.g., Unix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F9B3-09DD-48E8-BA5D-EE310C2F0BD6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11BC36BB-98DA-4F6C-B0FB-66585ECC580C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7CD-C2ED-45DB-8182-262191A03983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370320"/>
            <a:ext cx="5484960" cy="666720"/>
          </a:xfrm>
          <a:prstGeom prst="rect">
            <a:avLst/>
          </a:prstGeom>
          <a:solidFill>
            <a:srgbClr val="bbbb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82880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in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19896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n=var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570560" y="3370320"/>
            <a:ext cx="2741400" cy="66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ce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828800" y="4029120"/>
            <a:ext cx="54831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828800" y="5018040"/>
            <a:ext cx="54849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827360" y="568476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Straight Connector 16"/>
          <p:cNvSpPr/>
          <p:nvPr/>
        </p:nvSpPr>
        <p:spPr>
          <a:xfrm>
            <a:off x="1826640" y="4732200"/>
            <a:ext cx="4680" cy="10083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Straight Connector 18"/>
          <p:cNvSpPr/>
          <p:nvPr/>
        </p:nvSpPr>
        <p:spPr>
          <a:xfrm>
            <a:off x="7313760" y="4732200"/>
            <a:ext cx="0" cy="9525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27360" y="4029120"/>
            <a:ext cx="2739960" cy="66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ce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19120" y="4014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erties of this proposed solution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Helps avoid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Unlikely nonce will overlay with misbehaving experiment option valu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elf-manag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elf-assigne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an use any method, e.g., Unix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arge codepoint spac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onsumes space, but experiments should leave room for future option use anywa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484C-9023-4A24-9DA7-6621A972FDB0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5DB842BC-86E1-4296-A0F1-0CE078049ACA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63A2-48C1-48BD-8DBC-EBEA40EE56C0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19120" y="20268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Issu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8876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rocessing KIND=253/254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heck nonce FIRST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rocess each nonce as a separate option kin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Ignore if nonce not known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en = total option (including nonce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length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HOULD be 32 bits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lignment unaffected if Nonce is removed if permanent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AY be 16 bits if desired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high half of Unix 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time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is enough if experiments aren’t created more than once every 20 hours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80A-21AE-4887-8157-10B5DDDE3943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15C53132-D9BA-433D-9AEE-81297C355FC3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3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531D-484F-42E8-B3F7-15584C659F9C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touch</cp:lastModifiedBy>
  <cp:lastPrinted>1999-12-13T07:41:19Z</cp:lastPrinted>
  <dcterms:modified xsi:type="dcterms:W3CDTF">2011-11-12T23:25:00Z</dcterms:modified>
  <cp:revision>229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