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E1816-3CFC-4C40-B9B8-D7C0ACB69E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5EFB9-DAFE-4864-8FAD-CA66E479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28EDE-9D9D-4606-97D0-886912FE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236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8788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236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8788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91314-8744-49FC-82BB-00B882DEEB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58B54-C5DB-4E9F-8E1E-D2667AC7E2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3BA47-FC55-428B-8E8A-E3F7295E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1877F-B7C9-4E92-9728-3F2CC4F7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0E800-4F85-4CE7-A75A-9D7B8412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5D1F9-7622-4630-A4A9-120E68F2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19120" y="228240"/>
            <a:ext cx="6896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E5272-A431-44C1-99D4-85DAF99E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84285-D2BD-473B-82D6-2D04D680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F5093-06A7-45BC-B0EA-BCB127B9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ACB08-8F97-4366-AEF5-62736C6C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5C1E6-E87C-4D7E-AB9F-0E7C17F2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B93D0-B128-4E49-BD41-7D27839C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BCC8F-DA86-4A6C-9079-9F44FF07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2236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8788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2236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8788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0116C-C5B4-4549-870B-09957E8035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40A98-00CE-4299-824A-F86DAEB9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65219-BC7B-46A9-983E-64E492B0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6E202-5131-47D4-87FC-A82E13D0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19120" y="228240"/>
            <a:ext cx="6896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FF239-4641-45C0-93C8-17E03AB7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295BF-292B-4EAA-AD1D-0E607C5A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7DA30-57EF-492B-AAF8-03AB7ED7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9B524-7680-4CDC-BB48-88B38E0F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6" descr="top-swoop-bw"/>
          <p:cNvPicPr/>
          <p:nvPr/>
        </p:nvPicPr>
        <p:blipFill>
          <a:blip r:embed="rId2"/>
          <a:stretch/>
        </p:blipFill>
        <p:spPr>
          <a:xfrm>
            <a:off x="-647640" y="333360"/>
            <a:ext cx="11495160" cy="798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5" descr="bot-swoop-bw"/>
          <p:cNvPicPr/>
          <p:nvPr/>
        </p:nvPicPr>
        <p:blipFill>
          <a:blip r:embed="rId3"/>
          <a:stretch/>
        </p:blipFill>
        <p:spPr>
          <a:xfrm>
            <a:off x="-1587600" y="5775480"/>
            <a:ext cx="10631520" cy="73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8708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0CF6-A8E5-4F4E-9467-9368AAA7135E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C7FD454C-CF7A-4FDB-BCF5-40523A683F01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3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78636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B545-67E8-4541-8494-8DBC7A21EBBB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2173320" y="6356520"/>
            <a:ext cx="47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 flipH="1">
            <a:off x="554040" y="1539720"/>
            <a:ext cx="7758000" cy="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 flipH="1">
            <a:off x="-22320" y="6462720"/>
            <a:ext cx="9166320" cy="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Line 14"/>
          <p:cNvSpPr/>
          <p:nvPr/>
        </p:nvSpPr>
        <p:spPr>
          <a:xfrm flipH="1">
            <a:off x="554040" y="1539720"/>
            <a:ext cx="775800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Line 15"/>
          <p:cNvSpPr/>
          <p:nvPr/>
        </p:nvSpPr>
        <p:spPr>
          <a:xfrm flipH="1">
            <a:off x="-22320" y="6462720"/>
            <a:ext cx="916632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Rectangle 54"/>
          <p:cNvSpPr/>
          <p:nvPr/>
        </p:nvSpPr>
        <p:spPr>
          <a:xfrm>
            <a:off x="0" y="0"/>
            <a:ext cx="9144000" cy="320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6" descr="top-swoop-bw"/>
          <p:cNvPicPr/>
          <p:nvPr/>
        </p:nvPicPr>
        <p:blipFill>
          <a:blip r:embed="rId2"/>
          <a:stretch/>
        </p:blipFill>
        <p:spPr>
          <a:xfrm>
            <a:off x="-647640" y="754200"/>
            <a:ext cx="11495160" cy="7984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7"/>
          <p:cNvSpPr/>
          <p:nvPr/>
        </p:nvSpPr>
        <p:spPr>
          <a:xfrm>
            <a:off x="2173320" y="6356520"/>
            <a:ext cx="47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0" name="Picture 3" descr="bot-swoop"/>
          <p:cNvPicPr/>
          <p:nvPr/>
        </p:nvPicPr>
        <p:blipFill>
          <a:blip r:embed="rId3"/>
          <a:stretch/>
        </p:blipFill>
        <p:spPr>
          <a:xfrm>
            <a:off x="-1611360" y="5711760"/>
            <a:ext cx="10887120" cy="844560"/>
          </a:xfrm>
          <a:prstGeom prst="rect">
            <a:avLst/>
          </a:prstGeom>
          <a:ln w="0">
            <a:noFill/>
          </a:ln>
        </p:spPr>
      </p:pic>
      <p:sp>
        <p:nvSpPr>
          <p:cNvPr id="51" name="Line 13"/>
          <p:cNvSpPr/>
          <p:nvPr/>
        </p:nvSpPr>
        <p:spPr>
          <a:xfrm flipH="1">
            <a:off x="0" y="6462720"/>
            <a:ext cx="9166320" cy="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Line 14"/>
          <p:cNvSpPr/>
          <p:nvPr/>
        </p:nvSpPr>
        <p:spPr>
          <a:xfrm flipH="1">
            <a:off x="554040" y="2324160"/>
            <a:ext cx="775800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Line 18"/>
          <p:cNvSpPr/>
          <p:nvPr/>
        </p:nvSpPr>
        <p:spPr>
          <a:xfrm flipH="1">
            <a:off x="0" y="6462720"/>
            <a:ext cx="916632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4" name="Picture 55" descr="jt-viterbi"/>
          <p:cNvPicPr/>
          <p:nvPr/>
        </p:nvPicPr>
        <p:blipFill>
          <a:blip r:embed="rId4"/>
          <a:stretch/>
        </p:blipFill>
        <p:spPr>
          <a:xfrm>
            <a:off x="7307280" y="5365800"/>
            <a:ext cx="1519200" cy="906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8" descr="isi_logo"/>
          <p:cNvPicPr/>
          <p:nvPr/>
        </p:nvPicPr>
        <p:blipFill>
          <a:blip r:embed="rId5"/>
          <a:stretch/>
        </p:blipFill>
        <p:spPr>
          <a:xfrm>
            <a:off x="241200" y="1246320"/>
            <a:ext cx="968400" cy="6141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68"/>
          <p:cNvGrpSpPr/>
          <p:nvPr/>
        </p:nvGrpSpPr>
        <p:grpSpPr>
          <a:xfrm>
            <a:off x="0" y="0"/>
            <a:ext cx="9144000" cy="625320"/>
            <a:chOff x="0" y="0"/>
            <a:chExt cx="9144000" cy="625320"/>
          </a:xfrm>
        </p:grpSpPr>
        <p:sp>
          <p:nvSpPr>
            <p:cNvPr id="57" name="Rectangle 56"/>
            <p:cNvSpPr/>
            <p:nvPr/>
          </p:nvSpPr>
          <p:spPr>
            <a:xfrm>
              <a:off x="0" y="0"/>
              <a:ext cx="9144000" cy="6253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58" name="Picture 57" descr="mono_gold_trans"/>
            <p:cNvPicPr/>
            <p:nvPr/>
          </p:nvPicPr>
          <p:blipFill>
            <a:blip r:embed="rId6"/>
            <a:stretch/>
          </p:blipFill>
          <p:spPr>
            <a:xfrm>
              <a:off x="8242200" y="96840"/>
              <a:ext cx="676440" cy="4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67" descr="usc text bar_600dpi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3008160" cy="31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3"/>
          </p:nvPr>
        </p:nvSpPr>
        <p:spPr>
          <a:xfrm>
            <a:off x="466200" y="6356160"/>
            <a:ext cx="1930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3BE7-64D3-4372-B947-B72CEBA88BC9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EAD29FD3-7785-4C56-9B2B-BEE77B1EC3AE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3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6859440" y="628452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FBB0-CBA6-4E1E-87C2-5A455BE8ED00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466560" y="6356520"/>
            <a:ext cx="1930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778A-F7C4-4957-B7F0-5A8E0B4B4EC8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3F68A060-CCFA-46C5-8B4C-F7BC21111C2D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3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6859440" y="628488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C393-5191-42E5-BF16-78A13BB7FD13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9760" y="1193760"/>
            <a:ext cx="7540560" cy="76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TCP Automatic IW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79440" y="3117600"/>
            <a:ext cx="767088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draft-touch-tcpm-automatic-iw-01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IETF 82 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Joe Touch, USC/ISI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Overview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TCP IW constant requires per-decade update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Originally defined as 1 MSS [Ja88]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Originally implemented as 2 MSS 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Redefined as </a:t>
            </a:r>
            <a:r>
              <a:rPr b="0" i="1" lang="en-US" sz="2400" spc="-1" strike="noStrike">
                <a:solidFill>
                  <a:srgbClr val="990000"/>
                </a:solidFill>
                <a:latin typeface="Tahoma"/>
              </a:rPr>
              <a:t>min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(3 MSS, 4KB) [RFC2414, 1998]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Proposed as 10 MSS [draft-ietf-tcpm-initcwnd]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TCP IW can auto-adjust like TCP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AIMD 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Over long timescales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React to loss during IW (as best possible) only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Goal - </a:t>
            </a:r>
            <a:r>
              <a:rPr b="0" i="1" lang="en-US" sz="2400" spc="-1" strike="noStrike">
                <a:solidFill>
                  <a:srgbClr val="990000"/>
                </a:solidFill>
                <a:latin typeface="Tahoma"/>
              </a:rPr>
              <a:t>experimental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06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0BD2-4FB8-4627-B306-25999B57D8B5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E7D559A9-F1D7-46A1-A97D-1A7E41811586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3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053D-C99D-4F6D-B4D9-93CB4DA04B79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Proposed algorithm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At first boot: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IW = maxIW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Increment loss counter when: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SYN-ACK includes ECN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Retransmit is within [ISN, ISN + IW]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Monthly or conn_count &gt; max_conn: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AIMD iff loss/conn_count &gt; loss_thresh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10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6E5C-D9E0-4E6A-8622-CBE7D8A5BCEC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75696D47-C9F6-4CDA-B958-18E6F51A418B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3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62F0-1B22-4692-8768-3BDD701BB282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Algorithm propertie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Self-adjusting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No need to revisit every decade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Conservative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AIMD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TCP-friendly operation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Operates over very long timescales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Affects only IW (start, restart)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Low-effort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Act only during ECN or retransmission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14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8758-7562-42A4-9551-5929C8B0E131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1F61B068-9D6B-47B9-A62C-75160C3F8900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3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6026-2D3F-485A-BB3F-12186A69F4A2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Proposed constant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AI &lt;= 2 MSS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MD &lt;= 0.5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Max_conn &lt;= 1000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IW is multiple of 2 (helps compr. ACKs)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Loss_thresh &gt;= 95%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AI limited to 2 MSS/year (??)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DA66-0986-450E-B7AB-D8A108B80B33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11BA9F12-9E9C-492C-966D-BCE57971A0E5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3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2FDA-BAAA-4B0C-AA0B-E9E448EE785B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Issue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56492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Algorithm design</a:t>
            </a:r>
            <a:endParaRPr b="0" lang="en-US" sz="2000" spc="-1" strike="noStrike">
              <a:solidFill>
                <a:srgbClr val="990000"/>
              </a:solidFill>
              <a:latin typeface="Tahoma"/>
            </a:endParaRPr>
          </a:p>
          <a:p>
            <a:pPr lvl="1" marL="676080" indent="-259920">
              <a:spcBef>
                <a:spcPts val="45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Basic function</a:t>
            </a:r>
            <a:endParaRPr b="0" lang="en-US" sz="1800" spc="-1" strike="noStrike">
              <a:solidFill>
                <a:srgbClr val="990000"/>
              </a:solidFill>
              <a:latin typeface="Tahoma"/>
            </a:endParaRPr>
          </a:p>
          <a:p>
            <a:pPr lvl="1" marL="676080" indent="-259920">
              <a:spcBef>
                <a:spcPts val="45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Triggers (SYN-ACK ECN, retransmission)</a:t>
            </a:r>
            <a:endParaRPr b="0" lang="en-US" sz="1800" spc="-1" strike="noStrike">
              <a:solidFill>
                <a:srgbClr val="990000"/>
              </a:solidFill>
              <a:latin typeface="Tahoma"/>
            </a:endParaRPr>
          </a:p>
          <a:p>
            <a:pPr lvl="1" marL="676080" indent="-259920">
              <a:spcBef>
                <a:spcPts val="45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MSS vs. byte</a:t>
            </a:r>
            <a:endParaRPr b="0" lang="en-US" sz="1800" spc="-1" strike="noStrike">
              <a:solidFill>
                <a:srgbClr val="990000"/>
              </a:solidFill>
              <a:latin typeface="Tahoma"/>
            </a:endParaRPr>
          </a:p>
          <a:p>
            <a:pPr lvl="1" marL="676080" indent="-259920">
              <a:spcBef>
                <a:spcPts val="45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Seqno wrap</a:t>
            </a:r>
            <a:endParaRPr b="0" lang="en-US" sz="1800" spc="-1" strike="noStrike">
              <a:solidFill>
                <a:srgbClr val="99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Constants</a:t>
            </a:r>
            <a:endParaRPr b="0" lang="en-US" sz="2000" spc="-1" strike="noStrike">
              <a:solidFill>
                <a:srgbClr val="990000"/>
              </a:solidFill>
              <a:latin typeface="Tahoma"/>
            </a:endParaRPr>
          </a:p>
          <a:p>
            <a:pPr lvl="1" marL="676080" indent="-259920">
              <a:spcBef>
                <a:spcPts val="45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(change based on discussion)</a:t>
            </a:r>
            <a:endParaRPr b="0" lang="en-US" sz="1800" spc="-1" strike="noStrike">
              <a:solidFill>
                <a:srgbClr val="99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False positives </a:t>
            </a:r>
            <a:endParaRPr b="0" lang="en-US" sz="2000" spc="-1" strike="noStrike">
              <a:solidFill>
                <a:srgbClr val="990000"/>
              </a:solidFill>
              <a:latin typeface="Tahoma"/>
            </a:endParaRPr>
          </a:p>
          <a:p>
            <a:pPr lvl="1" marL="676080" indent="-259920">
              <a:spcBef>
                <a:spcPts val="45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Due to reordering</a:t>
            </a:r>
            <a:endParaRPr b="0" lang="en-US" sz="1800" spc="-1" strike="noStrike">
              <a:solidFill>
                <a:srgbClr val="99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Granularity</a:t>
            </a:r>
            <a:endParaRPr b="0" lang="en-US" sz="2000" spc="-1" strike="noStrike">
              <a:solidFill>
                <a:srgbClr val="990000"/>
              </a:solidFill>
              <a:latin typeface="Tahoma"/>
            </a:endParaRPr>
          </a:p>
          <a:p>
            <a:pPr lvl="1" marL="676080" indent="-259920">
              <a:spcBef>
                <a:spcPts val="45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Per machine, interface, subnet</a:t>
            </a:r>
            <a:endParaRPr b="0" lang="en-US" sz="1800" spc="-1" strike="noStrike">
              <a:solidFill>
                <a:srgbClr val="99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Additional state</a:t>
            </a:r>
            <a:endParaRPr b="0" lang="en-US" sz="2000" spc="-1" strike="noStrike">
              <a:solidFill>
                <a:srgbClr val="990000"/>
              </a:solidFill>
              <a:latin typeface="Tahoma"/>
            </a:endParaRPr>
          </a:p>
          <a:p>
            <a:pPr lvl="1" marL="676080" indent="-259920">
              <a:spcBef>
                <a:spcPts val="45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Per-conn – ISN, seqno wrap</a:t>
            </a:r>
            <a:endParaRPr b="0" lang="en-US" sz="1800" spc="-1" strike="noStrike">
              <a:solidFill>
                <a:srgbClr val="990000"/>
              </a:solidFill>
              <a:latin typeface="Tahoma"/>
            </a:endParaRPr>
          </a:p>
          <a:p>
            <a:pPr lvl="1" marL="676080" indent="-259920">
              <a:spcBef>
                <a:spcPts val="4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Across reboots (what if not available?)</a:t>
            </a:r>
            <a:endParaRPr b="0" lang="en-US" sz="1600" spc="-1" strike="noStrike">
              <a:solidFill>
                <a:srgbClr val="99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22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E073-4166-4D8C-965F-B4624D610E69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B648E4F9-C24E-4B45-AFEA-4BA489322540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3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45C8-466E-4BD2-B0BC-7A0BD9368295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07:17:19Z</dcterms:created>
  <dc:creator>Joseph D. Touch</dc:creator>
  <dc:description/>
  <dc:language>en-US</dc:language>
  <cp:lastModifiedBy>touch</cp:lastModifiedBy>
  <cp:lastPrinted>1999-12-13T07:41:19Z</cp:lastPrinted>
  <dcterms:modified xsi:type="dcterms:W3CDTF">2011-11-12T23:25:15Z</dcterms:modified>
  <cp:revision>232</cp:revision>
  <dc:subject/>
  <dc:title>draft-touch-trill-prob-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 Author">
    <vt:lpwstr>Joe Touch</vt:lpwstr>
  </property>
  <property fmtid="{D5CDD505-2E9C-101B-9397-08002B2CF9AE}" pid="3" name="Template Date">
    <vt:lpwstr>Oct. 16, 2002</vt:lpwstr>
  </property>
</Properties>
</file>