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BDE24-2ABB-4F56-94A6-0CF2F830F2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8EC90-D527-4B9C-BF31-FD064D7B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5D0AD-75B0-480F-BF60-91DB69C4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236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8788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236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8788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578CB-85A4-4808-95BC-AF237BE8C0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18706-BBD9-4506-A5FD-0CA4E2D932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7AA56-D2FE-4660-AA75-B8394292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F2E77-88BC-44D5-8AC8-4F9CF3B9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1C4AE-2506-4803-90C1-2DC939B3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3B58F-D3D5-440B-875D-E379283A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19120" y="228240"/>
            <a:ext cx="6896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25CD4-0349-4707-BB0B-D0A5FFA4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F6DD4-7779-4B17-8BBD-D09BF57C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F9E95-14D2-4AC5-BFAB-76CB55BB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FCF29-FFCA-48A1-B3AD-2EB9CDD3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F8749-478C-4020-AB66-BBA82DCB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B6AC0-1602-4134-8765-8DBDA3F1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A7381-2BD3-4A9E-9D7B-8129825A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2236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8788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2236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8788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D1E32-2624-4063-BC4D-54B8E6410F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0EC8A-7230-4F2A-BB3F-DC0B6827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9C282-EA88-4576-82FA-FD06EAF3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1EEC3-DA92-4D87-B688-9915E37F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19120" y="228240"/>
            <a:ext cx="6896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C4D67-B722-4AFE-9170-9365D4DC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49E54-6372-4419-8CF8-BAB85E41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882EA-BA1A-425C-A8BA-56954B00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796DC-2C58-418F-BC77-9370FCE9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6" descr="top-swoop-bw"/>
          <p:cNvPicPr/>
          <p:nvPr/>
        </p:nvPicPr>
        <p:blipFill>
          <a:blip r:embed="rId2"/>
          <a:stretch/>
        </p:blipFill>
        <p:spPr>
          <a:xfrm>
            <a:off x="-647640" y="333360"/>
            <a:ext cx="11495160" cy="798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5" descr="bot-swoop-bw"/>
          <p:cNvPicPr/>
          <p:nvPr/>
        </p:nvPicPr>
        <p:blipFill>
          <a:blip r:embed="rId3"/>
          <a:stretch/>
        </p:blipFill>
        <p:spPr>
          <a:xfrm>
            <a:off x="-1587600" y="5775480"/>
            <a:ext cx="10631520" cy="73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8708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9891-F8C4-4464-AFDE-73C1BF3AB065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AE7348C7-A969-4937-87B3-6913FD7EAA96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1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78636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D0EA-9F41-4567-9826-E48A402441C8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2173320" y="6356520"/>
            <a:ext cx="47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 flipH="1">
            <a:off x="554040" y="1539720"/>
            <a:ext cx="775800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 flipH="1">
            <a:off x="-22320" y="6462720"/>
            <a:ext cx="916632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Line 14"/>
          <p:cNvSpPr/>
          <p:nvPr/>
        </p:nvSpPr>
        <p:spPr>
          <a:xfrm flipH="1">
            <a:off x="554040" y="1539720"/>
            <a:ext cx="775800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Line 15"/>
          <p:cNvSpPr/>
          <p:nvPr/>
        </p:nvSpPr>
        <p:spPr>
          <a:xfrm flipH="1">
            <a:off x="-22320" y="6462720"/>
            <a:ext cx="916632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Rectangle 54"/>
          <p:cNvSpPr/>
          <p:nvPr/>
        </p:nvSpPr>
        <p:spPr>
          <a:xfrm>
            <a:off x="0" y="0"/>
            <a:ext cx="9144000" cy="320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6" descr="top-swoop-bw"/>
          <p:cNvPicPr/>
          <p:nvPr/>
        </p:nvPicPr>
        <p:blipFill>
          <a:blip r:embed="rId2"/>
          <a:stretch/>
        </p:blipFill>
        <p:spPr>
          <a:xfrm>
            <a:off x="-647640" y="754200"/>
            <a:ext cx="11495160" cy="798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7"/>
          <p:cNvSpPr/>
          <p:nvPr/>
        </p:nvSpPr>
        <p:spPr>
          <a:xfrm>
            <a:off x="2173320" y="6356520"/>
            <a:ext cx="47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0" name="Picture 3" descr="bot-swoop"/>
          <p:cNvPicPr/>
          <p:nvPr/>
        </p:nvPicPr>
        <p:blipFill>
          <a:blip r:embed="rId3"/>
          <a:stretch/>
        </p:blipFill>
        <p:spPr>
          <a:xfrm>
            <a:off x="-1611360" y="5711760"/>
            <a:ext cx="10887120" cy="844560"/>
          </a:xfrm>
          <a:prstGeom prst="rect">
            <a:avLst/>
          </a:prstGeom>
          <a:ln w="0">
            <a:noFill/>
          </a:ln>
        </p:spPr>
      </p:pic>
      <p:sp>
        <p:nvSpPr>
          <p:cNvPr id="51" name="Line 13"/>
          <p:cNvSpPr/>
          <p:nvPr/>
        </p:nvSpPr>
        <p:spPr>
          <a:xfrm flipH="1">
            <a:off x="0" y="6462720"/>
            <a:ext cx="916632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Line 14"/>
          <p:cNvSpPr/>
          <p:nvPr/>
        </p:nvSpPr>
        <p:spPr>
          <a:xfrm flipH="1">
            <a:off x="554040" y="2324160"/>
            <a:ext cx="775800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Line 18"/>
          <p:cNvSpPr/>
          <p:nvPr/>
        </p:nvSpPr>
        <p:spPr>
          <a:xfrm flipH="1">
            <a:off x="0" y="6462720"/>
            <a:ext cx="916632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4" name="Picture 55" descr="jt-viterbi"/>
          <p:cNvPicPr/>
          <p:nvPr/>
        </p:nvPicPr>
        <p:blipFill>
          <a:blip r:embed="rId4"/>
          <a:stretch/>
        </p:blipFill>
        <p:spPr>
          <a:xfrm>
            <a:off x="7307280" y="5365800"/>
            <a:ext cx="1519200" cy="906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8" descr="isi_logo"/>
          <p:cNvPicPr/>
          <p:nvPr/>
        </p:nvPicPr>
        <p:blipFill>
          <a:blip r:embed="rId5"/>
          <a:stretch/>
        </p:blipFill>
        <p:spPr>
          <a:xfrm>
            <a:off x="241200" y="1246320"/>
            <a:ext cx="968400" cy="6141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68"/>
          <p:cNvGrpSpPr/>
          <p:nvPr/>
        </p:nvGrpSpPr>
        <p:grpSpPr>
          <a:xfrm>
            <a:off x="0" y="0"/>
            <a:ext cx="9144000" cy="625320"/>
            <a:chOff x="0" y="0"/>
            <a:chExt cx="9144000" cy="625320"/>
          </a:xfrm>
        </p:grpSpPr>
        <p:sp>
          <p:nvSpPr>
            <p:cNvPr id="57" name="Rectangle 56"/>
            <p:cNvSpPr/>
            <p:nvPr/>
          </p:nvSpPr>
          <p:spPr>
            <a:xfrm>
              <a:off x="0" y="0"/>
              <a:ext cx="9144000" cy="6253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58" name="Picture 57" descr="mono_gold_trans"/>
            <p:cNvPicPr/>
            <p:nvPr/>
          </p:nvPicPr>
          <p:blipFill>
            <a:blip r:embed="rId6"/>
            <a:stretch/>
          </p:blipFill>
          <p:spPr>
            <a:xfrm>
              <a:off x="8242200" y="96840"/>
              <a:ext cx="676440" cy="4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67" descr="usc text bar_600dpi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3008160" cy="31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3"/>
          </p:nvPr>
        </p:nvSpPr>
        <p:spPr>
          <a:xfrm>
            <a:off x="466200" y="6356160"/>
            <a:ext cx="1930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B3D8-608D-4FAC-A0E7-931D97FACEED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2757DB5C-8979-4A92-B778-1EF45086987E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1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6859440" y="628452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0ECF-B0C0-4441-BF11-A8D2DDAF319F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466560" y="6356520"/>
            <a:ext cx="1930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C175-BDF2-4F1B-9BD9-26A736180EAB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71145EB5-06FF-4A06-A26C-AC583C1C1BAB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10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6859440" y="628488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1784-4359-4B62-83F3-14F34EF55CC3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9760" y="1193760"/>
            <a:ext cx="7540560" cy="7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TCP Automatic IW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79440" y="3117600"/>
            <a:ext cx="767088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draft-touch-tcpm-automatic-iw-01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IETF 82 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Joe Touch, USC/ISI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Overview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TCP IW constant requires per-decade update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Originally defined as 1 MSS [Ja88]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Originally implemented as 2 MSS 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Redefined as </a:t>
            </a:r>
            <a:r>
              <a:rPr b="0" i="1" lang="en-US" sz="2400" spc="-1" strike="noStrike">
                <a:solidFill>
                  <a:srgbClr val="990000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(3 MSS, 4KB) [RFC2414, 1998]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Proposed as 10 MSS [draft-ietf-tcpm-initcwnd]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TCP IW can auto-adjust like TCP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AIMD 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Over long timescales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React to loss during IW (as best possible) only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Goal - </a:t>
            </a:r>
            <a:r>
              <a:rPr b="0" i="1" lang="en-US" sz="2400" spc="-1" strike="noStrike">
                <a:solidFill>
                  <a:srgbClr val="990000"/>
                </a:solidFill>
                <a:latin typeface="Tahoma"/>
              </a:rPr>
              <a:t>experimental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06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85A3-2784-4BF4-93AF-4885E8C7D581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CBCD76B2-887E-477E-B6B3-565D83176831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10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5AC1-1A8A-4E6E-99B1-80C5D99856C5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Proposed algorithm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At first boot: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IW = maxIW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Increment loss counter when: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SYN-ACK includes ECN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Retransmit is within [ISN, ISN + IW]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Monthly or conn_count &gt; max_conn: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AIMD iff loss/conn_count &gt; loss_thresh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0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A4C7-C1E2-4500-8D54-7A088A2F9D24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1E93B07E-F9AD-4DE1-89BE-F7B176471415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10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CAB5-6A1C-444E-966F-FF9D916EA813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Algorithm propertie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Self-adjusting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No need to revisit every decade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Conservative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AIMD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TCP-friendly operation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Operates over very long timescales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Affects only IW (start, restart)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Low-effort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Act only during ECN or retransmission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4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3BBE-FA4F-4228-AC32-9F9AECF09D23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523593FD-A647-49BE-AB0F-572807D165AD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10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AF73-40DB-4A0F-95BE-F7BB8132EB1C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Proposed constant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AI &lt;= 2 MSS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MD &lt;= 0.5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Max_conn &lt;= 1000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IW is multiple of 2 (helps compr. ACKs)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Loss_thresh &gt;= 95%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AI limited to 2 MSS/year (??)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E89C-DFB2-4CF6-BDDF-EECF8A0DFFF9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6B7A4444-0E93-4F1F-BEF3-A439380E4B72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10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7675-2839-4944-BC6E-0A073192FD05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Issue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56492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Algorithm design</a:t>
            </a:r>
            <a:endParaRPr b="0" lang="en-US" sz="2000" spc="-1" strike="noStrike">
              <a:solidFill>
                <a:srgbClr val="990000"/>
              </a:solidFill>
              <a:latin typeface="Tahoma"/>
            </a:endParaRPr>
          </a:p>
          <a:p>
            <a:pPr lvl="1" marL="676080" indent="-259920">
              <a:spcBef>
                <a:spcPts val="45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Basic function</a:t>
            </a:r>
            <a:endParaRPr b="0" lang="en-US" sz="1800" spc="-1" strike="noStrike">
              <a:solidFill>
                <a:srgbClr val="990000"/>
              </a:solidFill>
              <a:latin typeface="Tahoma"/>
            </a:endParaRPr>
          </a:p>
          <a:p>
            <a:pPr lvl="1" marL="676080" indent="-259920">
              <a:spcBef>
                <a:spcPts val="45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Triggers (SYN-ACK ECN, retransmission)</a:t>
            </a:r>
            <a:endParaRPr b="0" lang="en-US" sz="1800" spc="-1" strike="noStrike">
              <a:solidFill>
                <a:srgbClr val="990000"/>
              </a:solidFill>
              <a:latin typeface="Tahoma"/>
            </a:endParaRPr>
          </a:p>
          <a:p>
            <a:pPr lvl="1" marL="676080" indent="-259920">
              <a:spcBef>
                <a:spcPts val="45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MSS vs. byte</a:t>
            </a:r>
            <a:endParaRPr b="0" lang="en-US" sz="1800" spc="-1" strike="noStrike">
              <a:solidFill>
                <a:srgbClr val="990000"/>
              </a:solidFill>
              <a:latin typeface="Tahoma"/>
            </a:endParaRPr>
          </a:p>
          <a:p>
            <a:pPr lvl="1" marL="676080" indent="-259920">
              <a:spcBef>
                <a:spcPts val="45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Seqno wrap</a:t>
            </a:r>
            <a:endParaRPr b="0" lang="en-US" sz="1800" spc="-1" strike="noStrike">
              <a:solidFill>
                <a:srgbClr val="99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Constants</a:t>
            </a:r>
            <a:endParaRPr b="0" lang="en-US" sz="2000" spc="-1" strike="noStrike">
              <a:solidFill>
                <a:srgbClr val="990000"/>
              </a:solidFill>
              <a:latin typeface="Tahoma"/>
            </a:endParaRPr>
          </a:p>
          <a:p>
            <a:pPr lvl="1" marL="676080" indent="-259920">
              <a:spcBef>
                <a:spcPts val="45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(change based on discussion)</a:t>
            </a:r>
            <a:endParaRPr b="0" lang="en-US" sz="1800" spc="-1" strike="noStrike">
              <a:solidFill>
                <a:srgbClr val="99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False positives </a:t>
            </a:r>
            <a:endParaRPr b="0" lang="en-US" sz="2000" spc="-1" strike="noStrike">
              <a:solidFill>
                <a:srgbClr val="990000"/>
              </a:solidFill>
              <a:latin typeface="Tahoma"/>
            </a:endParaRPr>
          </a:p>
          <a:p>
            <a:pPr lvl="1" marL="676080" indent="-259920">
              <a:spcBef>
                <a:spcPts val="45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Due to reordering</a:t>
            </a:r>
            <a:endParaRPr b="0" lang="en-US" sz="1800" spc="-1" strike="noStrike">
              <a:solidFill>
                <a:srgbClr val="99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Granularity</a:t>
            </a:r>
            <a:endParaRPr b="0" lang="en-US" sz="2000" spc="-1" strike="noStrike">
              <a:solidFill>
                <a:srgbClr val="990000"/>
              </a:solidFill>
              <a:latin typeface="Tahoma"/>
            </a:endParaRPr>
          </a:p>
          <a:p>
            <a:pPr lvl="1" marL="676080" indent="-259920">
              <a:spcBef>
                <a:spcPts val="45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Per machine, interface, subnet</a:t>
            </a:r>
            <a:endParaRPr b="0" lang="en-US" sz="1800" spc="-1" strike="noStrike">
              <a:solidFill>
                <a:srgbClr val="99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Additional state</a:t>
            </a:r>
            <a:endParaRPr b="0" lang="en-US" sz="2000" spc="-1" strike="noStrike">
              <a:solidFill>
                <a:srgbClr val="990000"/>
              </a:solidFill>
              <a:latin typeface="Tahoma"/>
            </a:endParaRPr>
          </a:p>
          <a:p>
            <a:pPr lvl="1" marL="676080" indent="-259920">
              <a:spcBef>
                <a:spcPts val="45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Per-conn – ISN, seqno wrap</a:t>
            </a:r>
            <a:endParaRPr b="0" lang="en-US" sz="1800" spc="-1" strike="noStrike">
              <a:solidFill>
                <a:srgbClr val="990000"/>
              </a:solidFill>
              <a:latin typeface="Tahoma"/>
            </a:endParaRPr>
          </a:p>
          <a:p>
            <a:pPr lvl="1" marL="676080" indent="-259920">
              <a:spcBef>
                <a:spcPts val="4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Across reboots (what if not available?)</a:t>
            </a:r>
            <a:endParaRPr b="0" lang="en-US" sz="1600" spc="-1" strike="noStrike">
              <a:solidFill>
                <a:srgbClr val="99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22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B5A4-4846-4B21-89B1-9BEE644B339C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036046EA-7AC7-40B0-908C-18CF97DA67B5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10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6EFF-4A0C-4794-84AC-41D04CF63B97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07:17:19Z</dcterms:created>
  <dc:creator>Joseph D. Touch</dc:creator>
  <dc:description/>
  <dc:language>en-US</dc:language>
  <cp:lastModifiedBy>touch</cp:lastModifiedBy>
  <cp:lastPrinted>1999-12-13T07:41:19Z</cp:lastPrinted>
  <dcterms:modified xsi:type="dcterms:W3CDTF">2011-11-12T23:25:15Z</dcterms:modified>
  <cp:revision>232</cp:revision>
  <dc:subject/>
  <dc:title>draft-touch-trill-prob-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 Author">
    <vt:lpwstr>Joe Touch</vt:lpwstr>
  </property>
  <property fmtid="{D5CDD505-2E9C-101B-9397-08002B2CF9AE}" pid="3" name="Template Date">
    <vt:lpwstr>Oct. 16, 2002</vt:lpwstr>
  </property>
</Properties>
</file>