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AF4E8-2CD4-44F0-98EC-96780667B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8559-65A1-4EE2-A27B-3AA43E8E3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8CA55-3EA0-411B-A21E-8AD3AB908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83326-B9D1-4F13-AFBC-F510BD77F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F3F5B-DDBC-4CB8-8C24-8EE0367B3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D9D17-0CF1-4256-94CF-1A375D25C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035-25ED-4F13-A63E-082EC779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B08-B655-4874-B366-5511612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FCA-1C37-423C-A73A-62870CE8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263-0139-461C-970E-20672DDC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1D1-3B81-46F2-8767-19686EE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647-BB5B-4ACF-B171-89D2E2D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301-2173-4831-8961-F643DBD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47A-1151-4FB6-8200-5AC5085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81E-5023-4178-AA7D-3C9D9DA7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374-0CA8-484B-8EE1-0BD3409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7DB-4CDB-4679-8904-7736504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98E-6896-4BEF-ADDE-F64FF1AD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D055F-DAFA-49E3-A25F-89D0DB9B9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Fine Grained Label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934FC-3690-4EE8-8AAC-57FCEC5A0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Fine Grained Labe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label TRILL data with &gt;4K lab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s on Ethernet links still have regular VLAN labels with 12-bit VLAN IDs. Appointed Forwarder still in terms of V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tailed presentation was given at the last IETF meeting in Quebec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eastlake-trill-rbridge-fine-labeling-02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D8042-9293-4207-BB5F-3D0510538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Fine Grained Labe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st new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EE Registration Authority has granted EtherType 0x893B for use in TRILL fine-grained lab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EC015-DF9C-431E-B21D-595CAE0E8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4EA1D-D2B3-4BEF-8BC2-C5CEE9280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522440" y="15336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pecific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289320" y="2057400"/>
            <a:ext cx="1776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F,M,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522440" y="30416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Ma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522440" y="356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Mac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522440" y="51354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pecific Tr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522440" y="4611600"/>
            <a:ext cx="4003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522440" y="40878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1522440" y="25304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ess  |  I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"/>
          <p:cNvCxnSpPr/>
          <p:nvPr/>
        </p:nvCxnSpPr>
        <p:spPr>
          <a:xfrm flipH="1">
            <a:off x="5186160" y="2859120"/>
            <a:ext cx="1729440" cy="13644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7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5526000" y="1843200"/>
            <a:ext cx="316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ader Flag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0 -&gt; Inner.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1 -&gt; Inner.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-tag + EX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urrent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-tag + C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918BC-F06E-499F-AEE4-BDF2DE6B3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-tag + EX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backwards 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of legacy RBridges in the same network fully specified in current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 header flag (or EtherType stripping on input and look-ahead on par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42F08-A5DE-4022-A0F9-5F1F778C6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-tag + C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software/firmwar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need to work out how to isolate legacy RBridges, which might drop new frames, in a cam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eader flag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2886-97B4-4DF0-BE83-3F96D9C32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696C4-F3B5-44FE-B592-4E221F371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11-10T20:51:06Z</dcterms:modified>
  <cp:revision>82</cp:revision>
  <dc:subject/>
  <dc:title>TRILL Option Improvements</dc:title>
</cp:coreProperties>
</file>