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33DB4-020E-4238-A2EF-E2B82EB94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64DF8-5B2D-4410-BB38-A62382A59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E8A96-C77C-465D-BD0A-902440E7B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A11FC-674F-494F-9874-326A9302F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4767B-B9A2-4A78-8173-F77C70233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BCB5E-D4C5-4E1D-9AC6-3B4CCFCAD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E25-884C-4EAB-8F6C-74A0EB39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A81-A466-455F-B065-03ABD5B2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9EA-CB12-4B26-8F4D-0DA446CF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EC9-A3CE-4B14-9785-1C50B5A5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01D-BB34-4D31-83E4-77C0B1B3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10F-0A3C-4D4D-9D98-F9D70912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FC2-7B29-42A9-9193-A2831F3E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AF8-C80F-401D-8D15-D77E2E3A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DC5-0494-47A9-8D7B-4F2318E8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CFF-29FC-4D86-BEAF-5EDD29DF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717-CFC5-4A9E-AFF8-D242FD3C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DB3-8301-4BCC-AB85-B5A4CF47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6A87D-87D4-40AB-AD01-07D25DFD7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2130120"/>
            <a:ext cx="797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TRILL Fine Grained Label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4000" spc="-1" strike="noStrike" baseline="30000">
                <a:solidFill>
                  <a:srgbClr val="898989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uawei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3e3e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23536-1ABF-4BB8-8DB5-FAFD8F7CD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Fine Grained Labe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y to label TRILL data with &gt;4K lab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mes on Ethernet links still have regular VLAN labels with 12-bit VLAN IDs. Appointed Forwarder still in terms of VL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tailed presentation was given at the last IETF meeting in Quebec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eastlake-trill-rbridge-fine-labeling-02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07BA2-C082-4E00-8837-E8F1A603B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Fine Grained Labe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test new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EE Registration Authority has granted EtherType 0x893B for use in TRILL fine-grained labe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1DAF3-1707-486B-93D6-6544691A7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TRILL Label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BC6F9-FFD9-4090-8E13-65B0EAFB0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1522440" y="15336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Specific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3289320" y="2057400"/>
            <a:ext cx="1776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,F,M,T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1522440" y="304164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.Mac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1522440" y="35640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.Mac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1522440" y="51354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Specific Tra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1522440" y="4611600"/>
            <a:ext cx="40035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1522440" y="40878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.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1522440" y="253044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ress  |  I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6"/>
          <p:cNvCxnSpPr/>
          <p:nvPr/>
        </p:nvCxnSpPr>
        <p:spPr>
          <a:xfrm flipH="1">
            <a:off x="5186160" y="2859120"/>
            <a:ext cx="1729440" cy="136440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75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5526000" y="1843200"/>
            <a:ext cx="316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ader Flag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0 -&gt; Inner.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1 -&gt; Inner.L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RILL Label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son o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-tag + EX-ta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urrent d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-tag + C-ta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lter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5F2D4-0765-4FB9-9D69-9E2B1550E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RILL Label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-tag + EX-ta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imum backwards compat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ing of legacy RBridges in the same network fully specified in current d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a header flag (or EtherType stripping on input and look-ahead on pars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869AE-180A-4E4E-A3D3-8F985F144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RILL Label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-tag + C-ta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software/firmware up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need to work out how to isolate legacy RBridges, which might drop new frames, in a camp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header flag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1333D-F623-4922-9D1B-0A60C2839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3366ff"/>
                </a:solidFill>
                <a:latin typeface="Calibri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3600" spc="-1" strike="noStrike" baseline="30000">
                <a:solidFill>
                  <a:srgbClr val="898989"/>
                </a:solidFill>
                <a:latin typeface="Calibri"/>
              </a:rPr>
              <a:t>rd</a:t>
            </a: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Huawei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3e3e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B0C08-8D62-4712-820F-D4B249643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3:30:53Z</dcterms:created>
  <dc:creator>Donald Eastlake</dc:creator>
  <dc:description/>
  <dc:language>en-US</dc:language>
  <cp:lastModifiedBy>Donald Eastlake III</cp:lastModifiedBy>
  <dcterms:modified xsi:type="dcterms:W3CDTF">2011-11-10T20:51:06Z</dcterms:modified>
  <cp:revision>82</cp:revision>
  <dc:subject/>
  <dc:title>TRILL Option Improvements</dc:title>
</cp:coreProperties>
</file>