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8AC01D-3B59-4756-A4D4-1C1887DFA2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E3DF51-F71D-44E4-B3E0-6724A020D8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FFD434-E169-43FD-9646-238EA171A9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57DA-1954-4B81-B42D-AD70DC74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1AEB-ECA0-42AE-B36A-167EAFA4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B4E7-0EFE-44D6-9A02-A3C93CDB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2F7D-FFE9-4C55-8280-44CB8D6E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D77F-0463-43C5-AD92-CED11A39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76B7-09B6-40BA-BBD6-49568C3A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6E52-A5FE-4DC5-884F-AECF8A41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000B-3904-40FE-96C0-AB4545FC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8F88-D26A-493F-BEC5-CDF53533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04DF-D372-4B24-B860-C0C48E8C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B5D9-954D-4D77-BD4A-AB685C00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A2EB-F9B2-4273-80FD-9C6797A7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28002A-9019-4FBC-84D7-61AF36642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2130120"/>
            <a:ext cx="7972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alibri"/>
              </a:rPr>
              <a:t>TRILL Header Extens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Donald Eastlake 3</a:t>
            </a:r>
            <a:r>
              <a:rPr b="0" lang="en-US" sz="4000" spc="-1" strike="noStrike" baseline="30000">
                <a:solidFill>
                  <a:srgbClr val="898989"/>
                </a:solidFill>
                <a:latin typeface="Calibri"/>
              </a:rPr>
              <a:t>rd</a:t>
            </a: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uawei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3e3e3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0E50E1-5653-41F3-BCF8-7C7016A85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RILL Data Fram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ECDC95-73C0-4176-B7D6-03BB1AE1DF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1522440" y="1596960"/>
            <a:ext cx="3543120" cy="58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1522440" y="3164040"/>
            <a:ext cx="35431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Ethernet 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1522440" y="3686040"/>
            <a:ext cx="35431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Ethernet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1522440" y="5257800"/>
            <a:ext cx="3543120" cy="58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Trai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1522440" y="4734000"/>
            <a:ext cx="35431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1522440" y="4210200"/>
            <a:ext cx="35431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AN 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eft Brace 13"/>
          <p:cNvSpPr/>
          <p:nvPr/>
        </p:nvSpPr>
        <p:spPr>
          <a:xfrm>
            <a:off x="5581800" y="2732040"/>
            <a:ext cx="293400" cy="812880"/>
          </a:xfrm>
          <a:custGeom>
            <a:avLst/>
            <a:gdLst>
              <a:gd name="textAreaLeft" fmla="*/ 187560 w 293400"/>
              <a:gd name="textAreaRight" fmla="*/ 293760 w 293400"/>
              <a:gd name="textAreaTop" fmla="*/ 34920 h 812880"/>
              <a:gd name="textAreaBottom" fmla="*/ 777960 h 81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86"/>
                  <a:pt x="10800" y="2971"/>
                </a:cubicBezTo>
                <a:lnTo>
                  <a:pt x="10800" y="7586"/>
                </a:lnTo>
                <a:cubicBezTo>
                  <a:pt x="10800" y="9072"/>
                  <a:pt x="5400" y="10557"/>
                  <a:pt x="0" y="10557"/>
                </a:cubicBezTo>
                <a:cubicBezTo>
                  <a:pt x="5400" y="10557"/>
                  <a:pt x="10800" y="12043"/>
                  <a:pt x="10800" y="13528"/>
                </a:cubicBezTo>
                <a:lnTo>
                  <a:pt x="10800" y="18629"/>
                </a:lnTo>
                <a:cubicBezTo>
                  <a:pt x="10800" y="2011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5875200" y="2714760"/>
            <a:ext cx="209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er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2814480" y="2179800"/>
            <a:ext cx="225108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,F,M,EXT,T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1522440" y="2652840"/>
            <a:ext cx="35431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ress  |  I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Header Extens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s discussed at the last meeting and on the mailing list, a simplified extract from the trill-rbridge-options draft is now a separate WG docume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ops Flow ID and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word of flags for n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F9546-6994-4AF1-9201-F6EB5C379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Header Extens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2BDC5B-8C73-4022-9870-F34903825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1790640" y="1897200"/>
            <a:ext cx="550692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aft-ietf-trill-rbridge-options-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0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457200" y="3900600"/>
            <a:ext cx="581508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aft-ietf-trill-rbridge-extension-00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178080" y="5094360"/>
            <a:ext cx="550872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aft-ietf-trill-rbridge-options-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0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ight Brace 3"/>
          <p:cNvSpPr/>
          <p:nvPr/>
        </p:nvSpPr>
        <p:spPr>
          <a:xfrm rot="16200000">
            <a:off x="4921200" y="1654200"/>
            <a:ext cx="711360" cy="3155760"/>
          </a:xfrm>
          <a:custGeom>
            <a:avLst/>
            <a:gdLst>
              <a:gd name="textAreaLeft" fmla="*/ 0 w 711360"/>
              <a:gd name="textAreaRight" fmla="*/ 256680 w 711360"/>
              <a:gd name="textAreaTop" fmla="*/ 70920 h 3155760"/>
              <a:gd name="textAreaBottom" fmla="*/ 3084840 h 315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9"/>
                  <a:pt x="10800" y="1558"/>
                </a:cubicBezTo>
                <a:lnTo>
                  <a:pt x="10800" y="9242"/>
                </a:lnTo>
                <a:cubicBezTo>
                  <a:pt x="10800" y="10021"/>
                  <a:pt x="16200" y="10800"/>
                  <a:pt x="21600" y="10800"/>
                </a:cubicBezTo>
                <a:cubicBezTo>
                  <a:pt x="16200" y="10800"/>
                  <a:pt x="10800" y="11579"/>
                  <a:pt x="10800" y="12358"/>
                </a:cubicBezTo>
                <a:lnTo>
                  <a:pt x="10800" y="20042"/>
                </a:lnTo>
                <a:cubicBezTo>
                  <a:pt x="10800" y="2082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5"/>
          <p:cNvSpPr/>
          <p:nvPr/>
        </p:nvSpPr>
        <p:spPr>
          <a:xfrm>
            <a:off x="5276880" y="2666880"/>
            <a:ext cx="0" cy="209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13"/>
          <p:cNvSpPr/>
          <p:nvPr/>
        </p:nvSpPr>
        <p:spPr>
          <a:xfrm>
            <a:off x="3695760" y="3587760"/>
            <a:ext cx="0" cy="312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16"/>
          <p:cNvSpPr/>
          <p:nvPr/>
        </p:nvSpPr>
        <p:spPr>
          <a:xfrm>
            <a:off x="6854760" y="3578400"/>
            <a:ext cx="0" cy="151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roposed Header Extended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Flag B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t if Ext/OpLng in TRILL Header &gt;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8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27070-7118-4D34-BB57-D562FE9C2B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2417760"/>
            <a:ext cx="2050920" cy="6066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508120" y="2417760"/>
            <a:ext cx="2051280" cy="6066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4559400" y="2417760"/>
            <a:ext cx="2050920" cy="6066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610320" y="2417760"/>
            <a:ext cx="2050920" cy="6066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7"/>
          <p:cNvSpPr/>
          <p:nvPr/>
        </p:nvSpPr>
        <p:spPr>
          <a:xfrm flipH="1">
            <a:off x="7635960" y="2759040"/>
            <a:ext cx="144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8"/>
          <p:cNvSpPr/>
          <p:nvPr/>
        </p:nvSpPr>
        <p:spPr>
          <a:xfrm flipH="1">
            <a:off x="5592240" y="2759040"/>
            <a:ext cx="180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9"/>
          <p:cNvSpPr/>
          <p:nvPr/>
        </p:nvSpPr>
        <p:spPr>
          <a:xfrm flipH="1">
            <a:off x="3529080" y="2752560"/>
            <a:ext cx="144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0"/>
          <p:cNvSpPr/>
          <p:nvPr/>
        </p:nvSpPr>
        <p:spPr>
          <a:xfrm flipH="1">
            <a:off x="1490760" y="2759040"/>
            <a:ext cx="144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713088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12"/>
          <p:cNvSpPr/>
          <p:nvPr/>
        </p:nvSpPr>
        <p:spPr>
          <a:xfrm>
            <a:off x="687564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3"/>
          <p:cNvSpPr/>
          <p:nvPr/>
        </p:nvSpPr>
        <p:spPr>
          <a:xfrm>
            <a:off x="737568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14"/>
          <p:cNvSpPr/>
          <p:nvPr/>
        </p:nvSpPr>
        <p:spPr>
          <a:xfrm>
            <a:off x="610560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15"/>
          <p:cNvSpPr/>
          <p:nvPr/>
        </p:nvSpPr>
        <p:spPr>
          <a:xfrm>
            <a:off x="585000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16"/>
          <p:cNvSpPr/>
          <p:nvPr/>
        </p:nvSpPr>
        <p:spPr>
          <a:xfrm>
            <a:off x="635004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7"/>
          <p:cNvSpPr/>
          <p:nvPr/>
        </p:nvSpPr>
        <p:spPr>
          <a:xfrm>
            <a:off x="5079960" y="282240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18"/>
          <p:cNvSpPr/>
          <p:nvPr/>
        </p:nvSpPr>
        <p:spPr>
          <a:xfrm>
            <a:off x="4824360" y="2822400"/>
            <a:ext cx="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19"/>
          <p:cNvSpPr/>
          <p:nvPr/>
        </p:nvSpPr>
        <p:spPr>
          <a:xfrm>
            <a:off x="5324400" y="282240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20"/>
          <p:cNvSpPr/>
          <p:nvPr/>
        </p:nvSpPr>
        <p:spPr>
          <a:xfrm>
            <a:off x="404352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21"/>
          <p:cNvSpPr/>
          <p:nvPr/>
        </p:nvSpPr>
        <p:spPr>
          <a:xfrm>
            <a:off x="378612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22"/>
          <p:cNvSpPr/>
          <p:nvPr/>
        </p:nvSpPr>
        <p:spPr>
          <a:xfrm>
            <a:off x="428796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23"/>
          <p:cNvSpPr/>
          <p:nvPr/>
        </p:nvSpPr>
        <p:spPr>
          <a:xfrm>
            <a:off x="304164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24"/>
          <p:cNvSpPr/>
          <p:nvPr/>
        </p:nvSpPr>
        <p:spPr>
          <a:xfrm>
            <a:off x="278460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25"/>
          <p:cNvSpPr/>
          <p:nvPr/>
        </p:nvSpPr>
        <p:spPr>
          <a:xfrm>
            <a:off x="328608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26"/>
          <p:cNvSpPr/>
          <p:nvPr/>
        </p:nvSpPr>
        <p:spPr>
          <a:xfrm>
            <a:off x="813276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27"/>
          <p:cNvSpPr/>
          <p:nvPr/>
        </p:nvSpPr>
        <p:spPr>
          <a:xfrm>
            <a:off x="787716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28"/>
          <p:cNvSpPr/>
          <p:nvPr/>
        </p:nvSpPr>
        <p:spPr>
          <a:xfrm>
            <a:off x="837720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29"/>
          <p:cNvSpPr/>
          <p:nvPr/>
        </p:nvSpPr>
        <p:spPr>
          <a:xfrm>
            <a:off x="200340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30"/>
          <p:cNvSpPr/>
          <p:nvPr/>
        </p:nvSpPr>
        <p:spPr>
          <a:xfrm>
            <a:off x="174780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31"/>
          <p:cNvSpPr/>
          <p:nvPr/>
        </p:nvSpPr>
        <p:spPr>
          <a:xfrm>
            <a:off x="2249640" y="2943360"/>
            <a:ext cx="0" cy="81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32"/>
          <p:cNvSpPr/>
          <p:nvPr/>
        </p:nvSpPr>
        <p:spPr>
          <a:xfrm>
            <a:off x="944640" y="2417760"/>
            <a:ext cx="0" cy="60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33"/>
          <p:cNvSpPr/>
          <p:nvPr/>
        </p:nvSpPr>
        <p:spPr>
          <a:xfrm>
            <a:off x="687240" y="2417760"/>
            <a:ext cx="0" cy="59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34"/>
          <p:cNvSpPr/>
          <p:nvPr/>
        </p:nvSpPr>
        <p:spPr>
          <a:xfrm>
            <a:off x="118908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1"/>
          <p:cNvSpPr/>
          <p:nvPr/>
        </p:nvSpPr>
        <p:spPr>
          <a:xfrm rot="16200000">
            <a:off x="1170720" y="387396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. H-b-H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eft Brace 42"/>
          <p:cNvSpPr/>
          <p:nvPr/>
        </p:nvSpPr>
        <p:spPr>
          <a:xfrm rot="16200000">
            <a:off x="3304440" y="2534040"/>
            <a:ext cx="219240" cy="1258920"/>
          </a:xfrm>
          <a:custGeom>
            <a:avLst/>
            <a:gdLst>
              <a:gd name="textAreaLeft" fmla="*/ 140040 w 219240"/>
              <a:gd name="textAreaRight" fmla="*/ 219600 w 219240"/>
              <a:gd name="textAreaTop" fmla="*/ 25920 h 1258920"/>
              <a:gd name="textAreaBottom" fmla="*/ 1233000 h 12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16"/>
                  <a:pt x="10800" y="1431"/>
                </a:cubicBezTo>
                <a:lnTo>
                  <a:pt x="10800" y="9126"/>
                </a:lnTo>
                <a:cubicBezTo>
                  <a:pt x="10800" y="9842"/>
                  <a:pt x="5400" y="10557"/>
                  <a:pt x="0" y="10557"/>
                </a:cubicBezTo>
                <a:cubicBezTo>
                  <a:pt x="5400" y="10557"/>
                  <a:pt x="10800" y="11273"/>
                  <a:pt x="10800" y="11988"/>
                </a:cubicBezTo>
                <a:lnTo>
                  <a:pt x="10800" y="20169"/>
                </a:lnTo>
                <a:cubicBezTo>
                  <a:pt x="10800" y="2088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3"/>
          <p:cNvSpPr/>
          <p:nvPr/>
        </p:nvSpPr>
        <p:spPr>
          <a:xfrm flipH="1">
            <a:off x="812520" y="2752560"/>
            <a:ext cx="4680" cy="282276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44"/>
          <p:cNvSpPr/>
          <p:nvPr/>
        </p:nvSpPr>
        <p:spPr>
          <a:xfrm>
            <a:off x="812880" y="5575320"/>
            <a:ext cx="9349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45"/>
          <p:cNvSpPr/>
          <p:nvPr/>
        </p:nvSpPr>
        <p:spPr>
          <a:xfrm>
            <a:off x="572400" y="2759040"/>
            <a:ext cx="4680" cy="3129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46"/>
          <p:cNvSpPr/>
          <p:nvPr/>
        </p:nvSpPr>
        <p:spPr>
          <a:xfrm>
            <a:off x="577800" y="5888160"/>
            <a:ext cx="1170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0"/>
          <p:cNvSpPr/>
          <p:nvPr/>
        </p:nvSpPr>
        <p:spPr>
          <a:xfrm>
            <a:off x="1758960" y="5700600"/>
            <a:ext cx="33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ritical Hop-by-Hop Summary B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1"/>
          <p:cNvSpPr/>
          <p:nvPr/>
        </p:nvSpPr>
        <p:spPr>
          <a:xfrm>
            <a:off x="1747800" y="5392800"/>
            <a:ext cx="357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ritical Ingress-to-Egress Summary B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57"/>
          <p:cNvSpPr/>
          <p:nvPr/>
        </p:nvSpPr>
        <p:spPr>
          <a:xfrm>
            <a:off x="1090440" y="2751120"/>
            <a:ext cx="0" cy="2487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60"/>
          <p:cNvSpPr/>
          <p:nvPr/>
        </p:nvSpPr>
        <p:spPr>
          <a:xfrm>
            <a:off x="1090440" y="5237280"/>
            <a:ext cx="42408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2"/>
          <p:cNvSpPr/>
          <p:nvPr/>
        </p:nvSpPr>
        <p:spPr>
          <a:xfrm>
            <a:off x="1509840" y="5021280"/>
            <a:ext cx="40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ritical Reserved RBridge Summary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eft Brace 90"/>
          <p:cNvSpPr/>
          <p:nvPr/>
        </p:nvSpPr>
        <p:spPr>
          <a:xfrm rot="16200000">
            <a:off x="1870200" y="2379600"/>
            <a:ext cx="233280" cy="1595520"/>
          </a:xfrm>
          <a:custGeom>
            <a:avLst/>
            <a:gdLst>
              <a:gd name="textAreaLeft" fmla="*/ 149040 w 233280"/>
              <a:gd name="textAreaRight" fmla="*/ 233640 w 233280"/>
              <a:gd name="textAreaTop" fmla="*/ 27720 h 1595520"/>
              <a:gd name="textAreaBottom" fmla="*/ 1567800 h 159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02"/>
                  <a:pt x="10800" y="1203"/>
                </a:cubicBezTo>
                <a:lnTo>
                  <a:pt x="10800" y="9354"/>
                </a:lnTo>
                <a:cubicBezTo>
                  <a:pt x="10800" y="9956"/>
                  <a:pt x="5400" y="10557"/>
                  <a:pt x="0" y="10557"/>
                </a:cubicBezTo>
                <a:cubicBezTo>
                  <a:pt x="5400" y="10557"/>
                  <a:pt x="10800" y="11159"/>
                  <a:pt x="10800" y="11760"/>
                </a:cubicBezTo>
                <a:lnTo>
                  <a:pt x="10800" y="20397"/>
                </a:lnTo>
                <a:cubicBezTo>
                  <a:pt x="10800" y="209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eft Brace 91"/>
          <p:cNvSpPr/>
          <p:nvPr/>
        </p:nvSpPr>
        <p:spPr>
          <a:xfrm rot="16200000">
            <a:off x="6608880" y="2521080"/>
            <a:ext cx="263520" cy="1270080"/>
          </a:xfrm>
          <a:custGeom>
            <a:avLst/>
            <a:gdLst>
              <a:gd name="textAreaLeft" fmla="*/ 168480 w 263520"/>
              <a:gd name="textAreaRight" fmla="*/ 263880 w 263520"/>
              <a:gd name="textAreaTop" fmla="*/ 31320 h 1270080"/>
              <a:gd name="textAreaBottom" fmla="*/ 1238760 h 127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3"/>
                  <a:pt x="10800" y="1706"/>
                </a:cubicBezTo>
                <a:lnTo>
                  <a:pt x="10800" y="8851"/>
                </a:lnTo>
                <a:cubicBezTo>
                  <a:pt x="10800" y="9704"/>
                  <a:pt x="5400" y="10557"/>
                  <a:pt x="0" y="10557"/>
                </a:cubicBezTo>
                <a:cubicBezTo>
                  <a:pt x="5400" y="10557"/>
                  <a:pt x="10800" y="11410"/>
                  <a:pt x="10800" y="12263"/>
                </a:cubicBezTo>
                <a:lnTo>
                  <a:pt x="10800" y="19894"/>
                </a:lnTo>
                <a:cubicBezTo>
                  <a:pt x="10800" y="2074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1"/>
          <p:cNvSpPr/>
          <p:nvPr/>
        </p:nvSpPr>
        <p:spPr>
          <a:xfrm rot="16200000">
            <a:off x="2564640" y="3907440"/>
            <a:ext cx="16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C. H-b-H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1"/>
          <p:cNvSpPr/>
          <p:nvPr/>
        </p:nvSpPr>
        <p:spPr>
          <a:xfrm rot="16200000">
            <a:off x="6036480" y="3800880"/>
            <a:ext cx="13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. I-t-E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1"/>
          <p:cNvSpPr/>
          <p:nvPr/>
        </p:nvSpPr>
        <p:spPr>
          <a:xfrm rot="16200000">
            <a:off x="7320600" y="3780360"/>
            <a:ext cx="13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C. I-t-E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eft Brace 69"/>
          <p:cNvSpPr/>
          <p:nvPr/>
        </p:nvSpPr>
        <p:spPr>
          <a:xfrm rot="16200000">
            <a:off x="7896960" y="2529360"/>
            <a:ext cx="243000" cy="1285560"/>
          </a:xfrm>
          <a:custGeom>
            <a:avLst/>
            <a:gdLst>
              <a:gd name="textAreaLeft" fmla="*/ 155160 w 243000"/>
              <a:gd name="textAreaRight" fmla="*/ 243360 w 243000"/>
              <a:gd name="textAreaTop" fmla="*/ 28800 h 1285560"/>
              <a:gd name="textAreaBottom" fmla="*/ 1256760 h 128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7"/>
                  <a:pt x="10800" y="1553"/>
                </a:cubicBezTo>
                <a:lnTo>
                  <a:pt x="10800" y="9004"/>
                </a:lnTo>
                <a:cubicBezTo>
                  <a:pt x="10800" y="9781"/>
                  <a:pt x="5400" y="10557"/>
                  <a:pt x="0" y="10557"/>
                </a:cubicBezTo>
                <a:cubicBezTo>
                  <a:pt x="5400" y="10557"/>
                  <a:pt x="10800" y="11334"/>
                  <a:pt x="10800" y="12110"/>
                </a:cubicBezTo>
                <a:lnTo>
                  <a:pt x="10800" y="20047"/>
                </a:lnTo>
                <a:cubicBezTo>
                  <a:pt x="10800" y="2082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ight Brace 1"/>
          <p:cNvSpPr/>
          <p:nvPr/>
        </p:nvSpPr>
        <p:spPr>
          <a:xfrm>
            <a:off x="5079960" y="5405400"/>
            <a:ext cx="360360" cy="646200"/>
          </a:xfrm>
          <a:custGeom>
            <a:avLst/>
            <a:gdLst>
              <a:gd name="textAreaLeft" fmla="*/ 0 w 360360"/>
              <a:gd name="textAreaRight" fmla="*/ 129960 w 360360"/>
              <a:gd name="textAreaTop" fmla="*/ 32760 h 646200"/>
              <a:gd name="textAreaBottom" fmla="*/ 613440 h 64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59"/>
                  <a:pt x="10800" y="3517"/>
                </a:cubicBezTo>
                <a:lnTo>
                  <a:pt x="10800" y="7283"/>
                </a:lnTo>
                <a:cubicBezTo>
                  <a:pt x="10800" y="9042"/>
                  <a:pt x="16200" y="10800"/>
                  <a:pt x="21600" y="10800"/>
                </a:cubicBezTo>
                <a:cubicBezTo>
                  <a:pt x="16200" y="10800"/>
                  <a:pt x="10800" y="12559"/>
                  <a:pt x="10800" y="14317"/>
                </a:cubicBezTo>
                <a:lnTo>
                  <a:pt x="10800" y="18083"/>
                </a:lnTo>
                <a:cubicBezTo>
                  <a:pt x="10800" y="1984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0"/>
          <p:cNvSpPr/>
          <p:nvPr/>
        </p:nvSpPr>
        <p:spPr>
          <a:xfrm>
            <a:off x="5470560" y="5546880"/>
            <a:ext cx="33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pecified in base 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 rot="16200000">
            <a:off x="2276640" y="2480760"/>
            <a:ext cx="7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ate Placeholder 1747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eft Brace 70"/>
          <p:cNvSpPr/>
          <p:nvPr/>
        </p:nvSpPr>
        <p:spPr>
          <a:xfrm rot="16200000">
            <a:off x="5484600" y="2646000"/>
            <a:ext cx="216000" cy="1025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5560 h 1025640"/>
              <a:gd name="textAreaBottom" fmla="*/ 1000080 h 102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6"/>
                  <a:pt x="10800" y="1731"/>
                </a:cubicBezTo>
                <a:lnTo>
                  <a:pt x="10800" y="8826"/>
                </a:lnTo>
                <a:cubicBezTo>
                  <a:pt x="10800" y="9692"/>
                  <a:pt x="5400" y="10557"/>
                  <a:pt x="0" y="10557"/>
                </a:cubicBezTo>
                <a:cubicBezTo>
                  <a:pt x="5400" y="10557"/>
                  <a:pt x="10800" y="11423"/>
                  <a:pt x="10800" y="12288"/>
                </a:cubicBezTo>
                <a:lnTo>
                  <a:pt x="10800" y="19869"/>
                </a:lnTo>
                <a:cubicBezTo>
                  <a:pt x="10800" y="2073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eft Brace 71"/>
          <p:cNvSpPr/>
          <p:nvPr/>
        </p:nvSpPr>
        <p:spPr>
          <a:xfrm rot="16200000">
            <a:off x="4455360" y="2648880"/>
            <a:ext cx="200160" cy="1023840"/>
          </a:xfrm>
          <a:custGeom>
            <a:avLst/>
            <a:gdLst>
              <a:gd name="textAreaLeft" fmla="*/ 127800 w 200160"/>
              <a:gd name="textAreaRight" fmla="*/ 200520 w 200160"/>
              <a:gd name="textAreaTop" fmla="*/ 23760 h 1023840"/>
              <a:gd name="textAreaBottom" fmla="*/ 1000080 h 102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03"/>
                  <a:pt x="10800" y="1606"/>
                </a:cubicBezTo>
                <a:lnTo>
                  <a:pt x="10800" y="8951"/>
                </a:lnTo>
                <a:cubicBezTo>
                  <a:pt x="10800" y="9754"/>
                  <a:pt x="5400" y="10557"/>
                  <a:pt x="0" y="10557"/>
                </a:cubicBezTo>
                <a:cubicBezTo>
                  <a:pt x="5400" y="10557"/>
                  <a:pt x="10800" y="11360"/>
                  <a:pt x="10800" y="12163"/>
                </a:cubicBezTo>
                <a:lnTo>
                  <a:pt x="10800" y="19994"/>
                </a:lnTo>
                <a:cubicBezTo>
                  <a:pt x="10800" y="2079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61"/>
          <p:cNvSpPr/>
          <p:nvPr/>
        </p:nvSpPr>
        <p:spPr>
          <a:xfrm rot="16200000">
            <a:off x="4601160" y="406152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C. Reserved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1"/>
          <p:cNvSpPr/>
          <p:nvPr/>
        </p:nvSpPr>
        <p:spPr>
          <a:xfrm rot="16200000">
            <a:off x="3682080" y="3959640"/>
            <a:ext cx="17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. Reserved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3366ff"/>
                </a:solidFill>
                <a:latin typeface="Calibri"/>
              </a:rPr>
              <a:t>END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Calibri"/>
              </a:rPr>
              <a:t>Donald Eastlake 3</a:t>
            </a:r>
            <a:r>
              <a:rPr b="0" lang="en-US" sz="3600" spc="-1" strike="noStrike" baseline="30000">
                <a:solidFill>
                  <a:srgbClr val="898989"/>
                </a:solidFill>
                <a:latin typeface="Calibri"/>
              </a:rPr>
              <a:t>rd</a:t>
            </a:r>
            <a:r>
              <a:rPr b="0" lang="en-US" sz="36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Huawei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3e3e3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C40A1-83A3-4E67-9653-938E04C9D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03:30:53Z</dcterms:created>
  <dc:creator>Donald Eastlake</dc:creator>
  <dc:description/>
  <dc:language>en-US</dc:language>
  <cp:lastModifiedBy>Donald Eastlake III</cp:lastModifiedBy>
  <dcterms:modified xsi:type="dcterms:W3CDTF">2011-11-15T14:11:57Z</dcterms:modified>
  <cp:revision>71</cp:revision>
  <dc:subject/>
  <dc:title>TRILL Option Improvements</dc:title>
</cp:coreProperties>
</file>