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1545B-CA4D-48C9-A923-3D1E66185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D1D7E-71CE-4D3A-9D6C-B0E3588AA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8A4F1-68CC-42A7-B13C-EC2CB7228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863-B2AB-4B54-ACBA-06828425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0F9-DECE-4084-9D22-C0A1528E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FD7-B219-4A5F-9322-C864E311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7DB-C88C-428C-B702-79771B54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732-A457-48AB-A61F-FDFBE56D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BAA-0C01-4C11-9B50-C1247D7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BD9-E492-4861-9A26-C772F7EB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A61-E7CA-465E-8D3A-48E5AF59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0B3-6DF3-4C9A-B12E-F4B8F4E0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BF9-1F7A-42FE-B02C-B004D33F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384-DDCB-4E29-8B0F-C0429F56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D42-8636-451D-9949-6F207863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0C248-6C4E-4616-AEE4-0E5CBFD57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2130120"/>
            <a:ext cx="797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TRILL Header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40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99FA8-59F4-45D5-9688-7AF0C3E5F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Data Fram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2C791-152B-43A6-AB68-1E62C274A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522440" y="1596960"/>
            <a:ext cx="354312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522440" y="31640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Ethernet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1522440" y="36860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Ethernet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1522440" y="5257800"/>
            <a:ext cx="354312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522440" y="47340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522440" y="42102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eft Brace 13"/>
          <p:cNvSpPr/>
          <p:nvPr/>
        </p:nvSpPr>
        <p:spPr>
          <a:xfrm>
            <a:off x="5581800" y="2732040"/>
            <a:ext cx="293400" cy="812880"/>
          </a:xfrm>
          <a:custGeom>
            <a:avLst/>
            <a:gdLst>
              <a:gd name="textAreaLeft" fmla="*/ 187560 w 293400"/>
              <a:gd name="textAreaRight" fmla="*/ 293760 w 293400"/>
              <a:gd name="textAreaTop" fmla="*/ 34920 h 812880"/>
              <a:gd name="textAreaBottom" fmla="*/ 77796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6"/>
                  <a:pt x="10800" y="2971"/>
                </a:cubicBezTo>
                <a:lnTo>
                  <a:pt x="10800" y="7586"/>
                </a:lnTo>
                <a:cubicBezTo>
                  <a:pt x="10800" y="9072"/>
                  <a:pt x="5400" y="10557"/>
                  <a:pt x="0" y="10557"/>
                </a:cubicBezTo>
                <a:cubicBezTo>
                  <a:pt x="5400" y="10557"/>
                  <a:pt x="10800" y="12043"/>
                  <a:pt x="10800" y="13528"/>
                </a:cubicBezTo>
                <a:lnTo>
                  <a:pt x="10800" y="18629"/>
                </a:lnTo>
                <a:cubicBezTo>
                  <a:pt x="10800" y="2011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5875200" y="2714760"/>
            <a:ext cx="20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2814480" y="2179800"/>
            <a:ext cx="225108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F,M,EXT,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522440" y="26528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ress  |  I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Header Exten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discussed at the last meeting and on the mailing list, a simplified extract from the trill-rbridge-options draft is now a separate WG docu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ops Flow ID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ord of flags for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924B4-38F1-4169-823B-3AB28E990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Header Exten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7A605-1835-47B2-9AA6-3775C18AB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790640" y="1897200"/>
            <a:ext cx="550692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ietf-trill-rbridge-options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57200" y="3900600"/>
            <a:ext cx="581508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ietf-trill-rbridge-extension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178080" y="5094360"/>
            <a:ext cx="550872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ietf-trill-rbridge-options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Brace 3"/>
          <p:cNvSpPr/>
          <p:nvPr/>
        </p:nvSpPr>
        <p:spPr>
          <a:xfrm rot="16200000">
            <a:off x="4921200" y="1654200"/>
            <a:ext cx="711360" cy="3155760"/>
          </a:xfrm>
          <a:custGeom>
            <a:avLst/>
            <a:gdLst>
              <a:gd name="textAreaLeft" fmla="*/ 0 w 711360"/>
              <a:gd name="textAreaRight" fmla="*/ 256680 w 711360"/>
              <a:gd name="textAreaTop" fmla="*/ 70920 h 3155760"/>
              <a:gd name="textAreaBottom" fmla="*/ 3084840 h 31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9"/>
                  <a:pt x="10800" y="1558"/>
                </a:cubicBezTo>
                <a:lnTo>
                  <a:pt x="10800" y="9242"/>
                </a:lnTo>
                <a:cubicBezTo>
                  <a:pt x="10800" y="10021"/>
                  <a:pt x="16200" y="10800"/>
                  <a:pt x="21600" y="10800"/>
                </a:cubicBezTo>
                <a:cubicBezTo>
                  <a:pt x="16200" y="10800"/>
                  <a:pt x="10800" y="11579"/>
                  <a:pt x="10800" y="12358"/>
                </a:cubicBezTo>
                <a:lnTo>
                  <a:pt x="10800" y="20042"/>
                </a:lnTo>
                <a:cubicBezTo>
                  <a:pt x="10800" y="2082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5"/>
          <p:cNvSpPr/>
          <p:nvPr/>
        </p:nvSpPr>
        <p:spPr>
          <a:xfrm>
            <a:off x="5276880" y="2666880"/>
            <a:ext cx="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3"/>
          <p:cNvSpPr/>
          <p:nvPr/>
        </p:nvSpPr>
        <p:spPr>
          <a:xfrm>
            <a:off x="3695760" y="3587760"/>
            <a:ext cx="0" cy="31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"/>
          <p:cNvSpPr/>
          <p:nvPr/>
        </p:nvSpPr>
        <p:spPr>
          <a:xfrm>
            <a:off x="6854760" y="3578400"/>
            <a:ext cx="0" cy="151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posed Header Extended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lag B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if Ext/OpLng in TRILL Header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8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0EB62-3EDF-4F61-B63D-32DA4920D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508120" y="2417760"/>
            <a:ext cx="205128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5594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61032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7"/>
          <p:cNvSpPr/>
          <p:nvPr/>
        </p:nvSpPr>
        <p:spPr>
          <a:xfrm flipH="1">
            <a:off x="76359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"/>
          <p:cNvSpPr/>
          <p:nvPr/>
        </p:nvSpPr>
        <p:spPr>
          <a:xfrm flipH="1">
            <a:off x="5592240" y="2759040"/>
            <a:ext cx="180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 flipH="1">
            <a:off x="3529080" y="275256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14907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71308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2"/>
          <p:cNvSpPr/>
          <p:nvPr/>
        </p:nvSpPr>
        <p:spPr>
          <a:xfrm>
            <a:off x="687564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3"/>
          <p:cNvSpPr/>
          <p:nvPr/>
        </p:nvSpPr>
        <p:spPr>
          <a:xfrm>
            <a:off x="73756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4"/>
          <p:cNvSpPr/>
          <p:nvPr/>
        </p:nvSpPr>
        <p:spPr>
          <a:xfrm>
            <a:off x="61056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15"/>
          <p:cNvSpPr/>
          <p:nvPr/>
        </p:nvSpPr>
        <p:spPr>
          <a:xfrm>
            <a:off x="58500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6"/>
          <p:cNvSpPr/>
          <p:nvPr/>
        </p:nvSpPr>
        <p:spPr>
          <a:xfrm>
            <a:off x="63500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7"/>
          <p:cNvSpPr/>
          <p:nvPr/>
        </p:nvSpPr>
        <p:spPr>
          <a:xfrm>
            <a:off x="507996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8"/>
          <p:cNvSpPr/>
          <p:nvPr/>
        </p:nvSpPr>
        <p:spPr>
          <a:xfrm>
            <a:off x="4824360" y="282240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9"/>
          <p:cNvSpPr/>
          <p:nvPr/>
        </p:nvSpPr>
        <p:spPr>
          <a:xfrm>
            <a:off x="532440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0"/>
          <p:cNvSpPr/>
          <p:nvPr/>
        </p:nvSpPr>
        <p:spPr>
          <a:xfrm>
            <a:off x="404352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21"/>
          <p:cNvSpPr/>
          <p:nvPr/>
        </p:nvSpPr>
        <p:spPr>
          <a:xfrm>
            <a:off x="378612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22"/>
          <p:cNvSpPr/>
          <p:nvPr/>
        </p:nvSpPr>
        <p:spPr>
          <a:xfrm>
            <a:off x="42879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23"/>
          <p:cNvSpPr/>
          <p:nvPr/>
        </p:nvSpPr>
        <p:spPr>
          <a:xfrm>
            <a:off x="30416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24"/>
          <p:cNvSpPr/>
          <p:nvPr/>
        </p:nvSpPr>
        <p:spPr>
          <a:xfrm>
            <a:off x="27846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25"/>
          <p:cNvSpPr/>
          <p:nvPr/>
        </p:nvSpPr>
        <p:spPr>
          <a:xfrm>
            <a:off x="3286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6"/>
          <p:cNvSpPr/>
          <p:nvPr/>
        </p:nvSpPr>
        <p:spPr>
          <a:xfrm>
            <a:off x="81327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27"/>
          <p:cNvSpPr/>
          <p:nvPr/>
        </p:nvSpPr>
        <p:spPr>
          <a:xfrm>
            <a:off x="787716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8"/>
          <p:cNvSpPr/>
          <p:nvPr/>
        </p:nvSpPr>
        <p:spPr>
          <a:xfrm>
            <a:off x="83772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9"/>
          <p:cNvSpPr/>
          <p:nvPr/>
        </p:nvSpPr>
        <p:spPr>
          <a:xfrm>
            <a:off x="20034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30"/>
          <p:cNvSpPr/>
          <p:nvPr/>
        </p:nvSpPr>
        <p:spPr>
          <a:xfrm>
            <a:off x="17478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31"/>
          <p:cNvSpPr/>
          <p:nvPr/>
        </p:nvSpPr>
        <p:spPr>
          <a:xfrm>
            <a:off x="2249640" y="2943360"/>
            <a:ext cx="0" cy="8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32"/>
          <p:cNvSpPr/>
          <p:nvPr/>
        </p:nvSpPr>
        <p:spPr>
          <a:xfrm>
            <a:off x="944640" y="241776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3"/>
          <p:cNvSpPr/>
          <p:nvPr/>
        </p:nvSpPr>
        <p:spPr>
          <a:xfrm>
            <a:off x="687240" y="2417760"/>
            <a:ext cx="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4"/>
          <p:cNvSpPr/>
          <p:nvPr/>
        </p:nvSpPr>
        <p:spPr>
          <a:xfrm>
            <a:off x="1189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1"/>
          <p:cNvSpPr/>
          <p:nvPr/>
        </p:nvSpPr>
        <p:spPr>
          <a:xfrm rot="16200000">
            <a:off x="1170720" y="387396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. H-b-H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 Brace 42"/>
          <p:cNvSpPr/>
          <p:nvPr/>
        </p:nvSpPr>
        <p:spPr>
          <a:xfrm rot="16200000">
            <a:off x="3304440" y="2534040"/>
            <a:ext cx="219240" cy="1258920"/>
          </a:xfrm>
          <a:custGeom>
            <a:avLst/>
            <a:gdLst>
              <a:gd name="textAreaLeft" fmla="*/ 140040 w 219240"/>
              <a:gd name="textAreaRight" fmla="*/ 219600 w 219240"/>
              <a:gd name="textAreaTop" fmla="*/ 25920 h 1258920"/>
              <a:gd name="textAreaBottom" fmla="*/ 123300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6"/>
                  <a:pt x="10800" y="1431"/>
                </a:cubicBezTo>
                <a:lnTo>
                  <a:pt x="10800" y="9126"/>
                </a:lnTo>
                <a:cubicBezTo>
                  <a:pt x="10800" y="9842"/>
                  <a:pt x="5400" y="10557"/>
                  <a:pt x="0" y="10557"/>
                </a:cubicBezTo>
                <a:cubicBezTo>
                  <a:pt x="5400" y="10557"/>
                  <a:pt x="10800" y="11273"/>
                  <a:pt x="10800" y="11988"/>
                </a:cubicBezTo>
                <a:lnTo>
                  <a:pt x="10800" y="20169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3"/>
          <p:cNvSpPr/>
          <p:nvPr/>
        </p:nvSpPr>
        <p:spPr>
          <a:xfrm flipH="1">
            <a:off x="812520" y="2752560"/>
            <a:ext cx="4680" cy="2822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4"/>
          <p:cNvSpPr/>
          <p:nvPr/>
        </p:nvSpPr>
        <p:spPr>
          <a:xfrm>
            <a:off x="812880" y="5575320"/>
            <a:ext cx="9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45"/>
          <p:cNvSpPr/>
          <p:nvPr/>
        </p:nvSpPr>
        <p:spPr>
          <a:xfrm>
            <a:off x="572400" y="2759040"/>
            <a:ext cx="4680" cy="3129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46"/>
          <p:cNvSpPr/>
          <p:nvPr/>
        </p:nvSpPr>
        <p:spPr>
          <a:xfrm>
            <a:off x="577800" y="5888160"/>
            <a:ext cx="1170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0"/>
          <p:cNvSpPr/>
          <p:nvPr/>
        </p:nvSpPr>
        <p:spPr>
          <a:xfrm>
            <a:off x="1758960" y="570060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Hop-by-Hop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1"/>
          <p:cNvSpPr/>
          <p:nvPr/>
        </p:nvSpPr>
        <p:spPr>
          <a:xfrm>
            <a:off x="1747800" y="5392800"/>
            <a:ext cx="35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Ingress-to-Egress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57"/>
          <p:cNvSpPr/>
          <p:nvPr/>
        </p:nvSpPr>
        <p:spPr>
          <a:xfrm>
            <a:off x="1090440" y="27511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60"/>
          <p:cNvSpPr/>
          <p:nvPr/>
        </p:nvSpPr>
        <p:spPr>
          <a:xfrm>
            <a:off x="1090440" y="5237280"/>
            <a:ext cx="4240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2"/>
          <p:cNvSpPr/>
          <p:nvPr/>
        </p:nvSpPr>
        <p:spPr>
          <a:xfrm>
            <a:off x="1509840" y="5021280"/>
            <a:ext cx="40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Reserved RBridge Summary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eft Brace 90"/>
          <p:cNvSpPr/>
          <p:nvPr/>
        </p:nvSpPr>
        <p:spPr>
          <a:xfrm rot="16200000">
            <a:off x="1870200" y="2379600"/>
            <a:ext cx="233280" cy="1595520"/>
          </a:xfrm>
          <a:custGeom>
            <a:avLst/>
            <a:gdLst>
              <a:gd name="textAreaLeft" fmla="*/ 149040 w 233280"/>
              <a:gd name="textAreaRight" fmla="*/ 233640 w 233280"/>
              <a:gd name="textAreaTop" fmla="*/ 27720 h 1595520"/>
              <a:gd name="textAreaBottom" fmla="*/ 1567800 h 159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2"/>
                  <a:pt x="10800" y="1203"/>
                </a:cubicBezTo>
                <a:lnTo>
                  <a:pt x="10800" y="9354"/>
                </a:lnTo>
                <a:cubicBezTo>
                  <a:pt x="10800" y="9956"/>
                  <a:pt x="5400" y="10557"/>
                  <a:pt x="0" y="10557"/>
                </a:cubicBezTo>
                <a:cubicBezTo>
                  <a:pt x="5400" y="10557"/>
                  <a:pt x="10800" y="11159"/>
                  <a:pt x="10800" y="11760"/>
                </a:cubicBezTo>
                <a:lnTo>
                  <a:pt x="10800" y="20397"/>
                </a:lnTo>
                <a:cubicBezTo>
                  <a:pt x="10800" y="209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Brace 91"/>
          <p:cNvSpPr/>
          <p:nvPr/>
        </p:nvSpPr>
        <p:spPr>
          <a:xfrm rot="16200000">
            <a:off x="6608880" y="2521080"/>
            <a:ext cx="263520" cy="1270080"/>
          </a:xfrm>
          <a:custGeom>
            <a:avLst/>
            <a:gdLst>
              <a:gd name="textAreaLeft" fmla="*/ 168480 w 263520"/>
              <a:gd name="textAreaRight" fmla="*/ 263880 w 263520"/>
              <a:gd name="textAreaTop" fmla="*/ 31320 h 1270080"/>
              <a:gd name="textAreaBottom" fmla="*/ 1238760 h 12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3"/>
                  <a:pt x="10800" y="1706"/>
                </a:cubicBezTo>
                <a:lnTo>
                  <a:pt x="10800" y="8851"/>
                </a:lnTo>
                <a:cubicBezTo>
                  <a:pt x="10800" y="9704"/>
                  <a:pt x="5400" y="10557"/>
                  <a:pt x="0" y="10557"/>
                </a:cubicBezTo>
                <a:cubicBezTo>
                  <a:pt x="5400" y="10557"/>
                  <a:pt x="10800" y="11410"/>
                  <a:pt x="10800" y="12263"/>
                </a:cubicBezTo>
                <a:lnTo>
                  <a:pt x="10800" y="19894"/>
                </a:lnTo>
                <a:cubicBezTo>
                  <a:pt x="10800" y="207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 rot="16200000">
            <a:off x="2564640" y="390744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C. H-b-H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1"/>
          <p:cNvSpPr/>
          <p:nvPr/>
        </p:nvSpPr>
        <p:spPr>
          <a:xfrm rot="16200000">
            <a:off x="6036480" y="380088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. I-t-E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1"/>
          <p:cNvSpPr/>
          <p:nvPr/>
        </p:nvSpPr>
        <p:spPr>
          <a:xfrm rot="16200000">
            <a:off x="7320600" y="378036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C. I-t-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69"/>
          <p:cNvSpPr/>
          <p:nvPr/>
        </p:nvSpPr>
        <p:spPr>
          <a:xfrm rot="16200000">
            <a:off x="7896960" y="2529360"/>
            <a:ext cx="243000" cy="1285560"/>
          </a:xfrm>
          <a:custGeom>
            <a:avLst/>
            <a:gdLst>
              <a:gd name="textAreaLeft" fmla="*/ 155160 w 243000"/>
              <a:gd name="textAreaRight" fmla="*/ 243360 w 243000"/>
              <a:gd name="textAreaTop" fmla="*/ 28800 h 1285560"/>
              <a:gd name="textAreaBottom" fmla="*/ 125676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7"/>
                  <a:pt x="10800" y="1553"/>
                </a:cubicBezTo>
                <a:lnTo>
                  <a:pt x="10800" y="9004"/>
                </a:lnTo>
                <a:cubicBezTo>
                  <a:pt x="10800" y="9781"/>
                  <a:pt x="5400" y="10557"/>
                  <a:pt x="0" y="10557"/>
                </a:cubicBezTo>
                <a:cubicBezTo>
                  <a:pt x="5400" y="10557"/>
                  <a:pt x="10800" y="11334"/>
                  <a:pt x="10800" y="12110"/>
                </a:cubicBezTo>
                <a:lnTo>
                  <a:pt x="10800" y="20047"/>
                </a:lnTo>
                <a:cubicBezTo>
                  <a:pt x="10800" y="2082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ight Brace 1"/>
          <p:cNvSpPr/>
          <p:nvPr/>
        </p:nvSpPr>
        <p:spPr>
          <a:xfrm>
            <a:off x="5079960" y="5405400"/>
            <a:ext cx="360360" cy="646200"/>
          </a:xfrm>
          <a:custGeom>
            <a:avLst/>
            <a:gdLst>
              <a:gd name="textAreaLeft" fmla="*/ 0 w 360360"/>
              <a:gd name="textAreaRight" fmla="*/ 129960 w 360360"/>
              <a:gd name="textAreaTop" fmla="*/ 32760 h 646200"/>
              <a:gd name="textAreaBottom" fmla="*/ 61344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59"/>
                  <a:pt x="10800" y="3517"/>
                </a:cubicBezTo>
                <a:lnTo>
                  <a:pt x="10800" y="7283"/>
                </a:lnTo>
                <a:cubicBezTo>
                  <a:pt x="10800" y="9042"/>
                  <a:pt x="16200" y="10800"/>
                  <a:pt x="21600" y="10800"/>
                </a:cubicBezTo>
                <a:cubicBezTo>
                  <a:pt x="16200" y="10800"/>
                  <a:pt x="10800" y="12559"/>
                  <a:pt x="10800" y="14317"/>
                </a:cubicBezTo>
                <a:lnTo>
                  <a:pt x="10800" y="18083"/>
                </a:lnTo>
                <a:cubicBezTo>
                  <a:pt x="10800" y="1984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0"/>
          <p:cNvSpPr/>
          <p:nvPr/>
        </p:nvSpPr>
        <p:spPr>
          <a:xfrm>
            <a:off x="5470560" y="554688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ecified in bas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 rot="16200000">
            <a:off x="2276640" y="24807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1747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eft Brace 70"/>
          <p:cNvSpPr/>
          <p:nvPr/>
        </p:nvSpPr>
        <p:spPr>
          <a:xfrm rot="16200000">
            <a:off x="5484600" y="2646000"/>
            <a:ext cx="216000" cy="102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5560 h 1025640"/>
              <a:gd name="textAreaBottom" fmla="*/ 1000080 h 10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6"/>
                  <a:pt x="10800" y="1731"/>
                </a:cubicBezTo>
                <a:lnTo>
                  <a:pt x="10800" y="8826"/>
                </a:lnTo>
                <a:cubicBezTo>
                  <a:pt x="10800" y="9692"/>
                  <a:pt x="5400" y="10557"/>
                  <a:pt x="0" y="10557"/>
                </a:cubicBezTo>
                <a:cubicBezTo>
                  <a:pt x="5400" y="10557"/>
                  <a:pt x="10800" y="11423"/>
                  <a:pt x="10800" y="12288"/>
                </a:cubicBezTo>
                <a:lnTo>
                  <a:pt x="10800" y="19869"/>
                </a:lnTo>
                <a:cubicBezTo>
                  <a:pt x="10800" y="2073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71"/>
          <p:cNvSpPr/>
          <p:nvPr/>
        </p:nvSpPr>
        <p:spPr>
          <a:xfrm rot="16200000">
            <a:off x="4455360" y="2648880"/>
            <a:ext cx="200160" cy="1023840"/>
          </a:xfrm>
          <a:custGeom>
            <a:avLst/>
            <a:gdLst>
              <a:gd name="textAreaLeft" fmla="*/ 127800 w 200160"/>
              <a:gd name="textAreaRight" fmla="*/ 200520 w 200160"/>
              <a:gd name="textAreaTop" fmla="*/ 23760 h 1023840"/>
              <a:gd name="textAreaBottom" fmla="*/ 1000080 h 102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3"/>
                  <a:pt x="10800" y="1606"/>
                </a:cubicBezTo>
                <a:lnTo>
                  <a:pt x="10800" y="8951"/>
                </a:lnTo>
                <a:cubicBezTo>
                  <a:pt x="10800" y="9754"/>
                  <a:pt x="5400" y="10557"/>
                  <a:pt x="0" y="10557"/>
                </a:cubicBezTo>
                <a:cubicBezTo>
                  <a:pt x="5400" y="10557"/>
                  <a:pt x="10800" y="11360"/>
                  <a:pt x="10800" y="12163"/>
                </a:cubicBezTo>
                <a:lnTo>
                  <a:pt x="10800" y="19994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1"/>
          <p:cNvSpPr/>
          <p:nvPr/>
        </p:nvSpPr>
        <p:spPr>
          <a:xfrm rot="16200000">
            <a:off x="4601160" y="406152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C. Reserve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1"/>
          <p:cNvSpPr/>
          <p:nvPr/>
        </p:nvSpPr>
        <p:spPr>
          <a:xfrm rot="16200000">
            <a:off x="3682080" y="395964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. Reserve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36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C85C7-4CC6-4FA1-B093-D96A53D50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3:30:53Z</dcterms:created>
  <dc:creator>Donald Eastlake</dc:creator>
  <dc:description/>
  <dc:language>en-US</dc:language>
  <cp:lastModifiedBy>Donald Eastlake III</cp:lastModifiedBy>
  <dcterms:modified xsi:type="dcterms:W3CDTF">2011-11-15T14:11:57Z</dcterms:modified>
  <cp:revision>71</cp:revision>
  <dc:subject/>
  <dc:title>TRILL Option Improvements</dc:title>
</cp:coreProperties>
</file>