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727B-23D2-4EF2-AD1B-B7025776586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0E7-A404-4F27-87C4-36AA94580E8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256-5CBC-4663-97C9-79F93F20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1D0-69B7-42C7-A268-42519217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4DB24-1940-47F4-93B6-AD0C8C66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94C15-2B36-4FCF-B68C-CBAF3295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CE479-F589-4BA7-BE35-1860DBF8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35C64-CD2D-4705-B97E-027AE27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B6080-D1F4-44BA-BDDA-7FA320F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5AEC-277B-4FC9-A56A-D32E9AE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560AB-CE33-45A1-8C16-10E414E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E97F-C5A8-420F-801C-E6E266E3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A4281-88F8-4F85-8D11-B8C41B9B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209-748C-4CF0-8230-D50484A6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B74-70A2-4D7F-B6C6-69642166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4A17-60CE-4BE7-8EE0-83F24065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614-B5AE-4729-95E1-4240B48E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EBD-6AC0-4CD2-AE40-BFB2B11B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6D9E-2CD7-49D1-B5E8-8914D12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60F6-0434-4825-B6B0-93B1016C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0ADC-4893-48CC-93FE-3BB97917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BACD-CB44-403C-BCC6-28F0DE33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4DE-8852-45F2-B7CE-E330CE5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0D2E-8534-4F8A-A6D9-A7DDA88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991-3C02-4D4C-83A3-6E3D12A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14C-E02E-4E3C-BE59-68D3EE53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F13E-0A19-4120-8303-9481B91E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90EE-E2E5-4AC0-8B56-5C6AD9DC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7F96-C6E3-44BF-A7CA-88C69FD1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6D49-76BA-4296-A65F-6F0525CC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9536-F3F6-49AA-8BEB-F217FCC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E0E4-EE72-4185-AD40-FE5D266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1B95-0116-49D4-BF9D-3F83816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B03-274A-42FF-806C-DC4C4314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8CE7-2ED2-4237-AD0D-EF782FA5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6FE3-493F-49E3-8AFF-52C994A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23F2-1445-4BD8-9E69-D2DE696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B9D7-6527-4E7A-B5B9-6B0103A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B6BB-4E95-47DC-9FC0-72097CF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0E59-AD59-494A-96FC-CB1E7CBC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2932-C639-4753-893C-24DDBBD6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D984-E8C8-4D34-AA19-9019E0FB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7B77-3478-46A0-97AA-988AF75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F65C-37DB-4DBD-9A3F-7CE76E2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AA0-B7C7-4021-9E4D-6EB66A72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4B0B-6804-49AA-A76A-3550157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9507A-4ED6-4769-A7E9-17B9E1B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B81E-A658-4402-966A-B1F2216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7A02-2750-4861-86C2-6A0932B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3472-2EDA-4B17-B59B-983C365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2260-64E5-4A5E-8AAD-546C3B5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34A3-1FE1-4B75-B579-D20239F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DE26-69B3-464C-836F-AEC3120B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36E9-8307-4FBE-B30A-DF780335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62853-4647-476A-95CD-B7A147F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54C-D947-4C73-908F-D0EE79C8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78E0-4102-4890-A342-9F12253A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D92B1-DA03-4AD4-93B2-3023E10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90FEB-6029-4FB3-AD4F-472A8ADE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F72B-2B9E-4448-8DE9-4A2FF28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B127E-22C1-4124-820B-FA0E8CDE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701E-731B-439B-BED6-CF2DCB8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48C46-C218-4C5A-81D7-FBCC456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6A63-3208-4E7B-AE87-3467053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955F-6DD2-468D-BB2D-99E5141F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21ECD-2BEC-4F5C-BE8E-0BAB8E6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FA4-D6CB-4F4C-9CA9-A26408CA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6558-96A4-4EF4-A3C7-5E55EDE7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D73E-FC6F-4849-B40A-543AAAD5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1CE8-761F-44B4-B449-D55B545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BCAE-EFB0-474F-9C71-2A2A88F7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5062-291C-4EA1-9D5E-C1B174D1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5A8F-1B72-4240-A04B-4408AF4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6EBD-AD4A-4CBF-B1F8-2D80308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B7C56-D80E-4709-AEFC-B623EB3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0F0BE-207D-440E-BB06-98C6B81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D538-D039-408A-8916-CDE3172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4AC-5959-4504-9CCA-2C2AD4A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419D-7A7B-469C-8BAD-2F36E869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76D8E-BF0A-4812-8F95-9FF9F54F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A2762-FD6A-4170-B2FF-8C51F70E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93556-142D-4BC8-9368-1B9F84B2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8CE65-FFD2-42B5-BF2B-90EAA8FE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F2C24-6AA3-4A28-8119-81267CD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EBB29-3CB8-4174-AECE-3D18D50B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99F5-2E96-4983-9A62-BC68D990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0678-DA21-4E2E-982B-5468EA02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1EC8-BE6D-40F2-81CC-3B0B950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B8C-7176-4F73-8456-A84309C0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5B3C7-1617-4305-80BF-D2860C3D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8800-4A31-4582-BE01-0EF8A29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68AC-F9B6-47CE-A0D7-8F49846E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8994-6352-4AE5-9B76-EC411F3B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36B71-D8C1-4B35-980F-6FE5A52B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982E8-9245-4E70-AA95-1D1FD4CA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C656-FAAE-48B2-9914-A8FB081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C51A-7561-4F53-9EFE-9207602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50CE-2D10-40F1-A8F6-B8E57388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29CE-4499-4D01-AD11-29F064A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A56-FBAE-4458-B6DC-280AEBA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E54E3-5D19-4FEE-AD6B-AB57D66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A478E-9796-4688-8ED7-CE07284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48DA0-9573-4E0D-8129-43755FA5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1A8C-ABCF-45E9-A63A-CC292E8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07BA-CAEB-4112-8475-E71ECD16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D861B-0367-49E4-B58F-4D387E20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3E498-EA89-4C98-A280-737A60F5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E05F-C7DA-46F3-B5F9-EB150E61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E26E9-3830-48E3-92CF-F0B1D6B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33ED5-D14A-4E46-AA02-D11684B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C216-995C-498D-8900-F697BFE3FE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EE0B-D7E6-45E7-875B-FF0405D990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69A7-0D74-4DBF-8EB1-427AA7B37A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AA80-9288-4E1B-90E9-72E0AE3C31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778A-7328-4B2D-91E4-92A21866EA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C5C-998B-447B-A61B-D5C335C1D4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630E-6841-4876-8E7D-8857E50706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6F7A-552D-4D56-B6D0-51D37FE0C1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E67B-D2D0-4DE1-82C8-35BC737FE0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.yong@huawei.com" TargetMode="External"/><Relationship Id="rId2" Type="http://schemas.openxmlformats.org/officeDocument/2006/relationships/hyperlink" Target="mailto:donald.eastlake@huawei.com" TargetMode="External"/><Relationship Id="rId3" Type="http://schemas.openxmlformats.org/officeDocument/2006/relationships/hyperlink" Target="mailto:sam.aldrin@huawei.com" TargetMode="External"/><Relationship Id="rId4" Type="http://schemas.openxmlformats.org/officeDocument/2006/relationships/hyperlink" Target="mailto:jon.hudson@brocade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369A-119B-4D43-BDAA-7478EB80C7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  <a:ea typeface="宋体"/>
              </a:rPr>
              <a:t>TRILL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yong-trill-trill-o-mpls-00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Donald Eastlake 3rd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donald.eastlake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Sam.Aldrin  </a:t>
            </a:r>
            <a:r>
              <a:rPr b="0" lang="pt-BR" sz="1400" spc="-1" strike="noStrike">
                <a:solidFill>
                  <a:srgbClr val="ffc000"/>
                </a:solidFill>
                <a:latin typeface="Times New Roman"/>
              </a:rPr>
              <a:t>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sam.aldrin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John Hudson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4"/>
              </a:rPr>
              <a:t>jon.hudson@brocad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C6F-13A8-4E3F-B356-71478D4A72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use cases for RBridge sites interconnected by an IP/MPLS network to form one RBridge campus using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TRILL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ccess  TRILL Lin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R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informational draft because it requires no changes to the TRILL or MPL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ransparent Interconnect of Lots of Links (TRILL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base standard: RFC6325 and RFC63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optimal pair-wise data frame forwarding with arbitrary topology and without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multi-pathing for both unicast and multicast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rbitrary link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: RFC 63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PP: RFC 63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implementing TRILL are called RBridges (Routing Bri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are IS-IS routers used to provide a transparent bridge-lik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 Campus provides a bridged LAN service for connected customer bridges, end stations, 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98A9-C7CD-417C-8AF8-95F7C3BB21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ing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RBridge ports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P recommended for point-to-point as it saves ~16 bytes per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ridge and PE can be separated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5767-F7EA-4DB8-AF90-0A09DA3D0A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2819520"/>
            <a:ext cx="78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---------TRILL Link----------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&lt;----------PW----------&gt;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AC +----+    +---+   +----+ AC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RB   +----| PE |----| P |---| PE |----+ RB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Site A |    +----+    +---+   +----+    |Site B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   {        PSN           }   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                        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            One RBridge Campus                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Access Link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PLS/VPLS to provide a bridged LAN between RBridge ports at differen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LL supports Ethernet multi-access link  (default 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882-15F2-4707-9D01-8781822AB5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43828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................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    MPLS/VPLS   .  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RB    |AC +----+       PW           +----+AC| RB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Site 1+---|VSI ********************** VSI|--+ Site 2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| PE *****            ***** PE |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+----+    ****    ****    +----+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+*--*+          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|VSI |..........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E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A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RB Site 3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s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DCB8-64B4-4E6C-8577-A225F2C48F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143000" y="2309760"/>
            <a:ext cx="7467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................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IP/MPLS Core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                  .   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Eth+----+        PW          +----+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idge +---| RB/|********************| RB/|--+RBridge |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+-+ | PE |****            ****| PE |\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|  Site 1 | | +----+    ****    ****    +----+ -+ Site 2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| |    .         +*--*+    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|    ..........| RB/|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 +--------------| P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Eth. Itfc    +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            |Eth. Itf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dig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Site 3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+----+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...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Ben Mack-Crane, Sue Hares,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DC3-5D24-43E9-B911-95DA27469A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auto-configuration for Hierarchical L2V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B4C9-702F-4B4B-8F59-A0844825C9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3:21Z</dcterms:modified>
  <cp:revision>231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2C4dms71Wb+v6gGfu/X1PTamMD1u2SqupLpkusdCrFiSAQFNzzuw3MtDB+PsTIYW+55Kk2xI
e0o3phlhyLxIQcSmBPI6gwbZGx0Ck6cCpWYIfdd2bA63NY5/5zCeQhMGOI1SDQdh5pDKF17V
RA70iEckMEUV3UOD4WyzmGBHjy59xIoUUdkDRXR11NRzOzErNf73NJaGnkRmtllevnKfReG/
Px3vIqCByza4hbJtFmU9p</vt:lpwstr>
  </property>
  <property fmtid="{D5CDD505-2E9C-101B-9397-08002B2CF9AE}" pid="3" name="_ms_pID_7253431">
    <vt:lpwstr>bD4NJl1XR+32Z48Ek+5BY+hA56ziv5qs4uOpbXDRPxkha3w/Wcx
mtLe3jAdO/LNasoro7ujZX0F+1PuW9VKr17KhhbSh82rQhHMlIBjFvC945B+3i2jFShcr3dH
chkdr6B+WY3ROcWfUEiiu6AQEhX/75YPkIn0mqOxOqS5OMAc4jzOIICUF6BgU5clptOTlr7G
98jam2JQgoGqql/Pwmm0Lqzpeeo/eT2/BhDxisZ9qg</vt:lpwstr>
  </property>
  <property fmtid="{D5CDD505-2E9C-101B-9397-08002B2CF9AE}" pid="4" name="_ms_pID_7253432">
    <vt:lpwstr>Sk8ryF5eFveMSeGDQhulyrX6vi6r1m
2k3UOD7ucvtngZq5dZ/5w+PWc0dAfjxN/l0GQmLE3jCGXZZYuw4CsgRzlIeapOmwTlgGoyev</vt:lpwstr>
  </property>
  <property fmtid="{D5CDD505-2E9C-101B-9397-08002B2CF9AE}" pid="5" name="sflag">
    <vt:lpwstr>1320173501</vt:lpwstr>
  </property>
</Properties>
</file>