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3972-CD82-477B-BA3A-1C63C1C907A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DC04-F421-4EC0-A050-45E0766292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8B2-5E8D-49AC-80A7-C5F0376C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AB4-2897-42EA-984F-9BF25AB6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D8679-FCD3-4E74-B58B-4A6CDA56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02288-30FC-4A95-AB1D-49F8EF05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274D8-D75D-4B18-93D3-FAE45393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01314-D9D0-4BD8-B706-6F9A6C0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9F6D0-7440-467F-845C-EE56002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A1F53-AE85-4FE4-A9EF-9EE837D0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E5527-792D-4A7A-AA13-AA7214A2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31AB9-3082-4911-AEB3-BF567B0F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82735-9B19-4169-962D-3E6654C3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CCE-0609-48A3-B7C6-4504644B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DE8-1E4D-4594-A6B8-F6686C24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ABDA-8AD4-44D3-BBA8-C2C43F2F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3B2C-D94D-4335-A18D-288F88B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E005-B6C4-45FA-9655-736028C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4E86-F5FB-49CB-8473-ADE2993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E6F2-1E82-4FC2-A6B5-7BFC888B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ED8-57D8-423B-9311-6437BC46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805A-16DF-423D-8CBD-16F769E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79F-E969-4E6A-BD86-4B00CAEC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9BA4-333C-4C5F-85B2-AD7D0FD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FF03-97D3-4300-B591-2DC355EF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FDD3-3A1F-4BC3-9173-0B5D991B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DD30-7223-4178-9A6E-6E79BF86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C8B1-89CD-4779-87D6-2C74EE11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9D24-5DD8-420A-8847-BDC8B642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DFD1-DE55-4267-82A6-240ECF03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D232-EA56-450E-8A73-BFA942F7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6735-E2FD-4578-B674-28505A31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4DC7-8C6B-4BFA-973B-D85E2B1F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251-E8F8-4C51-AF1F-BC503238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5069-3D31-45AB-BBA7-17EC9A84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8989-FAE7-4015-8FFF-DE7E7D46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6AA7-9117-466F-961A-EFD97D1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D43A-27EF-4A6D-9660-015745D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C746C-261E-4A98-A283-48FC40CF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74E8-4102-4F48-A074-F90871C5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1E0A-78BC-4165-B268-7A2BA759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8254-F052-4723-8AAF-C34E964F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AC8A-A78B-48A2-BD96-B462B6D2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4994-0BB5-4EE9-9439-ACBC9B0E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5FB-118D-41CF-B571-1DBB5BA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D34A6-3261-4C87-B68C-3B545B9C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AF29-F1CE-45AA-98FF-DEF3EAE7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0F0F-3F00-4C83-8F6A-3DF09A55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DF97E-18D6-4906-8A98-44F9A395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7504-B2A3-4054-87BE-D39518AC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31E4-439F-4FF4-9630-97099699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45BB-A2E0-4994-BFEB-BD11FFCB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BE5E-6D43-419E-8634-17FC4ABF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D156-CD66-41ED-8E14-04C605C5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95D1-300D-44CB-ACA9-5941BC0E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5A7-3B78-4F29-9B49-77534E5C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B9D4F-E6E0-4A19-B305-D89B7FCB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9E8E-FC9D-47A5-A9D9-1830291B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AC47E-DCB3-4102-8592-A20B1DDC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F6B82-CF80-4F8D-BFA1-38D4011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0361-9B62-43BC-87C8-3676AE0D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5FBA-5837-49FB-84C8-D876CD6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2FAF-CB19-44F0-9E6A-796A40A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54B0-EDD9-4856-BE65-DB414DC7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51FB6-1D2B-4AD1-AE47-D0138F7C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632A2-83EE-4001-AB71-3FA4F009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6B7-F85B-4A7F-92CE-15D4F388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DF09A-ECCD-4497-BF43-74BB5EBF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F1AE6-49F6-47EC-A128-8FA96E03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FB785-A344-4E4F-A507-917E0796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FA94E-51F3-4939-BFDD-F34C141B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86C9-5662-4D67-9390-B979BC35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1272C-2448-4A43-A01C-D33D4C46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67636-918C-4C39-AD54-EEEE5175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78B7D-B4FC-4280-BCA9-27376F9C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CA5A-B844-4E4A-92B4-536130E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4511-C1B6-420B-BE58-C44B583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A6B-FFB8-4B13-ABD1-F5557D9C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43CE0-25DD-445D-8022-92FC4B7B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3E69-6604-4A39-98B5-BCA40C97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AF16D-0FB3-4630-A558-C950E321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B6AD2-0F3E-49A3-A60E-E045D5B3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BAB87-4D45-43B2-83E9-CC65951E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28CC5-200A-4A17-B769-0C5C5A9A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63D7F-7E17-4264-A40C-B569443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37460-2D52-4F12-AB89-70830ACD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63C7D-71A0-4D33-8FBA-4BD3101B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DB963-BE9C-4E1C-9EBC-9958F08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DD0-BE70-43F6-861C-5F259895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D0A08-AEEF-4BF9-B1F8-F25C99A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54A67-2D28-437B-951C-704664A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C59CD-F5FB-4D31-BF30-3A002EFD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5F95B-1D52-4FD9-AB0D-13421A2F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62EF5-C370-40AC-9D2A-0C7EF770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55E6-9F98-4213-9EA4-74523F9D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85EC-F3EE-4439-963E-9D7A7803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1A584-0A91-4CBB-AEFB-E4DCB268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EB9F7-2277-4798-81D2-45D58A6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AD281-028B-413F-8B8F-4D98DBF3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42D-F60E-40B9-B3E0-5E542F3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D564F-49EC-4826-B2CE-E90261AD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6B286-A371-4E0C-9840-FA747311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BEA16-80A5-4D3B-B80F-43FEE46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AA79E-DF1A-4F8E-9DF1-7E150B7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46F0-B068-4E86-8F02-AB81E182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7392C-5316-4877-886F-F56AEF69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DDC4-336B-491E-9C39-AE05071C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B9D41-CAD5-441A-AD06-65C25559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8AF4A-0F8E-4756-A7D1-EA26F0B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B754D-89AB-474B-ACB1-50B6475E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B65D-664A-4941-99B0-A544450AA1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1C6-E3E8-409A-8C87-649A7AC4C1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FDE7-5D74-4A9E-906B-C1EDE2B08A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DF79-5BE4-48F2-B102-175EAE97F4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DC0-5B21-4252-BA5E-D02AFA7729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08CB-0AA4-4DC0-9DFF-25B701CF84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9411-1161-4A59-855E-52D4BCAA84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7FAA-DDD9-4D11-B431-BB62F5AB30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B61-989E-46F9-ADA3-0F7BC3287A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cy.yong@huawei.com" TargetMode="External"/><Relationship Id="rId2" Type="http://schemas.openxmlformats.org/officeDocument/2006/relationships/hyperlink" Target="mailto:donald.eastlake@huawei.com" TargetMode="External"/><Relationship Id="rId3" Type="http://schemas.openxmlformats.org/officeDocument/2006/relationships/hyperlink" Target="mailto:sam.aldrin@huawei.com" TargetMode="External"/><Relationship Id="rId4" Type="http://schemas.openxmlformats.org/officeDocument/2006/relationships/hyperlink" Target="mailto:jon.hudson@brocade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A511-3DA2-4127-84E3-C44C5B8831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  <a:ea typeface="宋体"/>
              </a:rPr>
              <a:t>TRILL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yong-trill-trill-o-mpls-00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Donald Eastlake 3rd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donald.eastlake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Sam.Aldrin  </a:t>
            </a:r>
            <a:r>
              <a:rPr b="0" lang="pt-BR" sz="1400" spc="-1" strike="noStrike">
                <a:solidFill>
                  <a:srgbClr val="ffc000"/>
                </a:solidFill>
                <a:latin typeface="Times New Roman"/>
              </a:rPr>
              <a:t>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3"/>
              </a:rPr>
              <a:t>sam.aldrin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John Hudson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4"/>
              </a:rPr>
              <a:t>jon.hudson@brocad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F57E-249B-4F19-9865-DF97D9FE30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use cases for RBridge sites interconnected by an IP/MPLS network to form one RBridge campus using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TRILL 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Access  TRILL Lin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R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informational draft because it requires no changes to the TRILL or MPL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ransparent Interconnect of Lots of Links (TRILL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base standard: RFC6325 and RFC63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optimal pair-wise data frame forwarding with arbitrary topology and without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multi-pathing for both unicast and multicast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arbitrary link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: RFC 63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PP: RFC 636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implementing TRILL are called RBridges (Routing Bridg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they are IS-IS routers used to provide a transparent bridge-like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 Campus provides a bridged LAN service for connected customer bridges, end stations, 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265-5683-4768-BA26-6D7D844304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52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ing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RBridge ports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P recommended for point-to-point as it saves ~16 bytes per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Bridge and PE can be separated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0922-488F-4F79-9B51-0C2B1AC5FF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04920" y="2819520"/>
            <a:ext cx="78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----------TRILL Link----------&gt;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&lt;----------PW----------&gt;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AC +----+    +---+   +----+ AC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RB   +----| PE |----| P |---| PE |----+ RB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Site A |    +----+    +---+   +----+    |Site B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   {        PSN           }   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                        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            One RBridge Campus                }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9144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Access Link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PLS/VPLS to provide a bridged LAN between RBridge ports at differen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LL supports Ethernet multi-access link  (default m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EB1C-D502-44A7-80F3-CE8260426A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243828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................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    MPLS/VPLS   .  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RB    |AC +----+       PW           +----+AC| RB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Site 1+---|VSI ********************** VSI|--+ Site 2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| PE *****            ***** PE |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+----+    ****    ****    +----+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+*--*+          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|VSI |..........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E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AC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RB Site 3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s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057F-1845-4B7D-BE66-0620ACBEA1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143000" y="2309760"/>
            <a:ext cx="7467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................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IP/MPLS Core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                  .   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Eth+----+        PW          +----+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idge +---| RB/|********************| RB/|--+RBridge |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+-+ | PE |****            ****| PE |\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|  Site 1 | | +----+    ****    ****    +----+ -+ Site 2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| |    .         +*--*+    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|    ..........| RB/|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 +--------------| P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Eth. Itfc    +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            |Eth. Itf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dig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Site 3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+----+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...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Ben Mack-Crane, Sue Hares,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15F4-CCD3-4FD9-B2CB-F9F7C49A69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on auto-configuration for Hierarchical L2V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6DA2-5C99-43B6-A8C7-A02685DC75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3:21Z</dcterms:modified>
  <cp:revision>231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2C4dms71Wb+v6gGfu/X1PTamMD1u2SqupLpkusdCrFiSAQFNzzuw3MtDB+PsTIYW+55Kk2xI
e0o3phlhyLxIQcSmBPI6gwbZGx0Ck6cCpWYIfdd2bA63NY5/5zCeQhMGOI1SDQdh5pDKF17V
RA70iEckMEUV3UOD4WyzmGBHjy59xIoUUdkDRXR11NRzOzErNf73NJaGnkRmtllevnKfReG/
Px3vIqCByza4hbJtFmU9p</vt:lpwstr>
  </property>
  <property fmtid="{D5CDD505-2E9C-101B-9397-08002B2CF9AE}" pid="3" name="_ms_pID_7253431">
    <vt:lpwstr>bD4NJl1XR+32Z48Ek+5BY+hA56ziv5qs4uOpbXDRPxkha3w/Wcx
mtLe3jAdO/LNasoro7ujZX0F+1PuW9VKr17KhhbSh82rQhHMlIBjFvC945B+3i2jFShcr3dH
chkdr6B+WY3ROcWfUEiiu6AQEhX/75YPkIn0mqOxOqS5OMAc4jzOIICUF6BgU5clptOTlr7G
98jam2JQgoGqql/Pwmm0Lqzpeeo/eT2/BhDxisZ9qg</vt:lpwstr>
  </property>
  <property fmtid="{D5CDD505-2E9C-101B-9397-08002B2CF9AE}" pid="4" name="_ms_pID_7253432">
    <vt:lpwstr>Sk8ryF5eFveMSeGDQhulyrX6vi6r1m
2k3UOD7ucvtngZq5dZ/5w+PWc0dAfjxN/l0GQmLE3jCGXZZYuw4CsgRzlIeapOmwTlgGoyev</vt:lpwstr>
  </property>
  <property fmtid="{D5CDD505-2E9C-101B-9397-08002B2CF9AE}" pid="5" name="sflag">
    <vt:lpwstr>1320173501</vt:lpwstr>
  </property>
</Properties>
</file>