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11 Nove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7240"/>
            <a:ext cx="453060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B0EA-2A50-4DFF-96FB-B142B5493A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524120" cy="33940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296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2050-9625-45CE-8A5A-D70B695BF5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Date Placeholder 5"/>
          <p:cNvSpPr/>
          <p:nvPr/>
        </p:nvSpPr>
        <p:spPr>
          <a:xfrm>
            <a:off x="388476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11 Nove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504-295E-4D0D-BCFE-FD995324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08E-D672-422E-BB89-A6069D6F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53A-6630-4EC1-8649-72BFF0A8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211-6839-4343-822C-A6DBF16C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FB0-40CB-4308-8B30-9D6DF213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50E-551B-4E4A-B320-E6B2EDD2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AD0-EBC5-45AF-8728-FD60A53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516-43B4-487B-B4BB-6C355EAB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F34-68B2-4845-8149-539DF655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1B8-3A0F-44CF-987D-7BE52FE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98D-0993-47E6-9DCA-EB5CB2E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B35-4662-4320-AA10-134A7AA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283-33BE-4EDD-9995-AA95A367F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ILL issue: Using Pseudonode Nicknames for Ingress RBri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71440" y="3885840"/>
            <a:ext cx="3048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 Per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perlman@g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gjun Z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ngwei 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BD93-0AC7-49DB-8C5E-E47026502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ubtlety: Reusing nickname when DRB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45BB-E241-40FF-834F-E6ACF0162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use nickname if DRB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B needs to tell other RBs what the pseudonode nickname is (in Hell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DRB comes up, perhaps old RBs that remember the pseudonode nickname should tell the new DRB (in Hellos) what the pseudonode nickname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100-827B-428F-9F89-E9AB91CF9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if the link partitions into two link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new DRB even tell the difference between a link partitioning and the DRB dy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0230-C21A-49F7-A16C-BEB999E65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:  LAN partition vs DRB 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26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28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3DA8-EAE6-46C0-98FE-193F991C0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:  DRB dies: Reuse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4"/>
          <p:cNvSpPr/>
          <p:nvPr/>
        </p:nvSpPr>
        <p:spPr>
          <a:xfrm flipH="1">
            <a:off x="2895480" y="365760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5"/>
          <p:cNvSpPr/>
          <p:nvPr/>
        </p:nvSpPr>
        <p:spPr>
          <a:xfrm>
            <a:off x="2895480" y="3581280"/>
            <a:ext cx="609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8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30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016-A96D-4276-B52D-09C2B235D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:  LAN partition: Can R3 reuse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Both R1 and R3 will want 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4648320" y="3886200"/>
            <a:ext cx="4572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4834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4"/>
          <p:cNvSpPr/>
          <p:nvPr/>
        </p:nvSpPr>
        <p:spPr>
          <a:xfrm flipH="1">
            <a:off x="47242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53373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27"/>
          <p:cNvSpPr/>
          <p:nvPr/>
        </p:nvSpPr>
        <p:spPr>
          <a:xfrm flipH="1" flipV="1">
            <a:off x="50292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38134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29"/>
          <p:cNvSpPr/>
          <p:nvPr/>
        </p:nvSpPr>
        <p:spPr>
          <a:xfrm flipH="1">
            <a:off x="40240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83B-079D-487F-9D63-6BC3F9F9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optimistic and reuse the nick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’s really a partition, LSPs will resol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ever has higher priority gets to keep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ason why it’s better for old DRB to keep it rather than new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some endnodes will have incorrect entries in distant R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7F53-2FA7-4D3E-8CE0-D7EE25AA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ickname changes, alerting distant RBs that their endnode cache is now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tell them to delete entries associated with nicknam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tell them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ies that were 92 should now be 5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E403-CA04-44C4-8BDF-925BE86A6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le issue:  RPF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B4CE-67A7-404A-9741-0AFA42756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destination frames, pseudonode nickname, and the RPF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565440" y="46864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4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5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366480" y="26290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R3 is 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s tree T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4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6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3D52-65BF-4BAC-B5CD-4F37C773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ointed forwarder on a link changes from R1 to R2, remote RBridge endnode caches will be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EBFC-DFA2-48D7-8C37-1421DAE4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eally was ingress, R8 will rcv packet via 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565440" y="46864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4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5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366480" y="26290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R3 is 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s tree T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24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26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2EC7-FB53-4FDE-848E-D194A0A3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imulate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gressing th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F has to be the one to encapsulate the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end it back onto th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a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not the same a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the packet on the tre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assume R3 is AF, and look at previous sli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3 should encapsulate the frame, send it onto the link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 not forward it further until it receives the frame on a port in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322-D3F6-4DC1-986C-000F484AE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eally was ingress, R8 will rcv packet via 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565440" y="46864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6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366480" y="26290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R3 is 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s tree T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951520" y="2681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6"/>
          <p:cNvSpPr/>
          <p:nvPr/>
        </p:nvSpPr>
        <p:spPr>
          <a:xfrm>
            <a:off x="6019920" y="2971800"/>
            <a:ext cx="76176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7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28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30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EC61-F8B0-46C8-B6BA-B6BE7E1D5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at case, RPF check jus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ose rules fo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encapsulates, and forwards back onto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only forwards encapsulated pkt on tree if pkt received on port in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o is AF, packet looks like it comes from the pseudo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ill be received via only one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698E-67B5-404A-B701-E4147261F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the RPF check will always be 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450360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2"/>
          <p:cNvSpPr/>
          <p:nvPr/>
        </p:nvSpPr>
        <p:spPr>
          <a:xfrm flipH="1">
            <a:off x="327672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3"/>
          <p:cNvSpPr/>
          <p:nvPr/>
        </p:nvSpPr>
        <p:spPr>
          <a:xfrm flipH="1">
            <a:off x="4190760" y="2514600"/>
            <a:ext cx="533160" cy="10666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4"/>
          <p:cNvSpPr/>
          <p:nvPr/>
        </p:nvSpPr>
        <p:spPr>
          <a:xfrm>
            <a:off x="4800600" y="243828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62520" y="2629080"/>
            <a:ext cx="30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 will always receive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seudonode 92, tree T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 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2"/>
          <p:cNvSpPr/>
          <p:nvPr/>
        </p:nvSpPr>
        <p:spPr>
          <a:xfrm>
            <a:off x="3657600" y="2362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RPF: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5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7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3177-DEFF-4E6C-871D-6B9718559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 double multidestination traffic on 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ce as much multicast traffic on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, and encaps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directions (first hop and last h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problem even without pseudonode nick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a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be avo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7B05-5AFB-486A-96D1-50D26668A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048120" y="4419720"/>
            <a:ext cx="487656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432792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379584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73220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87520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4114800" y="403848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"/>
          <p:cNvSpPr/>
          <p:nvPr/>
        </p:nvSpPr>
        <p:spPr>
          <a:xfrm>
            <a:off x="50292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"/>
          <p:cNvSpPr/>
          <p:nvPr/>
        </p:nvSpPr>
        <p:spPr>
          <a:xfrm flipH="1">
            <a:off x="5715000" y="396252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265720" y="2133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3"/>
          <p:cNvSpPr/>
          <p:nvPr/>
        </p:nvSpPr>
        <p:spPr>
          <a:xfrm flipH="1">
            <a:off x="4038480" y="2438280"/>
            <a:ext cx="1371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4"/>
          <p:cNvSpPr/>
          <p:nvPr/>
        </p:nvSpPr>
        <p:spPr>
          <a:xfrm flipH="1">
            <a:off x="4952880" y="2514600"/>
            <a:ext cx="533520" cy="1066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5"/>
          <p:cNvSpPr/>
          <p:nvPr/>
        </p:nvSpPr>
        <p:spPr>
          <a:xfrm>
            <a:off x="5562720" y="2438280"/>
            <a:ext cx="53316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429000" y="36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434340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63244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601992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4419720" y="2362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RPF: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450000" y="2324160"/>
            <a:ext cx="353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pseudonode nickn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oblem: ingress=AF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nick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: if R3 is AF, and that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not in the tree, R3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apsulate and 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though spec says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ver send encaps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on an access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66452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4"/>
          <p:cNvSpPr/>
          <p:nvPr/>
        </p:nvSpPr>
        <p:spPr>
          <a:xfrm flipH="1">
            <a:off x="490536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24"/>
          <p:cNvSpPr/>
          <p:nvPr/>
        </p:nvSpPr>
        <p:spPr>
          <a:xfrm>
            <a:off x="551844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25"/>
          <p:cNvSpPr/>
          <p:nvPr/>
        </p:nvSpPr>
        <p:spPr>
          <a:xfrm flipH="1" flipV="1">
            <a:off x="521028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99456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27"/>
          <p:cNvSpPr/>
          <p:nvPr/>
        </p:nvSpPr>
        <p:spPr>
          <a:xfrm flipH="1">
            <a:off x="4205160" y="5029200"/>
            <a:ext cx="54792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BA22-35F6-4F3F-BA95-1307F0892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3 should not volunteer to be an AF on L if R3’s port to L is not i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e (R3’s port to L is in at least one tree) R3 should only ingress on behalf of 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trees that R3’s port to L i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DB1A-64BB-475F-B0FB-02F9E06D2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node cache wrong if AF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5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394992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4"/>
          <p:cNvSpPr/>
          <p:nvPr/>
        </p:nvSpPr>
        <p:spPr>
          <a:xfrm flipH="1">
            <a:off x="4190760" y="51055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480420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4"/>
          <p:cNvSpPr/>
          <p:nvPr/>
        </p:nvSpPr>
        <p:spPr>
          <a:xfrm flipH="1" flipV="1">
            <a:off x="449568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327996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27"/>
          <p:cNvSpPr/>
          <p:nvPr/>
        </p:nvSpPr>
        <p:spPr>
          <a:xfrm flipH="1">
            <a:off x="349056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29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E4F-5617-4801-98D9-B5DD4C595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ution: Use pseudonode nickname for i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25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29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31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81C5-E8B9-494B-8954-66C18D8FB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ubtle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with access links (links that are supposed to only be leaves…no inter-RB traffic…no inter-RB links adverti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 by not using a pseudonode (and having all RBs on the link claim they are using nicknam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 pseudonode with nickname 92, and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 set, so paths through 92 not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1552-2763-4DD1-85F7-FDEBA960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link: need to forward rcv’d pkt addressed to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3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5257800" y="4662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21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402624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>
            <a:off x="4267080" y="5105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488016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25"/>
          <p:cNvSpPr/>
          <p:nvPr/>
        </p:nvSpPr>
        <p:spPr>
          <a:xfrm flipH="1" flipV="1">
            <a:off x="457200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35628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27"/>
          <p:cNvSpPr/>
          <p:nvPr/>
        </p:nvSpPr>
        <p:spPr>
          <a:xfrm flipH="1">
            <a:off x="356688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309600" y="4971960"/>
            <a:ext cx="25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R8 sends to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kt might reach non-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AF can decapsula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A844-10CE-4F8A-9ACF-7CF6BFF82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ase: might have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aggregation port group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’s a feature where a bridge B has two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-link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Bs, only forwarding on one up-link (chosen at random), and never forwarding between the up-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re wouldn’t be any AF’s in that case, and the RBs wouldn’t see each other’s Hel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761F-1DD2-4725-8DCC-B552AF43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n general case, need to forward on last hop to 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86E8-ED90-4FED-ADE0-FE424E620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not use pseudonode nickname on access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2286000" y="4419720"/>
            <a:ext cx="48769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565800" y="46864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033720" y="3672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970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113440" y="3595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3352680" y="40384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42670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2"/>
          <p:cNvSpPr/>
          <p:nvPr/>
        </p:nvSpPr>
        <p:spPr>
          <a:xfrm flipH="1">
            <a:off x="4952520" y="39625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1752480" y="1981080"/>
            <a:ext cx="5486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347920" y="2400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 flipH="1">
            <a:off x="3276360" y="30481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114800" y="297180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 flipH="1">
            <a:off x="5333760" y="30481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870360" y="20955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 of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666880" y="3672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581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5562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949920" y="5676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 flipH="1">
            <a:off x="4190760" y="510552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219240" y="209556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node 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/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22"/>
          <p:cNvSpPr/>
          <p:nvPr/>
        </p:nvSpPr>
        <p:spPr>
          <a:xfrm>
            <a:off x="4804200" y="579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24"/>
          <p:cNvSpPr/>
          <p:nvPr/>
        </p:nvSpPr>
        <p:spPr>
          <a:xfrm flipH="1" flipV="1">
            <a:off x="4495680" y="5105160"/>
            <a:ext cx="519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3279960" y="5829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27"/>
          <p:cNvSpPr/>
          <p:nvPr/>
        </p:nvSpPr>
        <p:spPr>
          <a:xfrm flipH="1">
            <a:off x="3490560" y="5029200"/>
            <a:ext cx="54756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29"/>
          <p:cNvSpPr/>
          <p:nvPr/>
        </p:nvSpPr>
        <p:spPr>
          <a:xfrm flipH="1" flipV="1">
            <a:off x="1447920" y="2361960"/>
            <a:ext cx="89856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F3D4-3EA8-46F4-9786-58D4CD93B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adia Perlman</dc:creator>
  <dc:description/>
  <dc:language>en-US</dc:language>
  <cp:lastModifiedBy>Donald Eastlake III</cp:lastModifiedBy>
  <dcterms:modified xsi:type="dcterms:W3CDTF">2011-11-14T15:40:41Z</dcterms:modified>
  <cp:revision>55</cp:revision>
  <dc:subject/>
  <dc:title>Rbridges: Transparent Routing</dc:title>
</cp:coreProperties>
</file>