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96FF-F63C-42F7-83D0-1C7E981E7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CD63-2CF5-4465-B089-D196BEC5E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502920" y="4316400"/>
            <a:ext cx="5856120" cy="40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9840-EF13-4E89-A914-6BDA34C14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502920" y="4316400"/>
            <a:ext cx="5856120" cy="40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10A6-C99F-423C-B4AA-07927BCD7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VP Sec Group Key – SecDir: It has a LOT of problems – need to work with the reviewer to resolve these – James is Shepherd</a:t>
            </a:r>
            <a:endParaRPr b="0" lang="en-US" sz="1200" spc="-1" strike="noStrike">
              <a:solidFill>
                <a:srgbClr val="000000"/>
              </a:solidFill>
              <a:latin typeface="Arial"/>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2E4C-C56B-4F2E-9B59-E825DE954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F7F0-82A5-4075-9EC3-36FCE31B5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EE0C2-6052-4D04-A256-43E86A561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3D93F-B1E3-4C5A-93C2-9F2930332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4ED3C-71B2-4105-9FB9-D019B8B62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B674D-F1CC-4752-93AD-B1F13468B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6F507-E98F-4DF5-A34D-8E10AA4B2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7BE45-A49F-4C36-ADC1-B66B8A2DD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0DC71-2937-430A-954B-3E88E9C9B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DD2E2-B6C7-424F-AA71-8E2882AE9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9F481-E052-498C-8159-D55E5D1FA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70B52-0DB4-4087-B57D-E2ABC4270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C3D20-E857-4DF7-920F-E753BE715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3E176-F712-497F-852C-3F9BB3152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8C08-7BCE-4C7C-AD61-B03D18A2CA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VWG</a:t>
            </a:r>
            <a:br>
              <a:rPr sz="4400"/>
            </a:br>
            <a:r>
              <a:rPr b="0" lang="en-US" sz="3200" spc="-1" strike="noStrike">
                <a:solidFill>
                  <a:srgbClr val="000000"/>
                </a:solidFill>
                <a:latin typeface="Arial"/>
              </a:rPr>
              <a:t>IETF-82 (Taipei)</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 Eddy (TSV AD)</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es Polk (WG chair absen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rry Fairhurst (WG chair abs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51" name="Rectangle 7"/>
          <p:cNvSpPr/>
          <p:nvPr/>
        </p:nvSpPr>
        <p:spPr>
          <a:xfrm>
            <a:off x="152280" y="1219320"/>
            <a:ext cx="8839440" cy="533376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he IETF plenary session,</a:t>
            </a:r>
            <a:br>
              <a:rPr sz="1400"/>
            </a:br>
            <a:r>
              <a:rPr b="0" lang="en-US" sz="1400" spc="-1" strike="noStrike">
                <a:solidFill>
                  <a:srgbClr val="000000"/>
                </a:solidFill>
                <a:latin typeface="Arial"/>
              </a:rPr>
              <a:t>  - any IETF working group or portion thereof,</a:t>
            </a:r>
            <a:br>
              <a:rPr sz="1400"/>
            </a:br>
            <a:r>
              <a:rPr b="0" lang="en-US" sz="1400" spc="-1" strike="noStrike">
                <a:solidFill>
                  <a:srgbClr val="000000"/>
                </a:solidFill>
                <a:latin typeface="Arial"/>
              </a:rPr>
              <a:t>  - the IESG or any member thereof on behalf of the IESG,</a:t>
            </a:r>
            <a:br>
              <a:rPr sz="1400"/>
            </a:br>
            <a:r>
              <a:rPr b="0" lang="en-US" sz="1400" spc="-1" strike="noStrike">
                <a:solidFill>
                  <a:srgbClr val="000000"/>
                </a:solidFill>
                <a:latin typeface="Arial"/>
              </a:rPr>
              <a:t>  - the IAB or any member thereof on behalf of the IAB,</a:t>
            </a:r>
            <a:br>
              <a:rPr sz="1400"/>
            </a:br>
            <a:r>
              <a:rPr b="0" lang="en-US" sz="1400" spc="-1" strike="noStrike">
                <a:solidFill>
                  <a:srgbClr val="000000"/>
                </a:solidFill>
                <a:latin typeface="Arial"/>
              </a:rPr>
              <a:t>  - any IETF mailing list, including the IETF list itself, </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ny working group or design team list, or any other </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list functioning under IETF auspices,</a:t>
            </a:r>
            <a:br>
              <a:rPr sz="1400"/>
            </a:br>
            <a:r>
              <a:rPr b="0" lang="en-US" sz="1400" spc="-1" strike="noStrike">
                <a:solidFill>
                  <a:srgbClr val="000000"/>
                </a:solidFill>
                <a:latin typeface="Arial"/>
              </a:rPr>
              <a:t>  - the RFC Editor or the Internet-Drafts function </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All IETF Contributions are subject to the rules of RFC 5378 and RFC 3979 (updated by RFC 4879). </a:t>
            </a: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participant in any IETF activity is deemed to accept all IETF rules of process, as documented in Best Current Practices RFCs and IESG Statements. </a:t>
            </a: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participant in any IETF activity acknowledges that written, audio and video records of meetings may be made and may be available to the public.</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Not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another Note Tak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a scribe for Jabber sess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TSVWG Autho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EASE add “-tsvwg-” to any ID submit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VWG Agend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irs Agenda Bash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E WEL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cument Status and Accomplish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lestones Revie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is an RSVP Directorate n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Stat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s Age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680"/>
            <a:ext cx="91440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SVWG Accomplishments and Status</a:t>
            </a:r>
            <a:endParaRPr b="0" lang="en-US" sz="4000" spc="-1" strike="noStrike">
              <a:solidFill>
                <a:srgbClr val="000000"/>
              </a:solidFill>
              <a:latin typeface="Arial"/>
            </a:endParaRPr>
          </a:p>
        </p:txBody>
      </p:sp>
      <p:sp>
        <p:nvSpPr>
          <p:cNvPr id="57" name="PlaceHolder 2"/>
          <p:cNvSpPr>
            <a:spLocks noGrp="1"/>
          </p:cNvSpPr>
          <p:nvPr>
            <p:ph/>
          </p:nvPr>
        </p:nvSpPr>
        <p:spPr>
          <a:xfrm>
            <a:off x="228600" y="1495080"/>
            <a:ext cx="8763120" cy="5210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FCs published since IETF 81:</a:t>
            </a:r>
            <a:endParaRPr b="0" lang="en-US" sz="28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335/BCP 165 IANA Procedures for the Management of the Transport Protocol Port Number and Service Name Registr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401 Applicability of Keying Methods for RSVP Secur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6411 RSVP Extensions for Emergency Services</a:t>
            </a:r>
            <a:endParaRPr b="0" lang="en-US" sz="2000" spc="-1" strike="noStrike">
              <a:solidFill>
                <a:srgbClr val="000000"/>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Ds in RFC Editor Queue now:</a:t>
            </a:r>
            <a:endParaRPr b="0" lang="en-US" sz="28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P Socket API</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Ds in IESG processing</a:t>
            </a:r>
            <a:endParaRPr b="0" lang="en-US" sz="2800" spc="-1" strike="noStrike">
              <a:solidFill>
                <a:srgbClr val="000000"/>
              </a:solidFill>
              <a:latin typeface="Arial"/>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P Rese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680"/>
            <a:ext cx="91440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SVWG Accomplishments and Status</a:t>
            </a:r>
            <a:endParaRPr b="0" lang="en-US" sz="4000" spc="-1" strike="noStrike">
              <a:solidFill>
                <a:srgbClr val="000000"/>
              </a:solidFill>
              <a:latin typeface="Arial"/>
            </a:endParaRPr>
          </a:p>
        </p:txBody>
      </p:sp>
      <p:sp>
        <p:nvSpPr>
          <p:cNvPr id="59" name="PlaceHolder 2"/>
          <p:cNvSpPr>
            <a:spLocks noGrp="1"/>
          </p:cNvSpPr>
          <p:nvPr>
            <p:ph/>
          </p:nvPr>
        </p:nvSpPr>
        <p:spPr>
          <a:xfrm>
            <a:off x="228600" y="1495080"/>
            <a:ext cx="8763120" cy="5057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D past WGLC (</a:t>
            </a:r>
            <a:r>
              <a:rPr b="0" i="1" lang="en-US" sz="2400" spc="-1" strike="noStrike">
                <a:solidFill>
                  <a:srgbClr val="000000"/>
                </a:solidFill>
                <a:latin typeface="Arial"/>
              </a:rPr>
              <a:t>stil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ation of ICMP Source Quench messages</a:t>
            </a:r>
            <a:endParaRPr b="0" lang="en-US" sz="20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ID in WGLC ()</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Ds almost ready for WGL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te and Packet Congestion Notifica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286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G ID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P Network Address Translation Suppor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Serv MULTI_TSPE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P Encapsulation in UDP</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D going to call for WG adop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commandations for Transport Port Use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2"/>
          <p:cNvSpPr>
            <a:spLocks noGrp="1"/>
          </p:cNvSpPr>
          <p:nvPr>
            <p:ph type="title"/>
          </p:nvPr>
        </p:nvSpPr>
        <p:spPr>
          <a:xfrm>
            <a:off x="0" y="274680"/>
            <a:ext cx="91440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SVWG Accomplishments and Stat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6840" y="1599840"/>
            <a:ext cx="8534520" cy="4876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irs Agenda Bash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WELL                                                                           (15 m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cument Status and Accomplishmen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lestones Revie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ESG Feedba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n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GLC Feedba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 Quench                                                                        (2 m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G Draf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and Packet Congestion Notification                                  (2 m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fr-FR" sz="1600" spc="-1" strike="noStrike">
                <a:solidFill>
                  <a:srgbClr val="000000"/>
                </a:solidFill>
                <a:latin typeface="Arial"/>
              </a:rPr>
              <a:t>Recommandations for Transport Port Uses                            (10 m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en-US" sz="1600" spc="-1" strike="noStrike">
                <a:solidFill>
                  <a:srgbClr val="000000"/>
                </a:solidFill>
                <a:latin typeface="Arial"/>
              </a:rPr>
              <a:t>Reactions to Signaling from ECN Support for RTP/RTCP       (10 m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hared Use of Experimental TCP Options                               (10 m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VWG Agen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12:47:32Z</dcterms:created>
  <dc:creator/>
  <dc:description/>
  <dc:language>en-US</dc:language>
  <cp:lastModifiedBy>James Polk</cp:lastModifiedBy>
  <cp:lastPrinted>2010-03-22T14:31:47Z</cp:lastPrinted>
  <dcterms:modified xsi:type="dcterms:W3CDTF">2011-11-14T03:24:01Z</dcterms:modified>
  <cp:revision>14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