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52F2-3402-481D-BB8D-241D14C12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F16F-6B98-420E-AFB0-491A248F5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502920" y="4316400"/>
            <a:ext cx="5856120" cy="40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5F21-0FA1-45E3-9828-999A71350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502920" y="4316400"/>
            <a:ext cx="5856120" cy="40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BFF9-7985-40E6-BECE-01F3F30B5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VP Sec Group Key – SecDir: It has a LOT of problems – need to work with the reviewer to resolve these – James is Shepherd</a:t>
            </a:r>
            <a:endParaRPr b="0" lang="en-US" sz="1200" spc="-1" strike="noStrike">
              <a:solidFill>
                <a:srgbClr val="000000"/>
              </a:solidFill>
              <a:latin typeface="Arial"/>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EC0E-DA8F-4C70-A3BC-48E03E663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CA64-F4AA-49BC-A7D1-222E88C7C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BE801-B683-4EB6-858F-FF9F2410E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C198A-063E-401F-ABEE-CB32E2222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59D6D-E2AE-4140-AAD3-11A14CD6B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F3765-841E-4D66-98CD-58A2A804F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85C0B-81A1-4496-9045-B3C829E99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04A75-5FD8-4F53-84F2-1A900AAB7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73C60-ADC2-4834-B8AD-D3817CC20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B8D8B-A84C-428C-9954-EAF6981BA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97FB1-F50D-4162-85EA-E2F11AEA4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8EA74-50AB-4783-9D78-CA858F89B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D6644-2033-4866-ACD4-274CF303D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F17C0-67DA-4BFA-B1A0-62B713B1F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D023-8027-478D-A974-C8EC1E259F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a:t>
            </a:r>
            <a:br>
              <a:rPr sz="4400"/>
            </a:br>
            <a:r>
              <a:rPr b="0" lang="en-US" sz="3200" spc="-1" strike="noStrike">
                <a:solidFill>
                  <a:srgbClr val="000000"/>
                </a:solidFill>
                <a:latin typeface="Arial"/>
              </a:rPr>
              <a:t>IETF-82 (Taipei)</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 Eddy (TSV AD)</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es Polk (WG chair absen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rry Fairhurst (WG chair abs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1" name="Rectangle 7"/>
          <p:cNvSpPr/>
          <p:nvPr/>
        </p:nvSpPr>
        <p:spPr>
          <a:xfrm>
            <a:off x="152280" y="1219320"/>
            <a:ext cx="8839440" cy="533376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he IETF plenary session,</a:t>
            </a:r>
            <a:br>
              <a:rPr sz="1400"/>
            </a:br>
            <a:r>
              <a:rPr b="0" lang="en-US" sz="1400" spc="-1" strike="noStrike">
                <a:solidFill>
                  <a:srgbClr val="000000"/>
                </a:solidFill>
                <a:latin typeface="Arial"/>
              </a:rPr>
              <a:t>  - any IETF working group or portion thereof,</a:t>
            </a:r>
            <a:br>
              <a:rPr sz="1400"/>
            </a:br>
            <a:r>
              <a:rPr b="0" lang="en-US" sz="1400" spc="-1" strike="noStrike">
                <a:solidFill>
                  <a:srgbClr val="000000"/>
                </a:solidFill>
                <a:latin typeface="Arial"/>
              </a:rPr>
              <a:t>  - the IESG or any member thereof on behalf of the IESG,</a:t>
            </a:r>
            <a:br>
              <a:rPr sz="1400"/>
            </a:br>
            <a:r>
              <a:rPr b="0" lang="en-US" sz="1400" spc="-1" strike="noStrike">
                <a:solidFill>
                  <a:srgbClr val="000000"/>
                </a:solidFill>
                <a:latin typeface="Arial"/>
              </a:rPr>
              <a:t>  - the IAB or any member thereof on behalf of the IAB,</a:t>
            </a:r>
            <a:br>
              <a:rPr sz="1400"/>
            </a:br>
            <a:r>
              <a:rPr b="0" lang="en-US" sz="1400" spc="-1" strike="noStrike">
                <a:solidFill>
                  <a:srgbClr val="000000"/>
                </a:solidFill>
                <a:latin typeface="Arial"/>
              </a:rPr>
              <a:t>  - any IETF mailing list, including the IETF list itself, </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ny working group or design team list, or any other </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list functioning under IETF auspices,</a:t>
            </a:r>
            <a:br>
              <a:rPr sz="1400"/>
            </a:br>
            <a:r>
              <a:rPr b="0" lang="en-US" sz="1400" spc="-1" strike="noStrike">
                <a:solidFill>
                  <a:srgbClr val="000000"/>
                </a:solidFill>
                <a:latin typeface="Arial"/>
              </a:rPr>
              <a:t>  - the RFC Editor or the Internet-Drafts function </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participant in any IETF activity is deemed to accept all IETF rules of process, as documented in Best Current Practices RFCs and IESG Statements.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participant in any IETF activity acknowledges that written, audio and video records of meetings may be made and may be available to the public.</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Not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nother Note Tak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 scribe for Jabber sess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TSVWG Autho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EASE add “-tsvwg-” to any ID submit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 Agend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irs Agenda Bash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E WEL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cument Status and Accomplish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lestones Revie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is an RSVP Directorate n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Stat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s Age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680"/>
            <a:ext cx="91440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SVWG Accomplishments and Status</a:t>
            </a:r>
            <a:endParaRPr b="0" lang="en-US" sz="4000" spc="-1" strike="noStrike">
              <a:solidFill>
                <a:srgbClr val="000000"/>
              </a:solidFill>
              <a:latin typeface="Arial"/>
            </a:endParaRPr>
          </a:p>
        </p:txBody>
      </p:sp>
      <p:sp>
        <p:nvSpPr>
          <p:cNvPr id="57" name="PlaceHolder 2"/>
          <p:cNvSpPr>
            <a:spLocks noGrp="1"/>
          </p:cNvSpPr>
          <p:nvPr>
            <p:ph/>
          </p:nvPr>
        </p:nvSpPr>
        <p:spPr>
          <a:xfrm>
            <a:off x="228600" y="1495080"/>
            <a:ext cx="8763120" cy="5210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FCs published since IETF 81:</a:t>
            </a:r>
            <a:endParaRPr b="0" lang="en-US" sz="2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35/BCP 165 IANA Procedures for the Management of the Transport Protocol Port Number and Service Name Registr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401 Applicability of Keying Methods for RSVP Secur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411 RSVP Extensions for Emergency Services</a:t>
            </a:r>
            <a:endParaRPr b="0" lang="en-US" sz="20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Ds in RFC Editor Queue now:</a:t>
            </a:r>
            <a:endParaRPr b="0" lang="en-US" sz="2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Socket API</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Ds in IESG processing</a:t>
            </a:r>
            <a:endParaRPr b="0" lang="en-US" sz="2800" spc="-1" strike="noStrike">
              <a:solidFill>
                <a:srgbClr val="0000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Res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680"/>
            <a:ext cx="91440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SVWG Accomplishments and Status</a:t>
            </a:r>
            <a:endParaRPr b="0" lang="en-US" sz="4000" spc="-1" strike="noStrike">
              <a:solidFill>
                <a:srgbClr val="000000"/>
              </a:solidFill>
              <a:latin typeface="Arial"/>
            </a:endParaRPr>
          </a:p>
        </p:txBody>
      </p:sp>
      <p:sp>
        <p:nvSpPr>
          <p:cNvPr id="59" name="PlaceHolder 2"/>
          <p:cNvSpPr>
            <a:spLocks noGrp="1"/>
          </p:cNvSpPr>
          <p:nvPr>
            <p:ph/>
          </p:nvPr>
        </p:nvSpPr>
        <p:spPr>
          <a:xfrm>
            <a:off x="228600" y="1495080"/>
            <a:ext cx="8763120" cy="505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 past WGLC (</a:t>
            </a:r>
            <a:r>
              <a:rPr b="0" i="1" lang="en-US" sz="2400" spc="-1" strike="noStrike">
                <a:solidFill>
                  <a:srgbClr val="000000"/>
                </a:solidFill>
                <a:latin typeface="Arial"/>
              </a:rPr>
              <a:t>stil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ation of ICMP Source Quench messages</a:t>
            </a:r>
            <a:endParaRPr b="0" lang="en-US" sz="20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ID in WGLC ()</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s almost ready for WGL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 and Packet Congestion Notific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6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G ID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Network Address Translation Suppor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Serv MULTI_TSPE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Encapsulation in UDP</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 going to call for WG adop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commandations for Transport Port Use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2"/>
          <p:cNvSpPr>
            <a:spLocks noGrp="1"/>
          </p:cNvSpPr>
          <p:nvPr>
            <p:ph type="title"/>
          </p:nvPr>
        </p:nvSpPr>
        <p:spPr>
          <a:xfrm>
            <a:off x="0" y="274680"/>
            <a:ext cx="91440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SVWG Accomplishments and Stat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1599840"/>
            <a:ext cx="8534520" cy="4876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irs Agenda Bash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WELL                                                                           (15 m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cument Status and Accomplishm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lestones Revie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SG Feedb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n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GLC Feedb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 Quench                                                                        (2 m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G Draf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and Packet Congestion Notification                                  (2 m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fr-FR" sz="1600" spc="-1" strike="noStrike">
                <a:solidFill>
                  <a:srgbClr val="000000"/>
                </a:solidFill>
                <a:latin typeface="Arial"/>
              </a:rPr>
              <a:t>Recommandations for Transport Port Uses                            (10 m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en-US" sz="1600" spc="-1" strike="noStrike">
                <a:solidFill>
                  <a:srgbClr val="000000"/>
                </a:solidFill>
                <a:latin typeface="Arial"/>
              </a:rPr>
              <a:t>Reactions to Signaling from ECN Support for RTP/RTCP       (10 m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ared Use of Experimental TCP Options                               (10 m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 Agen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12:47:32Z</dcterms:created>
  <dc:creator/>
  <dc:description/>
  <dc:language>en-US</dc:language>
  <cp:lastModifiedBy>James Polk</cp:lastModifiedBy>
  <cp:lastPrinted>2010-03-22T14:31:47Z</cp:lastPrinted>
  <dcterms:modified xsi:type="dcterms:W3CDTF">2011-11-14T03:24:01Z</dcterms:modified>
  <cp:revision>14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