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D395-8944-4D3C-AE58-D4E9BDE912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8E65-9888-437A-9D75-4EF4EF62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A48E-31BF-44DB-8E01-08E37E65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E591-FD6E-4744-B857-82A269D47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7052D-4991-424E-97F4-4DB081E5FD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2AA2E-4D58-45E7-92C7-6BB3FF43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9AA85-7BA7-44C3-87E3-EAC6C822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0974A-FB9E-4AA7-9D6E-9C45B95F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C1CFD-28ED-4B60-857F-034F7A05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5DBA8-1873-4117-BC8D-4E2619CE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53654-52DE-48B7-B0B0-1372D3A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E131-3BD6-4EC0-A645-6AABC962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7DB62-7A06-40A8-A741-EBAB3AE9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C994A-D7E0-490E-AF67-62AFD363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34DFE-7294-433A-9C45-C0570C86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99EAF-CEF7-48E1-ABE9-E992FDA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4888E-2411-4C8A-845F-271073EE9E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44E2-1024-4E22-BD92-386312CB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B185-F651-4989-9083-DC3CA97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F898-B220-4D43-B5A5-27D5E0EA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72E6-6904-4350-BAA8-1F3D3FAA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B4CA-4612-4BCB-9EDB-52F60A73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234E-24EF-416D-9C50-21BF2BB0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D0D6-7A38-4B80-9824-704BD895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D18D-71B9-42F9-8679-C28660CAF0D7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023F76BD-8694-47FA-8753-27A5D2C558B1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7D8C-5C56-40CE-B581-9AEAE42B4D62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FF08-8350-497B-ADE4-6F8880A17DEB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CF906F57-B53E-48DB-8172-C6E4A4F4A5DB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0917-7F87-4391-ADDA-3EFFC9F29A2F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8378-5E07-49F4-B41D-6A7D5474A20B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13C8BA4E-1A15-4537-B918-A88562E9F3DD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864E-3D72-4F4F-813E-32FF803129CB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0000"/>
                </a:solidFill>
                <a:latin typeface="Arial Black"/>
              </a:rPr>
              <a:t>Recommendations for Transport Port Us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draft-touch-tsvwg-port-use-01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urpose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BCP advice to </a:t>
            </a:r>
            <a:r>
              <a:rPr b="1" i="1" lang="en-US" sz="3200" spc="-1" strike="noStrike">
                <a:solidFill>
                  <a:srgbClr val="990000"/>
                </a:solidFill>
                <a:latin typeface="Tahoma"/>
              </a:rPr>
              <a:t>protocol designer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Encourage port conservation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Encourage use of existing servic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scourage ‘reinventing the wheel’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larify how to describe a service in an application and/or I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ahoma"/>
              </a:rPr>
              <a:t>NO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rection to the IESG or Expert Review team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CADD-A0B9-4027-A7A2-5132BAEBE6CD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0FCBAF06-FCD2-415C-8EF9-812BE5C68FDE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185C-2284-47BA-9255-4538AC57FEC6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urrent Statu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etailed history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keleton of issu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any established conservation issu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Discuss TCP service with UDP discover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Discuss multiple ports for insecure/secur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Discuss (or deprecate?) system/user boundar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Seeking: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Move doc to WG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Input (issues first, please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Collaborator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9965-CF40-41EF-BA63-D05E374E4A5D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AAA4D4C2-FD0A-4A07-9B8F-F3252705B8F8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424-39B8-4EBE-848B-D937C44185B5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James Polk</cp:lastModifiedBy>
  <cp:lastPrinted>1999-12-13T07:41:19Z</cp:lastPrinted>
  <dcterms:modified xsi:type="dcterms:W3CDTF">2011-11-14T03:56:47Z</dcterms:modified>
  <cp:revision>173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