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D647-AA10-4D22-ADC3-2F245C534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9816-37DD-4894-9102-7D82AB7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8BB8-DDA0-4EE0-96AB-10DB648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2FAA-DA95-4F50-BC00-D7E89F2ED0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FBE4-BBFA-4382-B513-E020AF9487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F3E4-213E-45FF-9857-00D0FB08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653F6-A2DE-481C-91A4-7FAE5934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75DA-2C90-44F2-8DD1-A4E20C2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29D6-AD5A-4374-8885-B00DFE0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7AB4-3879-4B5A-BF45-BBC0D654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20AE8-FD72-4D41-A45F-49E8A52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676E-A27D-4F0E-A20E-C8D0820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9CD5-08A6-4C9B-AABC-D2A75717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2E9A-292B-4F95-BE4C-8900E962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A8A8F-17AA-4FD8-93E9-85209B71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563AF-295E-4402-98FE-5451AC5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7A5D3-996D-4610-BF62-E295086BF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0B1D-00F6-4BF9-9970-C8677B5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8C9B-2358-4F5A-B616-55D1F5F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782B-B1E7-4A88-889D-8E96B9AA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7BAE-0290-4261-B397-E00A6012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270-F45D-4D14-9FB6-5F849B9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79A2-EEDE-4908-91CC-52EB2CA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79FD-E851-4A7C-BD32-8EFDA15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45C-0400-4CCC-9BAD-82E6F8EACF04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57E9DD7-778C-4266-9A7D-096A924EBC5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078-47FA-4F36-B8BE-B60CA5098534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61D-2CD4-4B30-B965-5F718EDF42D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DB23FFC-DD31-41FE-8130-6A375590494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E87-0C58-4B09-B5E3-CAAFFBFE689B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7C0C-D937-4B8A-88B6-DDF297CE84B7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93C2BB8-6FC2-43C3-A7FB-7DD767B0A57C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ACC-4E7E-4E6E-87F5-74E586715558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00"/>
                </a:solidFill>
                <a:latin typeface="Arial Black"/>
              </a:rPr>
              <a:t>Recommendations for Transport Port Us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draft-touch-tsvwg-port-use-01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urpos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BCP advice to </a:t>
            </a:r>
            <a:r>
              <a:rPr b="1" i="1" lang="en-US" sz="3200" spc="-1" strike="noStrike">
                <a:solidFill>
                  <a:srgbClr val="990000"/>
                </a:solidFill>
                <a:latin typeface="Tahoma"/>
              </a:rPr>
              <a:t>protocol designer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ncourage port conservation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ncourage use of existing servic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scourage ‘reinventing the wheel’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larify how to describe a service in an application and/or I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ahoma"/>
              </a:rPr>
              <a:t>NO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rection to the IESG or Expert Review team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83C4-673B-4B11-AAD6-E8C9C0E465E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6367C5C1-E234-4480-ADD6-170F5D86A63E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4B61-0B1B-4A61-AEC1-6C91D0DC188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urrent Statu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ailed history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keleton of iss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ny established conservation iss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TCP service with UDP discover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multiple ports for insecure/secur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uss (or deprecate?) system/user boundar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Seeking: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Move doc to WG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Input (issues first, pleas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Collaborator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55C6-D492-4EED-8FCC-6B1A9483728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19B6D45F-1BB7-4C33-964B-52F37854E814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BE00-0494-473D-A181-E818E15933F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ames Polk</cp:lastModifiedBy>
  <cp:lastPrinted>1999-12-13T07:41:19Z</cp:lastPrinted>
  <dcterms:modified xsi:type="dcterms:W3CDTF">2011-11-14T03:56:47Z</dcterms:modified>
  <cp:revision>173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