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391968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7"/>
          </p:nvPr>
        </p:nvSpPr>
        <p:spPr>
          <a:xfrm>
            <a:off x="391968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EDD6364-B826-43ED-874E-B48FE5DE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70BD38E-5D38-433A-AB4E-49FC5B62780C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B8CA639-FF85-47D4-B9F7-15084F6D3253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A36C-7C4E-48BA-BF3C-8FE8FEDCE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C6EC-86D7-4E38-A667-F4A5E942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81D1-2462-4D8D-9C77-65195A2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56A1-77CD-4718-B3B8-21C5BCEDA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729F3-465A-4D47-A838-75A6E57A3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9B8ED-ACFA-4391-9096-346FC112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A17CC-4EAF-44B6-A5A4-A5E708E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EB1CF-0EDF-40DA-9A9C-E1FAB7A4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0C092-DFF0-4E26-A8FC-2D9505E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88070-2EB3-4291-A459-8FF5E5B6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7402A-F49A-46A8-82BF-C0284E2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B13E-C2D5-4F5B-A9D1-D7CE2D91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035E-7A08-4DB8-BB78-757DCA4F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8B91-5555-47F2-8B8C-02EA805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BA405-13E0-42C4-B47A-9C7D3ED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9F09-B2B3-4E5F-AD75-C124A42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67FC-179D-4943-BD18-95B5F7826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EC8F-82E4-40D3-ADAB-9340AD1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9F5C-5341-47C8-B04F-DD41361D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2BA0-EED6-4684-BAD4-12A63EA1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3A8F-E006-4B95-84EE-81859A39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18ED-124F-4451-8E99-12ECEB43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22B3-202D-4EA3-9484-0D731873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1261-44F9-4733-B674-FFB37C7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BC6-8912-48DB-954E-18A4A543D8E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7F9DB53-A847-41B3-A248-8F4A4C6A5549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1D74-1A7F-47EB-9C45-377DECFCD83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A63-99F5-4D74-B685-85633DB5EC18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F008592A-87FD-4C20-A5B1-948BD71659F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E984-235A-4B59-859B-FC785BF0883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E5A-1BA9-4315-B034-B28A8F6F806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68D096A4-9DD2-46EA-B7FF-52FB99ED6C53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850A-516F-420D-B226-7D042E3404D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experimental-options-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ossible extens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once + checksum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ects/avoids legacy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r space, higher computation cos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e in other exp. codepoin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tably TCP/UDP por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166-C280-4D31-93D4-B79C9BED1D7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6B25B0FA-A886-489F-A947-1ADE50375EE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00A-4E8F-4843-98E2-A2514C585F7A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formational (or BCP?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8CD-EB37-4031-8F6D-DD85F5E2D164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4B3DB68-6839-48DC-85AB-D6DBACBED67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6266-8AB6-4E14-B37E-6EF1048EE6D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79C-D241-4C2C-8FA0-6571F97ADAB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F0082995-02F5-4D8D-9133-EBB2AE3222C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C0F6-10C3-4F1A-ACD9-86ED3EF85F6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812600"/>
            <a:ext cx="851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Precursor to TCP AO (253, 254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 Cookie Transaction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deployed (31, 32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spec’d (253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crypt (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Other commercial products (33, 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6086-5111-4819-BA83-5EBE87852A7D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41E2F01B-7712-49B3-9FB9-4F365605F34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0607-AF2E-451C-BB95-9899EE1CA790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pproaches to increased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lax IANA assignment hurdle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is very smal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already has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ase number of EOs from 2 to 18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 draft-eddy-tcpm-addl-exp-opt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esn’t address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quires IANA oversight of new 16 val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E887-5EEB-462F-B2F8-AB3A87BECDF5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43FED9C-47E8-4787-8D49-07F15EACBF0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E86-488E-4269-8164-A14EDFF19E3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blems with existing approach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age collision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future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mitigate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ANA oversigh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need for oversigh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mall codepoint space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6 now; another 16, then another…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295-47A4-4C64-80F8-D2EB42C617F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34C2C56-9BD1-4242-91C1-E6C28719C34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01C-FD3F-4BD9-B93B-4CCDDD1AB114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19120" y="45036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Shared Use of 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= arbitrary per-experiment valu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yp. 32-bits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F316-288A-4405-AC85-C7403EA9BCD2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F6751B4-6C82-43A6-8F75-84296F9A7FC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1AB-D11D-499B-97A9-F8567CCEFC7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27360" y="4029120"/>
            <a:ext cx="273996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9120" y="4014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erties of this proposed solut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elps avoid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Unlikely nonce will overlay with misbehaving experiment option val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manag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lf-assigne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an use any method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 codepoint spac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nsumes space, but experiments should leave room for future option use anywa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5350-D288-42D2-8651-57A3673AE39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2354222-4B12-41D6-8051-36EE468CB76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5E66-2CDF-48D2-839E-CA1C14AA6B5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9120" y="20268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8876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cessing KIND=253/254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heck nonce FIRS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cess each nonce as a separate option kin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gnore if nonce not know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 = total option (including nonc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lengt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HOULD be 32 bit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ignment unaffected if Nonce is removed if permanen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Y be 16 bits if desire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high half of Unix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is enough if experiments aren’t created more than once every 20 hour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3629-C169-463F-8E97-85290FE3C10D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6898A016-1326-41C1-978C-D28F256708C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07:05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7B67-2C9D-4E56-9B70-9A2FD848B1D0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ames Polk</cp:lastModifiedBy>
  <cp:lastPrinted>1999-12-13T07:41:19Z</cp:lastPrinted>
  <dcterms:modified xsi:type="dcterms:W3CDTF">2011-11-14T03:58:03Z</dcterms:modified>
  <cp:revision>229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