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5"/>
          </p:nvPr>
        </p:nvSpPr>
        <p:spPr>
          <a:xfrm>
            <a:off x="3919680" y="-36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05040" y="4395600"/>
            <a:ext cx="5124240" cy="4167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6"/>
          </p:nvPr>
        </p:nvSpPr>
        <p:spPr>
          <a:xfrm>
            <a:off x="0" y="87912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7"/>
          </p:nvPr>
        </p:nvSpPr>
        <p:spPr>
          <a:xfrm>
            <a:off x="3919680" y="87912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F646710-DAA9-4FD0-8C31-DBC0C219D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19680" y="8791560"/>
            <a:ext cx="3014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ECFF979-DE12-4284-AF07-983B8B31DD60}" type="slidenum"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5040" y="4395600"/>
            <a:ext cx="512424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19680" y="8791560"/>
            <a:ext cx="3014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60AC1D1-BA62-4147-9A70-A95794A00128}" type="slidenum"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5040" y="4395600"/>
            <a:ext cx="512424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BDB07-BE1A-4764-81DB-FF479455E7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EE5CB-F626-4568-9455-4A32C425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99046-2991-4C9B-80EC-9D7E37D7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4ECAA-634C-46BB-9AE3-24E2D7D4AC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65DDC-895B-457F-8C80-1ECD1B5A5F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2DAD7-4942-46FC-9DCE-E4587AB8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DA82B-7D7A-42D1-979E-CF8D64D4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0AE67-3420-4E97-B9ED-5CD02130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44BF8-D504-49FB-AB9B-5E4AD771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111B5-6168-4DF1-B441-7B5E5847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049AE-5FB9-447A-A6EC-1C83692E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1E694-6066-4D90-B846-7498BA02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C89D3-59B4-486B-B686-505987EA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95042-8463-4A3F-9683-F955155D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3B459-F06D-404D-8612-4100E1D1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4B04D-B5F9-49E0-8161-4605E652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1C662-12D2-43C6-A1C8-A575B56F6C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CB6A8-DEC2-4740-8844-F507BD41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32E7A-6219-467A-A125-CDFD80DB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2AEE2-4624-413C-8D8B-DE91C940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E4BB-9060-4E3B-81B8-B88BAB7E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566AD-D534-434F-BB45-8E780080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08438-AC91-4464-8A67-80E5426D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9E157-6FB8-4AC4-895B-65B51134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6" descr="top-swoop-bw"/>
          <p:cNvPicPr/>
          <p:nvPr/>
        </p:nvPicPr>
        <p:blipFill>
          <a:blip r:embed="rId2"/>
          <a:stretch/>
        </p:blipFill>
        <p:spPr>
          <a:xfrm>
            <a:off x="-647640" y="333360"/>
            <a:ext cx="11495160" cy="798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5" descr="bot-swoop-bw"/>
          <p:cNvPicPr/>
          <p:nvPr/>
        </p:nvPicPr>
        <p:blipFill>
          <a:blip r:embed="rId3"/>
          <a:stretch/>
        </p:blipFill>
        <p:spPr>
          <a:xfrm>
            <a:off x="-1587600" y="5775480"/>
            <a:ext cx="10631520" cy="73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8708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210F-32E3-4BA3-9E0F-06F961E07AB3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2BB83D62-FA9D-4747-888C-F437A47C5D49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78636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50FA-7B5D-4014-9EC7-CDBF62701AF1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Line 14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Line 15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Rectangle 54"/>
          <p:cNvSpPr/>
          <p:nvPr/>
        </p:nvSpPr>
        <p:spPr>
          <a:xfrm>
            <a:off x="0" y="0"/>
            <a:ext cx="9144000" cy="32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6" descr="top-swoop-bw"/>
          <p:cNvPicPr/>
          <p:nvPr/>
        </p:nvPicPr>
        <p:blipFill>
          <a:blip r:embed="rId2"/>
          <a:stretch/>
        </p:blipFill>
        <p:spPr>
          <a:xfrm>
            <a:off x="-647640" y="754200"/>
            <a:ext cx="11495160" cy="798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0" name="Picture 3" descr="bot-swoop"/>
          <p:cNvPicPr/>
          <p:nvPr/>
        </p:nvPicPr>
        <p:blipFill>
          <a:blip r:embed="rId3"/>
          <a:stretch/>
        </p:blipFill>
        <p:spPr>
          <a:xfrm>
            <a:off x="-1611360" y="5711760"/>
            <a:ext cx="10887120" cy="844560"/>
          </a:xfrm>
          <a:prstGeom prst="rect">
            <a:avLst/>
          </a:prstGeom>
          <a:ln w="0">
            <a:noFill/>
          </a:ln>
        </p:spPr>
      </p:pic>
      <p:sp>
        <p:nvSpPr>
          <p:cNvPr id="51" name="Line 13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554040" y="232416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Line 18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4" name="Picture 55" descr="jt-viterbi"/>
          <p:cNvPicPr/>
          <p:nvPr/>
        </p:nvPicPr>
        <p:blipFill>
          <a:blip r:embed="rId4"/>
          <a:stretch/>
        </p:blipFill>
        <p:spPr>
          <a:xfrm>
            <a:off x="7307280" y="5365800"/>
            <a:ext cx="1519200" cy="906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8" descr="isi_logo"/>
          <p:cNvPicPr/>
          <p:nvPr/>
        </p:nvPicPr>
        <p:blipFill>
          <a:blip r:embed="rId5"/>
          <a:stretch/>
        </p:blipFill>
        <p:spPr>
          <a:xfrm>
            <a:off x="241200" y="1246320"/>
            <a:ext cx="968400" cy="6141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68"/>
          <p:cNvGrpSpPr/>
          <p:nvPr/>
        </p:nvGrpSpPr>
        <p:grpSpPr>
          <a:xfrm>
            <a:off x="0" y="0"/>
            <a:ext cx="9144000" cy="625320"/>
            <a:chOff x="0" y="0"/>
            <a:chExt cx="9144000" cy="625320"/>
          </a:xfrm>
        </p:grpSpPr>
        <p:sp>
          <p:nvSpPr>
            <p:cNvPr id="57" name="Rectangle 56"/>
            <p:cNvSpPr/>
            <p:nvPr/>
          </p:nvSpPr>
          <p:spPr>
            <a:xfrm>
              <a:off x="0" y="0"/>
              <a:ext cx="9144000" cy="6253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58" name="Picture 57" descr="mono_gold_trans"/>
            <p:cNvPicPr/>
            <p:nvPr/>
          </p:nvPicPr>
          <p:blipFill>
            <a:blip r:embed="rId6"/>
            <a:stretch/>
          </p:blipFill>
          <p:spPr>
            <a:xfrm>
              <a:off x="8242200" y="96840"/>
              <a:ext cx="67644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7" descr="usc text bar_600dpi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008160" cy="3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3"/>
          </p:nvPr>
        </p:nvSpPr>
        <p:spPr>
          <a:xfrm>
            <a:off x="466200" y="6356160"/>
            <a:ext cx="1930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7140-1F30-48E0-8EAF-3C269C099B60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551FA2F7-2BAC-49B5-B46C-3B6D5E875ABC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6859440" y="628452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A693-8AA4-412D-9ECD-56F63A6404DC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466560" y="6356520"/>
            <a:ext cx="193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CAC3-02EA-4F05-8B55-1C5129286553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B63BF1FF-795D-4D35-B0FE-9133F45ED99D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8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859440" y="628488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A56D-4E40-41D3-9B4C-BC4F86FF9D36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9760" y="1193760"/>
            <a:ext cx="754056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Shared Use of TCP Experimental Option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79440" y="3117600"/>
            <a:ext cx="7182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draft-touch-tcpm-experimental-options-00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IETF 82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Joe Touch, USC/ISI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ossible extension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Nonce + checksum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etects/avoids legacy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Larger space, higher computation cost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Use in other exp. codepoints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tably TCP/UDP port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E850-3B8F-4EE6-A7B1-BD05160D13EE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4FFCD1AE-B7B1-4839-8BE0-6E1C5D503607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8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DEC4-D8EF-4C4D-8650-06610759AB67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urrent experimental options overloaded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Multiple concurrent uses cannot be distinguished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Add nonce to EO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nce used to differentiate concurrent use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Informational (or BCP?)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D902-3D2C-4814-8C15-1A7238A312EC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A584C3DE-4CD3-4582-B01F-2107ECC3F297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8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FB3B-E267-4CF0-B228-6C9CC0EDD3A7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TCP Exp. Option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Kind = 253 or 254 [RFC4727]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A4D9-8354-42D0-88D1-0349ACBFAF9C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2614FD5D-D9D7-4403-A507-61F9FB20A3A1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8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3131-463D-4D7F-AEC7-9214189CD343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828800" y="3370320"/>
            <a:ext cx="5484960" cy="666720"/>
          </a:xfrm>
          <a:prstGeom prst="rect">
            <a:avLst/>
          </a:prstGeom>
          <a:solidFill>
            <a:srgbClr val="bbbb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828800" y="3370320"/>
            <a:ext cx="1371600" cy="666720"/>
          </a:xfrm>
          <a:prstGeom prst="rect">
            <a:avLst/>
          </a:prstGeom>
          <a:solidFill>
            <a:srgbClr val="bfbfb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Kind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198960" y="3370320"/>
            <a:ext cx="1371600" cy="666720"/>
          </a:xfrm>
          <a:prstGeom prst="rect">
            <a:avLst/>
          </a:prstGeom>
          <a:solidFill>
            <a:srgbClr val="bfbfb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en=var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570560" y="3370320"/>
            <a:ext cx="274140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ption field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1828800" y="4029120"/>
            <a:ext cx="548316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ption fields (con’t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828800" y="5018040"/>
            <a:ext cx="548496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827360" y="5684760"/>
            <a:ext cx="274140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Straight Connector 16"/>
          <p:cNvSpPr/>
          <p:nvPr/>
        </p:nvSpPr>
        <p:spPr>
          <a:xfrm>
            <a:off x="1826640" y="4732200"/>
            <a:ext cx="4680" cy="100836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Straight Connector 18"/>
          <p:cNvSpPr/>
          <p:nvPr/>
        </p:nvSpPr>
        <p:spPr>
          <a:xfrm>
            <a:off x="7313760" y="4732200"/>
            <a:ext cx="0" cy="95256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TCP Experiment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812600"/>
            <a:ext cx="8513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Precursor to TCP AO (253, 254)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CP Cookie Transactions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As deployed (31, 32)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As spec’d (253)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cpcrypt (76, 77, 78)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Other commercial products (33, 76, 77, 78)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BEA6-7D7E-4027-A5A6-E66254505209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5676F3E8-CB9C-488C-BBC0-3974A6260052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8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2383-26A9-4B9C-AD7E-726E72AF8CAE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19120" y="42660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Approaches to increased experiment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Relax IANA assignment hurdles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The pool is very small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The pool already has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Increase number of EOs from 2 to 18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Per draft-eddy-tcpm-addl-exp-opt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oesn’t address existing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Requires IANA oversight of new 16 value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E115-2A11-48EE-8A12-FE2B2ECAF291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935FAC88-A886-4C21-8812-8C9DD74C3BC7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8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D38D-7570-4E1A-8272-F0ACFB618A4C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19120" y="42660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roblems with existing approache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Usage collision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Useful to avoid future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Useful to mitigate existing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IANA oversigh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Useful to avoid need for oversight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mall codepoint space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16 now; another 16, then another…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57EC-E739-4B22-B2A3-38D2B0F07299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3B7DAE20-D292-478D-8FAD-1FE5C9AE68F5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8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412D-0382-49C8-A467-B947736AE070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19120" y="45036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roposed Shared Use of TCP Exp. Option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Kind = 253 or 254 [RFC4727]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nce = arbitrary per-experiment value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yp. 32-bits, e.g., Unix </a:t>
            </a:r>
            <a:r>
              <a:rPr b="0" i="1" lang="en-US" sz="2400" spc="-1" strike="noStrike">
                <a:solidFill>
                  <a:srgbClr val="99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A1BF-9022-46C6-B89F-FE821325E8FE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49D3F5C7-1E29-4F64-8C88-3B6FEF889868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8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F745-2194-4DD1-8799-4BA1D6E36F5A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828800" y="3370320"/>
            <a:ext cx="5484960" cy="666720"/>
          </a:xfrm>
          <a:prstGeom prst="rect">
            <a:avLst/>
          </a:prstGeom>
          <a:solidFill>
            <a:srgbClr val="bbbb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828800" y="3370320"/>
            <a:ext cx="1371600" cy="666720"/>
          </a:xfrm>
          <a:prstGeom prst="rect">
            <a:avLst/>
          </a:prstGeom>
          <a:solidFill>
            <a:srgbClr val="bfbfb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Kind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198960" y="3370320"/>
            <a:ext cx="1371600" cy="666720"/>
          </a:xfrm>
          <a:prstGeom prst="rect">
            <a:avLst/>
          </a:prstGeom>
          <a:solidFill>
            <a:srgbClr val="bfbfb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en=var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570560" y="3370320"/>
            <a:ext cx="2741400" cy="666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Nonce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1828800" y="4029120"/>
            <a:ext cx="548316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ption field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828800" y="5018040"/>
            <a:ext cx="548496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ption fields (con’t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827360" y="5684760"/>
            <a:ext cx="2741400" cy="666720"/>
          </a:xfrm>
          <a:prstGeom prst="rect">
            <a:avLst/>
          </a:prstGeom>
          <a:solidFill>
            <a:srgbClr val="0a85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Straight Connector 16"/>
          <p:cNvSpPr/>
          <p:nvPr/>
        </p:nvSpPr>
        <p:spPr>
          <a:xfrm>
            <a:off x="1826640" y="4732200"/>
            <a:ext cx="4680" cy="100836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Straight Connector 18"/>
          <p:cNvSpPr/>
          <p:nvPr/>
        </p:nvSpPr>
        <p:spPr>
          <a:xfrm>
            <a:off x="7313760" y="4732200"/>
            <a:ext cx="0" cy="95256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827360" y="4029120"/>
            <a:ext cx="2739960" cy="666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Nonce (con’t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19120" y="40140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Properties of this proposed solution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Helps avoid collision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Unlikely nonce will overlay with misbehaving experiment option values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elf-managed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Self-assigned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an use any method, e.g., Unix </a:t>
            </a:r>
            <a:r>
              <a:rPr b="0" i="1" lang="en-US" sz="2400" spc="-1" strike="noStrike">
                <a:solidFill>
                  <a:srgbClr val="99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Large codepoint space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onsumes space, but experiments should leave room for future option use anyway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9FF8-C7D9-4D5F-9D3C-26E7B7633D7A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E069D12F-9A53-42A8-A864-BA036A26BACB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8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90F3-ED99-4D8E-BF8A-AD06D710B119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19120" y="20268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Issues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68876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Processing KIND=253/254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heck nonce FIRST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Process each nonce as a separate option kind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Ignore if nonce not known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Len = total option (including nonce)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Nonce length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SHOULD be 32 bits 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lignment unaffected if Nonce is removed if permanent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MAY be 16 bits if desired 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high half of Unix 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time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 is enough if experiments aren’t created more than once every 20 hours</a:t>
            </a:r>
            <a:endParaRPr b="0" lang="en-US" sz="20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48744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C608-50BD-4470-B5C0-4D052AD9664B}" type="datetime">
              <a:rPr b="0" lang="en-US" sz="1000" spc="-1" strike="noStrike">
                <a:solidFill>
                  <a:srgbClr val="99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 </a:t>
            </a:r>
            <a:fld id="{E623036C-3D4B-426B-B74A-4CF081E3B2C6}" type="datetime10">
              <a:rPr b="0" lang="en-US" sz="1000" spc="-1" strike="noStrike">
                <a:solidFill>
                  <a:srgbClr val="990000"/>
                </a:solidFill>
                <a:latin typeface="Arial"/>
              </a:rPr>
              <a:t>21:38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78672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93CB-81FD-48AF-863A-24487500A304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7:17:19Z</dcterms:created>
  <dc:creator>Joseph D. Touch</dc:creator>
  <dc:description/>
  <dc:language>en-US</dc:language>
  <cp:lastModifiedBy>James Polk</cp:lastModifiedBy>
  <cp:lastPrinted>1999-12-13T07:41:19Z</cp:lastPrinted>
  <dcterms:modified xsi:type="dcterms:W3CDTF">2011-11-14T03:58:03Z</dcterms:modified>
  <cp:revision>229</cp:revision>
  <dc:subject/>
  <dc:title>draft-touch-trill-prob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 Author">
    <vt:lpwstr>Joe Touch</vt:lpwstr>
  </property>
  <property fmtid="{D5CDD505-2E9C-101B-9397-08002B2CF9AE}" pid="3" name="Template Date">
    <vt:lpwstr>Oct. 16, 2002</vt:lpwstr>
  </property>
</Properties>
</file>