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B48-A900-4A17-818A-9BB1EA42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9D3-5E54-4168-A88E-77C58A37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132-9BBF-4C70-A676-1E84DC4C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72B-ABC2-46E7-A73D-CEC849AC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EA5-67F2-499E-9F0B-3625CE68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A8D-1E07-484A-B90D-BBE93D23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37D-FE55-4CFC-ACA2-8CC0458C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246-EE48-4E35-BE36-6E8BA345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D62-FEAB-4511-B9E1-8BFA23D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4CE-0793-472D-B74C-7936F0E5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7AD-1E8F-4435-B666-39AB8D3B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2BB-9830-4C4D-A666-3F6DD2FD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C142-5B99-4199-B8EB-65AD50E5CE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teless Source Address Mapping for ICMPv6 Pa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. Li, C. Bao, D. W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. Vaithianathan, G. Hu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1-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36D-334A-4CAD-9374-010AB401A7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use RFC1918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raft-kirkham-private-ip-sp-cores-07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with Private IP Addressing in the Interne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discussed a simila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onservation of Address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Effects on Trace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Effects on Path MTU Discove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nexpected interactions with some NAT implementati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actions with edge anti-spoofing techniqu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eering using loopb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NS Inte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perational and Troubleshoo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curity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Which shows that RFC1918 will results in difficu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22F-AA83-45ED-BEAC-320C3C8A43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handle the DD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n setting up the ACL correct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The network only allows ICMP packets using this block as the sourc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No responses will be generated from any network device in the 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wever, the ICMP packets using this block as the source address may target some hosts for DDOS att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Does the anycast root server’s addresses have similar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The rate-limit configuration sh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458-5BD5-42BD-942E-EE8217DC63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not tr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acker is in IPv6 and behind a real IPv4/IPv6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ndled in the translator by rate-li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acker is in IPv4 generating ICMP packets using the special block as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28A-3DA8-4739-8345-21FBBC13F2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SPs need to update their AC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s provides more control for the network administ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believe it is worth the effort for the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move forward, there will be enough time for ISPs to update the filte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 updating is required for “non-default-free”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rators still lack the experience of handling a "one-way" special purpose packet that is allowed to leave the link, never mind the 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should 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842-7B28-45D5-A831-82A07D8192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rivately assigned block of public IPv4 addresses from existing space, which can be shared between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Similar t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y not use a “global IPv4 unicast address” bound to the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IPv4 address depletion problem makes i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4E6-5AD5-4D46-B781-F68BFCE5C7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 and looking-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s the last hop on this side of the event horizon. just like if there were a firewall or a non-stateful icmp fil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The difference is it happens close to the end host in IPv4 firewall schema, but in stateless IPv4-IPv6 Schema, it maybe happen in somewhere IPv4-IPv6 edge of ISP ( in middle of end hosts)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ding publicly-accessible out-of-band  "looking glass" web-server to the IPv6/IPv4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May not be e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146-2673-47A4-AAF5-848D545762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d recommendation for filtering to an appropriate list of ICMP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llow ICMP type 3 - Destination Unreachable (inc PT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llow ICMP type 11 - Time Exc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My Allow ICMP type 12 - Paramete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SHOULD NOT allow any of the various ICMP reques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d recommendation for rate limiting of traffic from the prefix as additional countermeasure against abuse of this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verse DN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Help mortal Internet users when they traceroute through an IPv6/v4 translator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602-5375-4D80-982E-AAB4A00C86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50840" y="3886200"/>
            <a:ext cx="6873120" cy="398520"/>
            <a:chOff x="1050840" y="3886200"/>
            <a:chExt cx="6873120" cy="398520"/>
          </a:xfrm>
        </p:grpSpPr>
        <p:sp>
          <p:nvSpPr>
            <p:cNvPr id="45" name=""/>
            <p:cNvSpPr/>
            <p:nvPr/>
          </p:nvSpPr>
          <p:spPr>
            <a:xfrm>
              <a:off x="1050840" y="388620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olas"/>
                </a:rPr>
                <a:t>Normal traffic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199680" y="4114800"/>
              <a:ext cx="4724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0720" y="3886200"/>
              <a:ext cx="84528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t=2.2.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9160" y="3886200"/>
              <a:ext cx="14061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2001:db8::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=2001:db8::2.2.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76520" y="4952880"/>
            <a:ext cx="4571640" cy="1038600"/>
            <a:chOff x="1676520" y="4952880"/>
            <a:chExt cx="4571640" cy="1038600"/>
          </a:xfrm>
        </p:grpSpPr>
        <p:sp>
          <p:nvSpPr>
            <p:cNvPr id="50" name=""/>
            <p:cNvSpPr/>
            <p:nvPr/>
          </p:nvSpPr>
          <p:spPr>
            <a:xfrm flipH="1">
              <a:off x="3200040" y="518148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676520" y="56386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4495320" y="5638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1680" y="5715000"/>
              <a:ext cx="106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CMPv6 P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02200" y="571500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CMP P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04800" y="4952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olas"/>
                </a:rPr>
                <a:t>ICMP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54080" y="4952880"/>
              <a:ext cx="14043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2001:db8::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=2001:db8::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35120" y="4952880"/>
              <a:ext cx="8085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t=???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543800" y="18288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4-translatabl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8400" y="1447920"/>
            <a:ext cx="8350200" cy="4876560"/>
            <a:chOff x="608400" y="1447920"/>
            <a:chExt cx="8350200" cy="4876560"/>
          </a:xfrm>
        </p:grpSpPr>
        <p:sp>
          <p:nvSpPr>
            <p:cNvPr id="60" name=""/>
            <p:cNvSpPr/>
            <p:nvPr/>
          </p:nvSpPr>
          <p:spPr>
            <a:xfrm>
              <a:off x="4495680" y="2895480"/>
              <a:ext cx="0" cy="34290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loud"/>
            <p:cNvSpPr/>
            <p:nvPr/>
          </p:nvSpPr>
          <p:spPr>
            <a:xfrm>
              <a:off x="5029200" y="2209680"/>
              <a:ext cx="2362320" cy="1422360"/>
            </a:xfrm>
            <a:prstGeom prst="pie">
              <a:avLst/>
            </a:prstGeom>
            <a:solidFill>
              <a:srgbClr val="a0fe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Cloud"/>
            <p:cNvSpPr/>
            <p:nvPr/>
          </p:nvSpPr>
          <p:spPr>
            <a:xfrm>
              <a:off x="1523880" y="2209680"/>
              <a:ext cx="2362320" cy="1422360"/>
            </a:xfrm>
            <a:prstGeom prst="pie">
              <a:avLst/>
            </a:prstGeom>
            <a:solidFill>
              <a:srgbClr val="fda1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5280" y="2895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666880"/>
              <a:ext cx="533160" cy="381240"/>
            </a:xfrm>
            <a:prstGeom prst="cube">
              <a:avLst>
                <a:gd name="adj" fmla="val 25000"/>
              </a:avLst>
            </a:prstGeom>
            <a:solidFill>
              <a:srgbClr val="f8f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L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computr2"/>
            <p:cNvSpPr/>
            <p:nvPr/>
          </p:nvSpPr>
          <p:spPr>
            <a:xfrm>
              <a:off x="685800" y="2666880"/>
              <a:ext cx="746280" cy="587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computr2"/>
            <p:cNvSpPr/>
            <p:nvPr/>
          </p:nvSpPr>
          <p:spPr>
            <a:xfrm>
              <a:off x="7543800" y="2666880"/>
              <a:ext cx="746280" cy="587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9920" y="2666880"/>
              <a:ext cx="380880" cy="376200"/>
            </a:xfrm>
            <a:prstGeom prst="can">
              <a:avLst>
                <a:gd name="adj" fmla="val 25000"/>
              </a:avLst>
            </a:prstGeom>
            <a:solidFill>
              <a:srgbClr val="f8f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2666880"/>
              <a:ext cx="380880" cy="376200"/>
            </a:xfrm>
            <a:prstGeom prst="can">
              <a:avLst>
                <a:gd name="adj" fmla="val 25000"/>
              </a:avLst>
            </a:prstGeom>
            <a:solidFill>
              <a:srgbClr val="f8f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1447920"/>
              <a:ext cx="167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IPv4-translatable add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8400" y="2209680"/>
              <a:ext cx="72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1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86480" y="2209680"/>
              <a:ext cx="157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2001:db8::2.2.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89160" y="182880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2001:db8::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24680" y="2971800"/>
              <a:ext cx="0" cy="11430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2971800"/>
              <a:ext cx="0" cy="28954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57200" y="6019920"/>
            <a:ext cx="8229600" cy="916920"/>
          </a:xfrm>
          <a:prstGeom prst="rect">
            <a:avLst/>
          </a:prstGeom>
          <a:solidFill>
            <a:srgbClr val="f8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RFC6145: The IPv6 addresses in the ICMPv6 header may not be IPv4-translatable addresses. … A mechanism by which the translator can instead do stateless translation is left for future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716-BC5E-4BA6-BAA5-2BF6FAEA2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uRPF </a:t>
            </a:r>
            <a:r>
              <a:rPr b="0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cannot use RFC1918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Pv4 address depletion </a:t>
            </a:r>
            <a:r>
              <a:rPr b="0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hard to use public IPv4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5029200" y="2209680"/>
            <a:ext cx="2362320" cy="1422360"/>
          </a:xfrm>
          <a:prstGeom prst="pie">
            <a:avLst/>
          </a:prstGeom>
          <a:solidFill>
            <a:srgbClr val="a0fe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1523880" y="2209680"/>
            <a:ext cx="2362320" cy="1422360"/>
          </a:xfrm>
          <a:prstGeom prst="pie">
            <a:avLst/>
          </a:prstGeom>
          <a:solidFill>
            <a:srgbClr val="fda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28954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666880"/>
            <a:ext cx="533160" cy="381240"/>
          </a:xfrm>
          <a:prstGeom prst="cube">
            <a:avLst>
              <a:gd name="adj" fmla="val 25000"/>
            </a:avLst>
          </a:prstGeom>
          <a:solidFill>
            <a:srgbClr val="f8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mputr2"/>
          <p:cNvSpPr/>
          <p:nvPr/>
        </p:nvSpPr>
        <p:spPr>
          <a:xfrm>
            <a:off x="685800" y="2666880"/>
            <a:ext cx="746280" cy="587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mputr2"/>
          <p:cNvSpPr/>
          <p:nvPr/>
        </p:nvSpPr>
        <p:spPr>
          <a:xfrm>
            <a:off x="7543800" y="2666880"/>
            <a:ext cx="746280" cy="587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2666880"/>
            <a:ext cx="380880" cy="376200"/>
          </a:xfrm>
          <a:prstGeom prst="can">
            <a:avLst>
              <a:gd name="adj" fmla="val 25000"/>
            </a:avLst>
          </a:prstGeom>
          <a:solidFill>
            <a:srgbClr val="f8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2666880"/>
            <a:ext cx="380880" cy="376200"/>
          </a:xfrm>
          <a:prstGeom prst="can">
            <a:avLst>
              <a:gd name="adj" fmla="val 25000"/>
            </a:avLst>
          </a:prstGeom>
          <a:solidFill>
            <a:srgbClr val="f8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8288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4-translatabl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14479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IPv4-translatabl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00" y="2209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6480" y="220968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001:db8::2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9160" y="18288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001:db8: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2666880"/>
            <a:ext cx="380880" cy="376200"/>
          </a:xfrm>
          <a:prstGeom prst="can">
            <a:avLst>
              <a:gd name="adj" fmla="val 25000"/>
            </a:avLst>
          </a:prstGeom>
          <a:solidFill>
            <a:srgbClr val="f8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 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76520" y="3809880"/>
            <a:ext cx="4571640" cy="1038600"/>
            <a:chOff x="1676520" y="3809880"/>
            <a:chExt cx="4571640" cy="1038600"/>
          </a:xfrm>
        </p:grpSpPr>
        <p:sp>
          <p:nvSpPr>
            <p:cNvPr id="93" name=""/>
            <p:cNvSpPr/>
            <p:nvPr/>
          </p:nvSpPr>
          <p:spPr>
            <a:xfrm flipH="1">
              <a:off x="3200040" y="403848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76520" y="44956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49532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1680" y="4572000"/>
              <a:ext cx="106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CMPv6 P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2200" y="457200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CMP P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04800" y="3809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olas"/>
                </a:rPr>
                <a:t>ICMP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080" y="3809880"/>
              <a:ext cx="14043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2001:db8::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=2001:db8::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4760" y="3809880"/>
              <a:ext cx="9151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dst=1.1.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Arial"/>
                </a:rPr>
                <a:t>srct=10.0.0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495680" y="2895480"/>
            <a:ext cx="0" cy="1752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29718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B48-8759-43C1-8C1E-B23F32A77B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4 recipient of the ICMP message should be able to distinguish between different IPv6 ICMPv6 origination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eds a p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792520" y="3657600"/>
            <a:ext cx="2008080" cy="307080"/>
            <a:chOff x="2792520" y="3657600"/>
            <a:chExt cx="2008080" cy="307080"/>
          </a:xfrm>
        </p:grpSpPr>
        <p:sp>
          <p:nvSpPr>
            <p:cNvPr id="106" name=""/>
            <p:cNvSpPr/>
            <p:nvPr/>
          </p:nvSpPr>
          <p:spPr>
            <a:xfrm flipH="1">
              <a:off x="3809880" y="3809880"/>
              <a:ext cx="99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92520" y="36576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92520" y="3886200"/>
            <a:ext cx="2388960" cy="307080"/>
            <a:chOff x="2792520" y="3886200"/>
            <a:chExt cx="2388960" cy="307080"/>
          </a:xfrm>
        </p:grpSpPr>
        <p:sp>
          <p:nvSpPr>
            <p:cNvPr id="109" name=""/>
            <p:cNvSpPr/>
            <p:nvPr/>
          </p:nvSpPr>
          <p:spPr>
            <a:xfrm flipH="1">
              <a:off x="3809880" y="40384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92520" y="38862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92520" y="4114800"/>
            <a:ext cx="2769840" cy="307080"/>
            <a:chOff x="2792520" y="4114800"/>
            <a:chExt cx="2769840" cy="307080"/>
          </a:xfrm>
        </p:grpSpPr>
        <p:sp>
          <p:nvSpPr>
            <p:cNvPr id="112" name=""/>
            <p:cNvSpPr/>
            <p:nvPr/>
          </p:nvSpPr>
          <p:spPr>
            <a:xfrm flipH="1">
              <a:off x="3809520" y="4267080"/>
              <a:ext cx="1752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92520" y="41148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92520" y="4343400"/>
            <a:ext cx="3150720" cy="307080"/>
            <a:chOff x="2792520" y="4343400"/>
            <a:chExt cx="3150720" cy="307080"/>
          </a:xfrm>
        </p:grpSpPr>
        <p:sp>
          <p:nvSpPr>
            <p:cNvPr id="115" name=""/>
            <p:cNvSpPr/>
            <p:nvPr/>
          </p:nvSpPr>
          <p:spPr>
            <a:xfrm flipH="1">
              <a:off x="3809520" y="4495680"/>
              <a:ext cx="2133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2520" y="43434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792520" y="4572000"/>
            <a:ext cx="3531600" cy="307080"/>
            <a:chOff x="2792520" y="4572000"/>
            <a:chExt cx="3531600" cy="307080"/>
          </a:xfrm>
        </p:grpSpPr>
        <p:sp>
          <p:nvSpPr>
            <p:cNvPr id="118" name=""/>
            <p:cNvSpPr/>
            <p:nvPr/>
          </p:nvSpPr>
          <p:spPr>
            <a:xfrm flipH="1">
              <a:off x="3809520" y="472428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92520" y="45720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792520" y="4800600"/>
            <a:ext cx="3913200" cy="307080"/>
            <a:chOff x="2792520" y="4800600"/>
            <a:chExt cx="3913200" cy="307080"/>
          </a:xfrm>
        </p:grpSpPr>
        <p:sp>
          <p:nvSpPr>
            <p:cNvPr id="121" name=""/>
            <p:cNvSpPr/>
            <p:nvPr/>
          </p:nvSpPr>
          <p:spPr>
            <a:xfrm flipH="1">
              <a:off x="3809880" y="4952880"/>
              <a:ext cx="2895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92520" y="48006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olas"/>
                </a:rPr>
                <a:t>3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914400" y="2057400"/>
            <a:ext cx="7345440" cy="3124080"/>
            <a:chOff x="914400" y="2057400"/>
            <a:chExt cx="7345440" cy="3124080"/>
          </a:xfrm>
        </p:grpSpPr>
        <p:grpSp>
          <p:nvGrpSpPr>
            <p:cNvPr id="124" name=""/>
            <p:cNvGrpSpPr/>
            <p:nvPr/>
          </p:nvGrpSpPr>
          <p:grpSpPr>
            <a:xfrm>
              <a:off x="914400" y="2057400"/>
              <a:ext cx="7345440" cy="2895480"/>
              <a:chOff x="914400" y="2057400"/>
              <a:chExt cx="7345440" cy="28954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914400" y="2057400"/>
                <a:ext cx="7345440" cy="1477800"/>
                <a:chOff x="914400" y="2057400"/>
                <a:chExt cx="7345440" cy="1477800"/>
              </a:xfrm>
            </p:grpSpPr>
            <p:sp>
              <p:nvSpPr>
                <p:cNvPr id="126" name="Cloud"/>
                <p:cNvSpPr/>
                <p:nvPr/>
              </p:nvSpPr>
              <p:spPr>
                <a:xfrm>
                  <a:off x="914400" y="2057400"/>
                  <a:ext cx="3029040" cy="1422360"/>
                </a:xfrm>
                <a:prstGeom prst="pie">
                  <a:avLst/>
                </a:prstGeom>
                <a:solidFill>
                  <a:srgbClr val="fda1f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Cloud"/>
                <p:cNvSpPr/>
                <p:nvPr/>
              </p:nvSpPr>
              <p:spPr>
                <a:xfrm>
                  <a:off x="4651200" y="2112840"/>
                  <a:ext cx="3608640" cy="1422360"/>
                </a:xfrm>
                <a:prstGeom prst="pie">
                  <a:avLst/>
                </a:prstGeom>
                <a:solidFill>
                  <a:srgbClr val="a0fe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751040" y="2836800"/>
                  <a:ext cx="528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65120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06800" y="2670120"/>
                  <a:ext cx="452520" cy="3351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V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computr2"/>
                <p:cNvSpPr/>
                <p:nvPr/>
              </p:nvSpPr>
              <p:spPr>
                <a:xfrm>
                  <a:off x="1428840" y="2558880"/>
                  <a:ext cx="745920" cy="5875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computr2"/>
                <p:cNvSpPr/>
                <p:nvPr/>
              </p:nvSpPr>
              <p:spPr>
                <a:xfrm>
                  <a:off x="6842160" y="2558880"/>
                  <a:ext cx="745920" cy="5875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038560" y="2725560"/>
                  <a:ext cx="25740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42448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810400" y="2725560"/>
                  <a:ext cx="25848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9920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85120" y="2725560"/>
                  <a:ext cx="25848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21240" y="2725560"/>
                  <a:ext cx="2570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233880" y="2725560"/>
                  <a:ext cx="25848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91132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52576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38400" y="2725560"/>
                  <a:ext cx="258840" cy="223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8ff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4800600" y="2819520"/>
                <a:ext cx="0" cy="9144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81480" y="2819520"/>
                <a:ext cx="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62720" y="2819520"/>
                <a:ext cx="0" cy="1447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43600" y="2819520"/>
                <a:ext cx="0" cy="16761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4480" y="2819520"/>
                <a:ext cx="0" cy="198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05720" y="2819520"/>
                <a:ext cx="0" cy="21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3600" y="3124080"/>
                <a:ext cx="0" cy="1371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4191120" y="2819520"/>
              <a:ext cx="0" cy="23619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49560" y="4038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453-877E-46F1-B447-8B6DFA52F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to drawing an IPv4 /24 prefix from the IANA Special Purpose Address Registry as a "Well-Known Prefix" for use by IPv4/IPv6 translators for the purpose of mapping otherwise untranslatable IPv6 source addresses of ICMPv6 messages to IPv4 ICMP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se addresses are for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 the source address of ICMP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 as a destination address for an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343-B11F-4E81-83D7-828CE5089E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Pv4 /24 prefix is allocated to represent the source address of ICMP, th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least-significant b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generated using one of the following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ndom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py the "Hop Count" in the IPv6 header of the ICMPv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shing of the IPv6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ion of the algorithm SHOULD be a configuration function in the IPv4/IPv6 trans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y not generate subnet identifier or broadcast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5C9-95ED-4726-8302-771F08581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g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s packets passing through the public network need to pass through conventional packet filters, including uRPF filters [RFC37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he assigned address may be used in routing adverti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Such routing advertisements are non-exclusive and should be accepted from any originating AS in an anycast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2B3-6273-45D9-8C7E-F4E23AF4D2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Consider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n address for source addresses in ICMP  error packets is considered "safe" in so far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CMP packets are not intended to generate responses directed to the source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it is possible to use this address as a means of gaining anonymity when launching a denial of service attacks by using this address as the source address for other forms of malicious traff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cket firewall filters should be configured disc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non-ICMP packets that use the IANA-assigned /24 network as a sourc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packets that use the IANA-assigned /24 network as a destination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C4D-E626-46DB-9C18-8A5D07D5A8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NA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2.70.192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: To be used in the context of generating an IPv4 source address for mapped ICMPv6 packets being passed through a stateless IPv4/IPv6 trans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: 2011-06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: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Stateless ICMPv6/ICMP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: Addresses from the assigned address prefix are intended to be used as source addresses and not as destination addresses in the context of the public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63A-2A15-4D87-8A86-8569E8E49C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0:22:08Z</dcterms:created>
  <dc:creator>lenovo</dc:creator>
  <dc:description/>
  <dc:language>en-US</dc:language>
  <cp:lastModifiedBy>xing</cp:lastModifiedBy>
  <dcterms:modified xsi:type="dcterms:W3CDTF">2011-11-13T09:12:06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