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8033-3134-48DD-A45A-1F8E60226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E2C5-7429-4989-8229-28EF9584A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865F-4046-442C-80C2-880CC7932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770E-B9F7-436A-A0B7-FC3BFECA4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4FA2-377C-4CF8-A5A7-6DC8D3D4D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120D-C7F8-4C04-9647-CFCA3BC37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6934-B0EF-4188-98A4-2BB1262C1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1E0F-6151-4229-9E71-2FC058CAC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05E8-D3D0-4E4E-93D2-6BD9C0DD9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0FB4-78B5-4E69-9567-44DC3CCE8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8ED5-2CCE-46C7-9A9D-1FA627FCD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FEBD-490E-4D15-8B3F-FB9FC1A38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A0512-AF9F-4183-BDAF-E8DBE7AFB9A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tateless Source Address Mapping for ICMPv6 Pack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X. Li, C. Bao, D. Wing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R. Vaithianathan, G. Hus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011-11-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80880" y="259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ditional discus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5A06-CD68-46B4-B72A-CFE7D1FB1A7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not use RFC1918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draft-kirkham-private-ip-sp-cores-07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sues with Private IP Addressing in the Internet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) discussed a similar sit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Conservation of Address Spa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Effects on Tracerou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Effects on Path MTU Discovery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Unexpected interactions with some NAT implementation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Interactions with edge anti-spoofing technique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eering using loopba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NS Intera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Operational and Troubleshooting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ecurity Consid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Which shows that RFC1918 will results in difficul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BBAA-3357-4D96-9633-ECFBCFE95D7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handle the DDO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When setting up the ACL correctly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The network only allows ICMP packets using this block as the source addr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No responses will be generated from any network device in the networ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However, the ICMP packets using this block as the source address may target some hosts for DDOS attack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Does the anycast root server’s addresses have similar probl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The rate-limit configuration should be u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2BC8-C5DB-4793-89A1-F445C59110B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 is not trace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as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ttacker is in IPv6 and behind a real IPv4/IPv6 transl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Handled in the translator by rate-lim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ttacker is in IPv4 generating ICMP packets using the special block as the sou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0C5F-D797-4CAF-9E57-5E39579E3C0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ISPs need to update their AC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methods provides more control for the network administrato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We believe it is worth the effort for the tran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we can move forward, there will be enough time for ISPs to update the filters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No updating is required for “non-default-free” net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operators still lack the experience of handling a "one-way" special purpose packet that is allowed to leave the link, never mind the A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We should t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536F-643F-4AB2-9227-772AD7C77B1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terna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 privately assigned block of public IPv4 addresses from existing space, which can be shared between oper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Similar to th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Why not use a “global IPv4 unicast address” bound to the transl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IPv4 address depletion problem makes it diffic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FCE1-DCF4-4606-9C74-2ACA39AD699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T and looking-gla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Is the last hop on this side of the event horizon. just like if there were a firewall or a non-stateful icmp filt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The difference is it happens close to the end host in IPv4 firewall schema, but in stateless IPv4-IPv6 Schema, it maybe happen in somewhere IPv4-IPv6 edge of ISP ( in middle of end hosts)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Adding publicly-accessible out-of-band  "looking glass" web-server to the IPv6/IPv4 transl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May not be eas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FD81-A1D9-4A79-B67B-F693505652D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 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Add recommendation for filtering to an appropriate list of ICMP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Allow ICMP type 3 - Destination Unreachable (inc PT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Allow ICMP type 11 - Time Exc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My Allow ICMP type 12 - Parameter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SHOULD NOT allow any of the various ICMP request mess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Add recommendation for rate limiting of traffic from the prefix as additional countermeasure against abuse of this pref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Reverse DNS consid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Help mortal Internet users when they traceroute through an IPv6/v4 translator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2BC8-2F45-45D3-8EB4-63230C6B291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050840" y="3886200"/>
            <a:ext cx="6873120" cy="398520"/>
            <a:chOff x="1050840" y="3886200"/>
            <a:chExt cx="6873120" cy="398520"/>
          </a:xfrm>
        </p:grpSpPr>
        <p:sp>
          <p:nvSpPr>
            <p:cNvPr id="45" name=""/>
            <p:cNvSpPr/>
            <p:nvPr/>
          </p:nvSpPr>
          <p:spPr>
            <a:xfrm>
              <a:off x="1050840" y="3886200"/>
              <a:ext cx="237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nsolas"/>
                </a:rPr>
                <a:t>Normal traffic: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 flipH="1">
              <a:off x="3199680" y="4114800"/>
              <a:ext cx="472428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510720" y="3886200"/>
              <a:ext cx="845280" cy="398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333399"/>
                  </a:solidFill>
                  <a:latin typeface="Arial"/>
                </a:rPr>
                <a:t>dst=1.1.1.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333399"/>
                  </a:solidFill>
                  <a:latin typeface="Arial"/>
                </a:rPr>
                <a:t>srct=2.2.2.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6329160" y="3886200"/>
              <a:ext cx="1406160" cy="398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333399"/>
                  </a:solidFill>
                  <a:latin typeface="Arial"/>
                </a:rPr>
                <a:t>dst=2001:db8::1.1.1.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333399"/>
                  </a:solidFill>
                  <a:latin typeface="Arial"/>
                </a:rPr>
                <a:t>src=2001:db8::2.2.2.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1676520" y="4952880"/>
            <a:ext cx="4571640" cy="1038600"/>
            <a:chOff x="1676520" y="4952880"/>
            <a:chExt cx="4571640" cy="1038600"/>
          </a:xfrm>
        </p:grpSpPr>
        <p:sp>
          <p:nvSpPr>
            <p:cNvPr id="50" name=""/>
            <p:cNvSpPr/>
            <p:nvPr/>
          </p:nvSpPr>
          <p:spPr>
            <a:xfrm flipH="1">
              <a:off x="3200040" y="5181480"/>
              <a:ext cx="30481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676520" y="5638680"/>
              <a:ext cx="266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4495320" y="5638680"/>
              <a:ext cx="1676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801680" y="5715000"/>
              <a:ext cx="1063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CMPv6 PT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202200" y="5715000"/>
              <a:ext cx="901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CMP PT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04800" y="495288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nsolas"/>
                </a:rPr>
                <a:t>ICMP: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654080" y="4952880"/>
              <a:ext cx="1404360" cy="398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333399"/>
                  </a:solidFill>
                  <a:latin typeface="Arial"/>
                </a:rPr>
                <a:t>dst=2001:db8::1.1.1.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333399"/>
                  </a:solidFill>
                  <a:latin typeface="Arial"/>
                </a:rPr>
                <a:t>src=2001:db8::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435120" y="4952880"/>
              <a:ext cx="808560" cy="398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333399"/>
                  </a:solidFill>
                  <a:latin typeface="Arial"/>
                </a:rPr>
                <a:t>dst=1.1.1.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333399"/>
                  </a:solidFill>
                  <a:latin typeface="Arial"/>
                </a:rPr>
                <a:t>srct=???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7543800" y="1828800"/>
            <a:ext cx="1447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Pv4-translatable add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608400" y="1447920"/>
            <a:ext cx="8350200" cy="4876560"/>
            <a:chOff x="608400" y="1447920"/>
            <a:chExt cx="8350200" cy="4876560"/>
          </a:xfrm>
        </p:grpSpPr>
        <p:sp>
          <p:nvSpPr>
            <p:cNvPr id="60" name=""/>
            <p:cNvSpPr/>
            <p:nvPr/>
          </p:nvSpPr>
          <p:spPr>
            <a:xfrm>
              <a:off x="4495680" y="2895480"/>
              <a:ext cx="0" cy="342900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loud"/>
            <p:cNvSpPr/>
            <p:nvPr/>
          </p:nvSpPr>
          <p:spPr>
            <a:xfrm>
              <a:off x="5029200" y="2209680"/>
              <a:ext cx="2362320" cy="1422360"/>
            </a:xfrm>
            <a:prstGeom prst="pie">
              <a:avLst/>
            </a:prstGeom>
            <a:solidFill>
              <a:srgbClr val="a0fec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Cloud"/>
            <p:cNvSpPr/>
            <p:nvPr/>
          </p:nvSpPr>
          <p:spPr>
            <a:xfrm>
              <a:off x="1523880" y="2209680"/>
              <a:ext cx="2362320" cy="1422360"/>
            </a:xfrm>
            <a:prstGeom prst="pie">
              <a:avLst/>
            </a:prstGeom>
            <a:solidFill>
              <a:srgbClr val="fda1f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295280" y="2895480"/>
              <a:ext cx="6629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191120" y="2666880"/>
              <a:ext cx="533160" cy="381240"/>
            </a:xfrm>
            <a:prstGeom prst="cube">
              <a:avLst>
                <a:gd name="adj" fmla="val 25000"/>
              </a:avLst>
            </a:prstGeom>
            <a:solidFill>
              <a:srgbClr val="f8ff9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XLA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computr2"/>
            <p:cNvSpPr/>
            <p:nvPr/>
          </p:nvSpPr>
          <p:spPr>
            <a:xfrm>
              <a:off x="685800" y="2666880"/>
              <a:ext cx="746280" cy="58752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computr2"/>
            <p:cNvSpPr/>
            <p:nvPr/>
          </p:nvSpPr>
          <p:spPr>
            <a:xfrm>
              <a:off x="7543800" y="2666880"/>
              <a:ext cx="746280" cy="58752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19920" y="2666880"/>
              <a:ext cx="380880" cy="376200"/>
            </a:xfrm>
            <a:prstGeom prst="can">
              <a:avLst>
                <a:gd name="adj" fmla="val 25000"/>
              </a:avLst>
            </a:prstGeom>
            <a:solidFill>
              <a:srgbClr val="f8ff9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514600" y="2666880"/>
              <a:ext cx="380880" cy="376200"/>
            </a:xfrm>
            <a:prstGeom prst="can">
              <a:avLst>
                <a:gd name="adj" fmla="val 25000"/>
              </a:avLst>
            </a:prstGeom>
            <a:solidFill>
              <a:srgbClr val="f8ff9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638680" y="1447920"/>
              <a:ext cx="1676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IPv4-translatable addres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08400" y="2209680"/>
              <a:ext cx="72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.1.1.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386480" y="2209680"/>
              <a:ext cx="1572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99"/>
                  </a:solidFill>
                  <a:latin typeface="Arial"/>
                </a:rPr>
                <a:t>2001:db8::2.2.2.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789160" y="1828800"/>
              <a:ext cx="1123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"/>
                </a:rPr>
                <a:t>2001:db8::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924680" y="2971800"/>
              <a:ext cx="0" cy="1143000"/>
            </a:xfrm>
            <a:prstGeom prst="line">
              <a:avLst/>
            </a:prstGeom>
            <a:ln w="936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248520" y="2971800"/>
              <a:ext cx="0" cy="289548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457200" y="6019920"/>
            <a:ext cx="8229600" cy="916920"/>
          </a:xfrm>
          <a:prstGeom prst="rect">
            <a:avLst/>
          </a:prstGeom>
          <a:solidFill>
            <a:srgbClr val="f8f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RFC6145: The IPv6 addresses in the ICMPv6 header may not be IPv4-translatable addresses. … A mechanism by which the translator can instead do stateless translation is left for future wor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6FD6-2F4C-407B-B9C7-171053B7CF9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quirement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5257440"/>
            <a:ext cx="8305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uRPF </a:t>
            </a:r>
            <a:r>
              <a:rPr b="0" lang="zh-CN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 cannot use RFC1918 addr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IPv4 address depletion </a:t>
            </a:r>
            <a:r>
              <a:rPr b="0" lang="zh-CN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 hard to use public IPv4 addr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Cloud"/>
          <p:cNvSpPr/>
          <p:nvPr/>
        </p:nvSpPr>
        <p:spPr>
          <a:xfrm>
            <a:off x="5029200" y="2209680"/>
            <a:ext cx="2362320" cy="1422360"/>
          </a:xfrm>
          <a:prstGeom prst="pie">
            <a:avLst/>
          </a:prstGeom>
          <a:solidFill>
            <a:srgbClr val="a0fec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Cloud"/>
          <p:cNvSpPr/>
          <p:nvPr/>
        </p:nvSpPr>
        <p:spPr>
          <a:xfrm>
            <a:off x="1523880" y="2209680"/>
            <a:ext cx="2362320" cy="1422360"/>
          </a:xfrm>
          <a:prstGeom prst="pie">
            <a:avLst/>
          </a:prstGeom>
          <a:solidFill>
            <a:srgbClr val="fda1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295280" y="289548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2666880"/>
            <a:ext cx="533160" cy="381240"/>
          </a:xfrm>
          <a:prstGeom prst="cube">
            <a:avLst>
              <a:gd name="adj" fmla="val 25000"/>
            </a:avLst>
          </a:prstGeom>
          <a:solidFill>
            <a:srgbClr val="f8ff9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L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computr2"/>
          <p:cNvSpPr/>
          <p:nvPr/>
        </p:nvSpPr>
        <p:spPr>
          <a:xfrm>
            <a:off x="685800" y="2666880"/>
            <a:ext cx="746280" cy="5875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computr2"/>
          <p:cNvSpPr/>
          <p:nvPr/>
        </p:nvSpPr>
        <p:spPr>
          <a:xfrm>
            <a:off x="7543800" y="2666880"/>
            <a:ext cx="746280" cy="5875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19920" y="2666880"/>
            <a:ext cx="380880" cy="376200"/>
          </a:xfrm>
          <a:prstGeom prst="can">
            <a:avLst>
              <a:gd name="adj" fmla="val 25000"/>
            </a:avLst>
          </a:prstGeom>
          <a:solidFill>
            <a:srgbClr val="f8ff9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057400" y="2666880"/>
            <a:ext cx="380880" cy="376200"/>
          </a:xfrm>
          <a:prstGeom prst="can">
            <a:avLst>
              <a:gd name="adj" fmla="val 25000"/>
            </a:avLst>
          </a:prstGeom>
          <a:solidFill>
            <a:srgbClr val="f8ff9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4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828800"/>
            <a:ext cx="1447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Pv4-translatable add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638680" y="1447920"/>
            <a:ext cx="1676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IPv4-translatable add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08400" y="2209680"/>
            <a:ext cx="72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1.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386480" y="2209680"/>
            <a:ext cx="157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2001:db8::2.2.2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89160" y="1828800"/>
            <a:ext cx="112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2001:db8::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048120" y="2666880"/>
            <a:ext cx="380880" cy="376200"/>
          </a:xfrm>
          <a:prstGeom prst="can">
            <a:avLst>
              <a:gd name="adj" fmla="val 25000"/>
            </a:avLst>
          </a:prstGeom>
          <a:solidFill>
            <a:srgbClr val="f8ff9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4 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676520" y="3809880"/>
            <a:ext cx="4571640" cy="1038600"/>
            <a:chOff x="1676520" y="3809880"/>
            <a:chExt cx="4571640" cy="1038600"/>
          </a:xfrm>
        </p:grpSpPr>
        <p:sp>
          <p:nvSpPr>
            <p:cNvPr id="93" name=""/>
            <p:cNvSpPr/>
            <p:nvPr/>
          </p:nvSpPr>
          <p:spPr>
            <a:xfrm flipH="1">
              <a:off x="3200040" y="4038480"/>
              <a:ext cx="30481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1676520" y="4495680"/>
              <a:ext cx="266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4495320" y="4495680"/>
              <a:ext cx="1676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801680" y="4572000"/>
              <a:ext cx="1063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CMPv6 PT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202200" y="4572000"/>
              <a:ext cx="901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CMP PT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404800" y="380988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nsolas"/>
                </a:rPr>
                <a:t>ICMP: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654080" y="3809880"/>
              <a:ext cx="1404360" cy="398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333399"/>
                  </a:solidFill>
                  <a:latin typeface="Arial"/>
                </a:rPr>
                <a:t>dst=2001:db8::1.1.1.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333399"/>
                  </a:solidFill>
                  <a:latin typeface="Arial"/>
                </a:rPr>
                <a:t>src=2001:db8::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434760" y="3809880"/>
              <a:ext cx="915120" cy="398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333399"/>
                  </a:solidFill>
                  <a:latin typeface="Arial"/>
                </a:rPr>
                <a:t>dst=1.1.1.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333399"/>
                  </a:solidFill>
                  <a:latin typeface="Arial"/>
                </a:rPr>
                <a:t>srct=10.0.0.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4495680" y="2895480"/>
            <a:ext cx="0" cy="175284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248520" y="2971800"/>
            <a:ext cx="0" cy="175248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7395-65AC-483F-919B-51A94359515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quirement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5562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Pv4 recipient of the ICMP message should be able to distinguish between different IPv6 ICMPv6 origination </a:t>
            </a: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needs a poo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2792520" y="3657600"/>
            <a:ext cx="2008080" cy="307080"/>
            <a:chOff x="2792520" y="3657600"/>
            <a:chExt cx="2008080" cy="307080"/>
          </a:xfrm>
        </p:grpSpPr>
        <p:sp>
          <p:nvSpPr>
            <p:cNvPr id="106" name=""/>
            <p:cNvSpPr/>
            <p:nvPr/>
          </p:nvSpPr>
          <p:spPr>
            <a:xfrm flipH="1">
              <a:off x="3809880" y="3809880"/>
              <a:ext cx="9907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792520" y="3657600"/>
              <a:ext cx="92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nsolas"/>
                </a:rPr>
                <a:t>3.3.3.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92520" y="3886200"/>
            <a:ext cx="2388960" cy="307080"/>
            <a:chOff x="2792520" y="3886200"/>
            <a:chExt cx="2388960" cy="307080"/>
          </a:xfrm>
        </p:grpSpPr>
        <p:sp>
          <p:nvSpPr>
            <p:cNvPr id="109" name=""/>
            <p:cNvSpPr/>
            <p:nvPr/>
          </p:nvSpPr>
          <p:spPr>
            <a:xfrm flipH="1">
              <a:off x="3809880" y="4038480"/>
              <a:ext cx="13716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792520" y="3886200"/>
              <a:ext cx="92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nsolas"/>
                </a:rPr>
                <a:t>3.3.3.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2792520" y="4114800"/>
            <a:ext cx="2769840" cy="307080"/>
            <a:chOff x="2792520" y="4114800"/>
            <a:chExt cx="2769840" cy="307080"/>
          </a:xfrm>
        </p:grpSpPr>
        <p:sp>
          <p:nvSpPr>
            <p:cNvPr id="112" name=""/>
            <p:cNvSpPr/>
            <p:nvPr/>
          </p:nvSpPr>
          <p:spPr>
            <a:xfrm flipH="1">
              <a:off x="3809520" y="4267080"/>
              <a:ext cx="17528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92520" y="4114800"/>
              <a:ext cx="92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nsolas"/>
                </a:rPr>
                <a:t>3.3.3.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2792520" y="4343400"/>
            <a:ext cx="3150720" cy="307080"/>
            <a:chOff x="2792520" y="4343400"/>
            <a:chExt cx="3150720" cy="307080"/>
          </a:xfrm>
        </p:grpSpPr>
        <p:sp>
          <p:nvSpPr>
            <p:cNvPr id="115" name=""/>
            <p:cNvSpPr/>
            <p:nvPr/>
          </p:nvSpPr>
          <p:spPr>
            <a:xfrm flipH="1">
              <a:off x="3809520" y="4495680"/>
              <a:ext cx="21337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792520" y="4343400"/>
              <a:ext cx="92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nsolas"/>
                </a:rPr>
                <a:t>3.3.3.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2792520" y="4572000"/>
            <a:ext cx="3531600" cy="307080"/>
            <a:chOff x="2792520" y="4572000"/>
            <a:chExt cx="3531600" cy="307080"/>
          </a:xfrm>
        </p:grpSpPr>
        <p:sp>
          <p:nvSpPr>
            <p:cNvPr id="118" name=""/>
            <p:cNvSpPr/>
            <p:nvPr/>
          </p:nvSpPr>
          <p:spPr>
            <a:xfrm flipH="1">
              <a:off x="3809520" y="4724280"/>
              <a:ext cx="25146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792520" y="4572000"/>
              <a:ext cx="92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nsolas"/>
                </a:rPr>
                <a:t>3.3.3.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2792520" y="4800600"/>
            <a:ext cx="3913200" cy="307080"/>
            <a:chOff x="2792520" y="4800600"/>
            <a:chExt cx="3913200" cy="307080"/>
          </a:xfrm>
        </p:grpSpPr>
        <p:sp>
          <p:nvSpPr>
            <p:cNvPr id="121" name=""/>
            <p:cNvSpPr/>
            <p:nvPr/>
          </p:nvSpPr>
          <p:spPr>
            <a:xfrm flipH="1">
              <a:off x="3809880" y="4952880"/>
              <a:ext cx="28958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792520" y="4800600"/>
              <a:ext cx="92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nsolas"/>
                </a:rPr>
                <a:t>3.3.3.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914400" y="2057400"/>
            <a:ext cx="7345440" cy="3124080"/>
            <a:chOff x="914400" y="2057400"/>
            <a:chExt cx="7345440" cy="3124080"/>
          </a:xfrm>
        </p:grpSpPr>
        <p:grpSp>
          <p:nvGrpSpPr>
            <p:cNvPr id="124" name=""/>
            <p:cNvGrpSpPr/>
            <p:nvPr/>
          </p:nvGrpSpPr>
          <p:grpSpPr>
            <a:xfrm>
              <a:off x="914400" y="2057400"/>
              <a:ext cx="7345440" cy="2895480"/>
              <a:chOff x="914400" y="2057400"/>
              <a:chExt cx="7345440" cy="2895480"/>
            </a:xfrm>
          </p:grpSpPr>
          <p:grpSp>
            <p:nvGrpSpPr>
              <p:cNvPr id="125" name=""/>
              <p:cNvGrpSpPr/>
              <p:nvPr/>
            </p:nvGrpSpPr>
            <p:grpSpPr>
              <a:xfrm>
                <a:off x="914400" y="2057400"/>
                <a:ext cx="7345440" cy="1477800"/>
                <a:chOff x="914400" y="2057400"/>
                <a:chExt cx="7345440" cy="1477800"/>
              </a:xfrm>
            </p:grpSpPr>
            <p:sp>
              <p:nvSpPr>
                <p:cNvPr id="126" name="Cloud"/>
                <p:cNvSpPr/>
                <p:nvPr/>
              </p:nvSpPr>
              <p:spPr>
                <a:xfrm>
                  <a:off x="914400" y="2057400"/>
                  <a:ext cx="3029040" cy="1422360"/>
                </a:xfrm>
                <a:prstGeom prst="pie">
                  <a:avLst/>
                </a:prstGeom>
                <a:solidFill>
                  <a:srgbClr val="fda1f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Cloud"/>
                <p:cNvSpPr/>
                <p:nvPr/>
              </p:nvSpPr>
              <p:spPr>
                <a:xfrm>
                  <a:off x="4651200" y="2112840"/>
                  <a:ext cx="3608640" cy="1422360"/>
                </a:xfrm>
                <a:prstGeom prst="pie">
                  <a:avLst/>
                </a:prstGeom>
                <a:solidFill>
                  <a:srgbClr val="a0fecb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1751040" y="2836800"/>
                  <a:ext cx="5283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4651200" y="2725560"/>
                  <a:ext cx="258840" cy="223920"/>
                </a:xfrm>
                <a:prstGeom prst="can">
                  <a:avLst>
                    <a:gd name="adj" fmla="val 25000"/>
                  </a:avLst>
                </a:prstGeom>
                <a:solidFill>
                  <a:srgbClr val="f8ff9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7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4006800" y="2670120"/>
                  <a:ext cx="452520" cy="3351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8ff9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VI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computr2"/>
                <p:cNvSpPr/>
                <p:nvPr/>
              </p:nvSpPr>
              <p:spPr>
                <a:xfrm>
                  <a:off x="1428840" y="2558880"/>
                  <a:ext cx="745920" cy="587520"/>
                </a:xfrm>
                <a:prstGeom prst="pi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H4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computr2"/>
                <p:cNvSpPr/>
                <p:nvPr/>
              </p:nvSpPr>
              <p:spPr>
                <a:xfrm>
                  <a:off x="6842160" y="2558880"/>
                  <a:ext cx="745920" cy="587520"/>
                </a:xfrm>
                <a:prstGeom prst="pi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H6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5038560" y="2725560"/>
                  <a:ext cx="257400" cy="223920"/>
                </a:xfrm>
                <a:prstGeom prst="can">
                  <a:avLst>
                    <a:gd name="adj" fmla="val 25000"/>
                  </a:avLst>
                </a:prstGeom>
                <a:solidFill>
                  <a:srgbClr val="f8ff9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8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5424480" y="2725560"/>
                  <a:ext cx="258840" cy="223920"/>
                </a:xfrm>
                <a:prstGeom prst="can">
                  <a:avLst>
                    <a:gd name="adj" fmla="val 25000"/>
                  </a:avLst>
                </a:prstGeom>
                <a:solidFill>
                  <a:srgbClr val="f8ff9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9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5810400" y="2725560"/>
                  <a:ext cx="258480" cy="223920"/>
                </a:xfrm>
                <a:prstGeom prst="can">
                  <a:avLst>
                    <a:gd name="adj" fmla="val 25000"/>
                  </a:avLst>
                </a:prstGeom>
                <a:solidFill>
                  <a:srgbClr val="f8ff9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0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6199200" y="2725560"/>
                  <a:ext cx="258840" cy="223920"/>
                </a:xfrm>
                <a:prstGeom prst="can">
                  <a:avLst>
                    <a:gd name="adj" fmla="val 25000"/>
                  </a:avLst>
                </a:prstGeom>
                <a:solidFill>
                  <a:srgbClr val="f8ff9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1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6585120" y="2725560"/>
                  <a:ext cx="258480" cy="223920"/>
                </a:xfrm>
                <a:prstGeom prst="can">
                  <a:avLst>
                    <a:gd name="adj" fmla="val 25000"/>
                  </a:avLst>
                </a:prstGeom>
                <a:solidFill>
                  <a:srgbClr val="f8ff9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2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621240" y="2725560"/>
                  <a:ext cx="257040" cy="223920"/>
                </a:xfrm>
                <a:prstGeom prst="can">
                  <a:avLst>
                    <a:gd name="adj" fmla="val 25000"/>
                  </a:avLst>
                </a:prstGeom>
                <a:solidFill>
                  <a:srgbClr val="f8ff9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233880" y="2725560"/>
                  <a:ext cx="258480" cy="223920"/>
                </a:xfrm>
                <a:prstGeom prst="can">
                  <a:avLst>
                    <a:gd name="adj" fmla="val 25000"/>
                  </a:avLst>
                </a:prstGeom>
                <a:solidFill>
                  <a:srgbClr val="f8ff9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2911320" y="2725560"/>
                  <a:ext cx="258840" cy="223920"/>
                </a:xfrm>
                <a:prstGeom prst="can">
                  <a:avLst>
                    <a:gd name="adj" fmla="val 25000"/>
                  </a:avLst>
                </a:prstGeom>
                <a:solidFill>
                  <a:srgbClr val="f8ff9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2525760" y="2725560"/>
                  <a:ext cx="258840" cy="223920"/>
                </a:xfrm>
                <a:prstGeom prst="can">
                  <a:avLst>
                    <a:gd name="adj" fmla="val 25000"/>
                  </a:avLst>
                </a:prstGeom>
                <a:solidFill>
                  <a:srgbClr val="f8ff9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2138400" y="2725560"/>
                  <a:ext cx="258840" cy="223920"/>
                </a:xfrm>
                <a:prstGeom prst="can">
                  <a:avLst>
                    <a:gd name="adj" fmla="val 25000"/>
                  </a:avLst>
                </a:prstGeom>
                <a:solidFill>
                  <a:srgbClr val="f8ff9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3" name=""/>
              <p:cNvSpPr/>
              <p:nvPr/>
            </p:nvSpPr>
            <p:spPr>
              <a:xfrm>
                <a:off x="4800600" y="2819520"/>
                <a:ext cx="0" cy="914400"/>
              </a:xfrm>
              <a:prstGeom prst="line">
                <a:avLst/>
              </a:prstGeom>
              <a:ln w="9360">
                <a:solidFill>
                  <a:srgbClr val="ff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181480" y="2819520"/>
                <a:ext cx="0" cy="1218960"/>
              </a:xfrm>
              <a:prstGeom prst="line">
                <a:avLst/>
              </a:prstGeom>
              <a:ln w="9360">
                <a:solidFill>
                  <a:srgbClr val="ff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562720" y="2819520"/>
                <a:ext cx="0" cy="1447560"/>
              </a:xfrm>
              <a:prstGeom prst="line">
                <a:avLst/>
              </a:prstGeom>
              <a:ln w="9360">
                <a:solidFill>
                  <a:srgbClr val="ff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5943600" y="2819520"/>
                <a:ext cx="0" cy="1676160"/>
              </a:xfrm>
              <a:prstGeom prst="line">
                <a:avLst/>
              </a:prstGeom>
              <a:ln w="9360">
                <a:solidFill>
                  <a:srgbClr val="ff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324480" y="2819520"/>
                <a:ext cx="0" cy="1981080"/>
              </a:xfrm>
              <a:prstGeom prst="line">
                <a:avLst/>
              </a:prstGeom>
              <a:ln w="9360">
                <a:solidFill>
                  <a:srgbClr val="ff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705720" y="2819520"/>
                <a:ext cx="0" cy="2133360"/>
              </a:xfrm>
              <a:prstGeom prst="line">
                <a:avLst/>
              </a:prstGeom>
              <a:ln w="9360">
                <a:solidFill>
                  <a:srgbClr val="ff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5943600" y="3124080"/>
                <a:ext cx="0" cy="1371600"/>
              </a:xfrm>
              <a:prstGeom prst="line">
                <a:avLst/>
              </a:prstGeom>
              <a:ln w="9360">
                <a:solidFill>
                  <a:srgbClr val="ff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0" name=""/>
            <p:cNvSpPr/>
            <p:nvPr/>
          </p:nvSpPr>
          <p:spPr>
            <a:xfrm>
              <a:off x="4191120" y="2819520"/>
              <a:ext cx="0" cy="236196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3049560" y="403848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cc"/>
                </a:solidFill>
                <a:latin typeface="Arial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A3C3-CD0D-4F0A-8424-17C0349A0AE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ommend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mmend to drawing an IPv4 /24 prefix from the IANA Special Purpose Address Registry as a "Well-Known Prefix" for use by IPv4/IPv6 translators for the purpose of mapping otherwise untranslatable IPv6 source addresses of ICMPv6 messages to IPv4 ICMP messag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hese addresses are for u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s the source address of ICMP pac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Not as a destination address for any pac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2ED8-87EC-44B3-B560-E5384BA9B71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pping Algorith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an IPv4 /24 prefix is allocated to represent the source address of ICMP, the </a:t>
            </a: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least-significant by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n be generated using one of the following algorith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Random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py the "Hop Count" in the IPv6 header of the ICMPv6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Hashing of the IPv6 addres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election of the algorithm SHOULD be a configuration function in the IPv4/IPv6 transla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May not generate subnet identifier or broadcast addr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9470-D7CA-42BF-AF20-85F0519DD6E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uting Consider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As packets passing through the public network need to pass through conventional packet filters, including uRPF filters [RFC3704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The assigned address may be used in routing advertis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Such routing advertisements are non-exclusive and should be accepted from any originating AS in an anycast fash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C880-1164-4519-8B8D-9BD89026C80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urity Considera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 of an address for source addresses in ICMP  error packets is considered "safe" in so far a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CMP packets are not intended to generate responses directed to the source addre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 it is possible to use this address as a means of gaining anonymity when launching a denial of service attacks by using this address as the source address for other forms of malicious traffi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acket firewall filters should be configured discar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l non-ICMP packets that use the IANA-assigned /24 network as a source add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l packets that use the IANA-assigned /24 network as a destination addr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C076-9001-4CEB-9CE7-1AD3DBCBFF6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ANA Consider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fix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92.70.192.0/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ption: To be used in the context of generating an IPv4 source address for mapped ICMPv6 packets being passed through a stateless IPv4/IPv6 transla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gin: 2011-06-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: Ne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rpose: Stateless ICMPv6/ICMP trans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pe: Addresses from the assigned address prefix are intended to be used as source addresses and not as destination addresses in the context of the public net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A744-00DA-4F77-92CE-FCE5993EF93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1T00:22:08Z</dcterms:created>
  <dc:creator>lenovo</dc:creator>
  <dc:description/>
  <dc:language>en-US</dc:language>
  <cp:lastModifiedBy>xing</cp:lastModifiedBy>
  <dcterms:modified xsi:type="dcterms:W3CDTF">2011-11-13T09:12:06Z</dcterms:modified>
  <cp:revision>1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