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9AAAF-94FF-491D-8424-1DA446E1DD7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FADF5-9A25-40B2-B9CE-28B19D3F16D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C0503-40D7-49DD-AB78-1C7A323622E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521C4-C11C-4542-8541-F49DB9265D1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664B5-7A51-45A2-8A82-03BDB4BB950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F5EB0-8D44-4054-89BA-17E2150EE39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005F3-92C7-4272-ABED-E9D96F51FD1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83214-9FF7-4C02-987E-E3B43608CC5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411D3-BF69-4D92-8B01-4571DCC24F5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B3C38-B35D-4C98-B172-1078611FCD9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47A02-5803-4218-9B4C-A2051AA59D4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32B71-67BF-4DC2-8AEF-CCD27BFA2AA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4183-7751-48EF-B040-DC72755E5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F4F1-2141-45F2-A1D1-47D63761A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27CE-896A-4DFE-8839-4A673A3E2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45BF-A246-435C-9764-0D455D86F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C783-EDF3-4DDD-B069-15D054C4F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D01F-4506-4A73-89CB-4ABE62E06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9A88-B7B8-4283-8E5D-8A1AA22F2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F7AC-77B9-4D6E-B6E3-B6F32F5F6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60AC-EA13-428B-A3BF-BAFD4B1C6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1B87-2C6E-43B4-8A6C-B9C3E7CF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E9A3-3F72-436F-876E-0D19792B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D54C-8DF4-4DB1-AD87-7A342573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3EA82-793E-44BC-890A-405007791B6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025C9-6F3C-412B-8666-978C55F8BB1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tools.ietf.org/html/draft-liu-v6ops-ula-usage-analysis-00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126828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alysis and recomme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 the ULA usage</a:t>
            </a:r>
            <a:br>
              <a:rPr sz="4400"/>
            </a:b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raft-liu-v6ops-ula-usage-analysis-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5280" y="4149720"/>
            <a:ext cx="83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Bing Liu(speaker),  Sheng Jia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ETF 82@Taip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Nov 20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22FA8-8F12-4C50-BCBF-63B9DC3FA855}" type="slidenum">
              <a:rPr b="1" lang="zh-CN" sz="1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Special Use Cases-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6000"/>
          </a:bodyPr>
          <a:p>
            <a:pPr marL="123480" indent="-123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as identifi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23480" indent="-123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.g. RFC6124 BTMM, using ULA as transport-layer identifi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23480" indent="-123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ems ULA is suitable to be identifi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23480" indent="-1234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Pv6-compliant, easy to be grabbed from the sta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3480" indent="-1234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(quasi)uniqueness to avoid collision in most of the c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3480" indent="-1234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table, assigned to the interface, no need for the application to maintain 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3480" indent="-123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 may have privacy issu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541FC-83FB-4A56-9156-E8C0B713B490}" type="slidenum">
              <a:rPr b="1" lang="zh-CN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Thank you!</a:t>
            </a:r>
            <a:br>
              <a:rPr sz="54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mments are appreciated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dopted as a WG item?</a:t>
            </a:r>
            <a:br>
              <a:rPr sz="3600"/>
            </a:br>
            <a:br>
              <a:rPr sz="3600"/>
            </a:b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Bing Liu, Sheng Jiang</a:t>
            </a:r>
            <a:br>
              <a:rPr sz="20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Nov 17-2011, @Taipe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灯片编号占位符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93D48-8AA6-4C7C-AD10-AC8E30E091C5}" type="slidenum">
              <a:rPr b="1" lang="zh-CN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 of this draf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LA (RFC4193) defined in 2005, how to use it seems un-documented and controvers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are explicit requirements of using ULA in some scenarios (e.g. renumbering, homenet). The use cases are not scenario-specific only, they involve common ULA usag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 we think it is worth to make comprehensive analysis, and try to make some recommendations according to the discu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51514-E1EC-4F4C-B005-CB2C826745EC}" type="slidenum">
              <a:rPr b="1" lang="zh-CN" sz="1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LA’s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C00::/7  pref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0bit(or varieties) Global ID to provide (quasi)uniqu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ependent address sp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routed globally, only loc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F6200-9860-4212-B805-91B08D78E0B2}" type="slidenum">
              <a:rPr b="1" lang="zh-CN" sz="1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eneral Use C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LA-only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hosts only configured with UL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- Isolated net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- Connected net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LA + Global address(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ome special Use C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vate rou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64 pref6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ssion identif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99BA7-AB8F-4DCA-BF31-91BB7425AC55}" type="slidenum">
              <a:rPr b="1" lang="zh-CN" sz="1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LA-on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olated net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traightforward way with minimal administrative cost for address provi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uitable for close systems, e.g. cars, plane, buildings, which don’t intend to connect to inter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utomatic ULA provision is nee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14FE6-43A3-4A09-A36A-AF2C956FA9AB}" type="slidenum">
              <a:rPr b="1" lang="zh-CN" sz="1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LA-on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nected networ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Using IPv6 NAT (e.g. NPTv6-rfc6296), rfc1918 mo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voiding renumbering from upli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Better security? (old argument about IP leaking, topology hid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nheriting NAT issues (end-to-end transparency, global multicast .et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Using Prox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No IP layer connectiv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nsure high level security; easy to monitor/record/audit user’s behavi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DBEAE-D7AE-48A8-BF13-0CD0605E11B2}" type="slidenum">
              <a:rPr b="1" lang="zh-CN" sz="1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LA+Glob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LA for local communication, while Global for outside. Address selection policy is need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nefit to renumbering: Stable local communication while renumbering from uplin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gument of operation complexity and cost (may be a common worry about running multiple prefixes in IPv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243ED-7B06-4590-B85B-50DE671E839F}" type="slidenum">
              <a:rPr b="1" lang="zh-CN" sz="1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Special Use Cases-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239480"/>
            <a:ext cx="8229600" cy="19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vacy routing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(Fred Baker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raft-baker-v6ops-b2b-private-routing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Business to business private link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End-to-end transpar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2195640" y="3068640"/>
            <a:ext cx="5010120" cy="3076560"/>
          </a:xfrm>
          <a:prstGeom prst="rect">
            <a:avLst/>
          </a:prstGeom>
          <a:ln w="0">
            <a:noFill/>
          </a:ln>
        </p:spPr>
      </p:pic>
      <p:sp>
        <p:nvSpPr>
          <p:cNvPr id="72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0C930-EE2B-4829-B946-BDA952D8F94C}" type="slidenum">
              <a:rPr b="1" lang="zh-CN" sz="1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Special Use Cases-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23948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d as NAT64 pref64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(proposed by Cameron Byrn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ensures that only local systems can use the NAT64 transl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helps clearly identify traffic that is locally contain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Being  really used in T-Mobile U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f64 shorter than /48 violate the 40bit Global ID of ULA, not recommended to us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2556000" y="3429000"/>
            <a:ext cx="4319640" cy="3375000"/>
          </a:xfrm>
          <a:prstGeom prst="rect">
            <a:avLst/>
          </a:prstGeom>
          <a:ln w="0">
            <a:noFill/>
          </a:ln>
        </p:spPr>
      </p:pic>
      <p:sp>
        <p:nvSpPr>
          <p:cNvPr id="76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2CF93-9B3A-47AB-A79F-3D75982E873E}" type="slidenum">
              <a:rPr b="1" lang="zh-CN" sz="1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8T02:34:31Z</dcterms:created>
  <dc:creator>Leo Liu(bing)</dc:creator>
  <dc:description/>
  <dc:language>en-US</dc:language>
  <cp:lastModifiedBy>china</cp:lastModifiedBy>
  <dcterms:modified xsi:type="dcterms:W3CDTF">2011-11-13T12:05:02Z</dcterms:modified>
  <cp:revision>514</cp:revision>
  <dc:subject/>
  <dc:title>IPv6 Site Renumbering  Gap Analysi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s_pID_725343">
    <vt:lpwstr>(2)UoXAgQG+tAHzcdyLCb13An2zDndc8D16FDJXvyq97dAePPDp+c62biRb+hj4Ex4zui+N+2/A
qNZhh9i7WMdvGWpNli8GEE7q25Xkks1toFSRlPQJVcAKRwjzepoEDVvBpJ+Je+rhYgyBcoG5
D5U23UJFptPZkAHUDFXhd737Ji7Qo9YNX6jcvFpsiDI83i34ZIC0weAS1yvsTl9gAZnm/U5/
NAGPMPr0uM3TPCA+FmPMb</vt:lpwstr>
  </property>
  <property fmtid="{D5CDD505-2E9C-101B-9397-08002B2CF9AE}" pid="3" name="_ms_pID_7253431">
    <vt:lpwstr>HvoYh1RVab6fRtvxlqfkBMHDZH3Ajqzb4+GIy4a4gh0GAax6Q92
E+XaKWHQYXwiLs9dKujq4EY9wtKxi/9IjZL0Krr6EYGuMi57mLyXTLCvVj3PY+jtDuueVap8
D5g=</vt:lpwstr>
  </property>
  <property fmtid="{D5CDD505-2E9C-101B-9397-08002B2CF9AE}" pid="4" name="sflag">
    <vt:lpwstr>1320804786</vt:lpwstr>
  </property>
</Properties>
</file>