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8AAE-DD2A-404D-B495-964E22F940F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8626-E75A-4A26-912C-B61C8C47E1B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8C44-789F-47BA-86C9-B7AA2D40857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FD10-F6D4-4E2F-97B4-661EDDE7CCA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153F-6F8A-499D-9BD4-138C5F9F775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4574-D5FE-4417-9A08-A2CCFE7DAC5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1442-A2EB-402E-964D-FB27736B548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56F2-0633-420E-AAEA-3DACF494ECA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BD6E-84A3-45AD-B877-E47D339C25A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1CDA-85EC-4508-A5DF-9985F96A93C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EA8C-5A93-48BD-9D78-F027288AD62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0BA4-F949-4EF1-B00E-B6B7EDEB09C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F1C7-CA77-4AA1-B26C-58DAAD214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C470-3D54-4AFD-9D21-B672A2DD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D161-E038-4A01-B2A4-52CB92BE5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0023-78AA-4757-92FD-11C5C128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9E98-D03C-431E-BCBE-50012EFB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120B-FF59-4BAF-AE50-402B705F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31E3-9FE9-463B-A52B-A6A833C6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0488-2634-459C-8C11-79AD5F9F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1956-51D9-4221-B1E0-F7CE2E05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F0EF-1218-4D94-9263-9CDD1647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8CB0-2E90-49FD-8BAD-56C30805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A124-E79D-44AA-9541-A9BB82C3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0795-6852-49BB-BCC2-579D913FD95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3732-F806-41E6-8E43-7998209132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liu-v6ops-ula-usage-analysis-00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12682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lysis and recomme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the ULA usage</a:t>
            </a:r>
            <a:br>
              <a:rPr sz="44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raft-liu-v6ops-ula-usage-analysis-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4149720"/>
            <a:ext cx="83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Bing Liu(speaker),  Sheng Jia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ETF 82@Taip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ov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EE66-CDAF-4B5A-B138-329D44D1643F}" type="slidenum">
              <a:rPr b="1" lang="zh-CN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Special Use Cases-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123480" indent="-123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as identif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 RFC6124 BTMM, using ULA as transport-layer identif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ms ULA is suitable to be identif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Pv6-compliant, easy to be grabbed from the sta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(quasi)uniqueness to avoid collision in most of the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table, assigned to the interface, no need for the application to maintain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may have privacy issu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E339-FB2A-4022-B92B-3DA9A2BD71AE}" type="slidenum">
              <a:rPr b="1" lang="zh-CN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!</a:t>
            </a:r>
            <a:br>
              <a:rPr sz="54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ments are appreciated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dopted as a WG item?</a:t>
            </a:r>
            <a:br>
              <a:rPr sz="3600"/>
            </a:br>
            <a:br>
              <a:rPr sz="3600"/>
            </a:b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Bing Liu, Sheng Jiang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ov 17-2011, @Taipe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灯片编号占位符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F76D-BEAB-4FA2-A394-153AEFBEC4C4}" type="slidenum">
              <a:rPr b="1" lang="zh-CN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 of this dra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LA (RFC4193) defined in 2005, how to use it seems un-documented and controvers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explicit requirements of using ULA in some scenarios (e.g. renumbering, homenet). The use cases are not scenario-specific only, they involve common ULA usag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we think it is worth to make comprehensive analysis, and try to make some recommendations according to the discu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C798-F7D0-43B1-BF0B-4EECFA094D58}" type="slidenum">
              <a:rPr b="1" lang="zh-CN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LA’s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C00::/7  pref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0bit(or varieties) Global ID to provide (quasi)uniqu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pendent address 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routed globally, only lo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0033-36A8-49B7-97E5-51F242CA3CB9}" type="slidenum">
              <a:rPr b="1" lang="zh-CN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neral Use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LA-only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hosts only configured with UL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- Isolated net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- Connected net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LA + Global address(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me special Use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vate rou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64 pref6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ssion identif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B0B3-6BBA-40AD-B13F-C16CC990959C}" type="slidenum">
              <a:rPr b="1" lang="zh-CN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LA-on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olated net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traightforward way with minimal administrative cost for address pro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uitable for close systems, e.g. cars, plane, buildings, which don’t intend to connect to 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utomatic ULA provision is nee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AB3E-6E5C-4AD1-8CDA-1B47128D1547}" type="slidenum">
              <a:rPr b="1" lang="zh-CN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LA-on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nected networ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Using IPv6 NAT (e.g. NPTv6-rfc6296), rfc1918 mo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voiding renumbering from upli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etter security? (old argument about IP leaking, topology hid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heriting NAT issues (end-to-end transparency, global multicast .et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Using Prox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o IP layer conne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nsure high level security; easy to monitor/record/audit user’s behavi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0A07-992A-4BB2-B958-F93296D0E61D}" type="slidenum">
              <a:rPr b="1" lang="zh-CN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LA+Glob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LA for local communication, while Global for outside. Address selection policy is need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nefit to renumbering: Stable local communication while renumbering from upli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gument of operation complexity and cost (may be a common worry about running multiple prefixes in IPv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21A2-2AF2-4057-83C4-0A3EDE935069}" type="slidenum">
              <a:rPr b="1" lang="zh-CN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Special Use Cases-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239480"/>
            <a:ext cx="822960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vacy routing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Fred Baker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raft-baker-v6ops-b2b-private-routing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Business to business private lin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nd-to-end transpar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195640" y="3068640"/>
            <a:ext cx="5010120" cy="3076560"/>
          </a:xfrm>
          <a:prstGeom prst="rect">
            <a:avLst/>
          </a:prstGeom>
          <a:ln w="0">
            <a:noFill/>
          </a:ln>
        </p:spPr>
      </p:pic>
      <p:sp>
        <p:nvSpPr>
          <p:cNvPr id="72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4539-03B0-404C-864D-146250CCC8F3}" type="slidenum">
              <a:rPr b="1" lang="zh-CN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Special Use Cases-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3948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as NAT64 pref64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(proposed by Cameron Byr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nsures that only local systems can use the NAT64 trans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lps clearly identify traffic that is locally contai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Being  really used in T-Mobile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f64 shorter than /48 violate the 40bit Global ID of ULA, not recommended to u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556000" y="3429000"/>
            <a:ext cx="4319640" cy="3375000"/>
          </a:xfrm>
          <a:prstGeom prst="rect">
            <a:avLst/>
          </a:prstGeom>
          <a:ln w="0">
            <a:noFill/>
          </a:ln>
        </p:spPr>
      </p:pic>
      <p:sp>
        <p:nvSpPr>
          <p:cNvPr id="76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5ED0-8B6E-4935-B89A-13B01100C34C}" type="slidenum">
              <a:rPr b="1" lang="zh-CN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02:34:31Z</dcterms:created>
  <dc:creator>Leo Liu(bing)</dc:creator>
  <dc:description/>
  <dc:language>en-US</dc:language>
  <cp:lastModifiedBy>china</cp:lastModifiedBy>
  <dcterms:modified xsi:type="dcterms:W3CDTF">2011-11-13T12:05:02Z</dcterms:modified>
  <cp:revision>514</cp:revision>
  <dc:subject/>
  <dc:title>IPv6 Site Renumbering  Gap Analy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UoXAgQG+tAHzcdyLCb13An2zDndc8D16FDJXvyq97dAePPDp+c62biRb+hj4Ex4zui+N+2/A
qNZhh9i7WMdvGWpNli8GEE7q25Xkks1toFSRlPQJVcAKRwjzepoEDVvBpJ+Je+rhYgyBcoG5
D5U23UJFptPZkAHUDFXhd737Ji7Qo9YNX6jcvFpsiDI83i34ZIC0weAS1yvsTl9gAZnm/U5/
NAGPMPr0uM3TPCA+FmPMb</vt:lpwstr>
  </property>
  <property fmtid="{D5CDD505-2E9C-101B-9397-08002B2CF9AE}" pid="3" name="_ms_pID_7253431">
    <vt:lpwstr>HvoYh1RVab6fRtvxlqfkBMHDZH3Ajqzb4+GIy4a4gh0GAax6Q92
E+XaKWHQYXwiLs9dKujq4EY9wtKxi/9IjZL0Krr6EYGuMi57mLyXTLCvVj3PY+jtDuueVap8
D5g=</vt:lpwstr>
  </property>
  <property fmtid="{D5CDD505-2E9C-101B-9397-08002B2CF9AE}" pid="4" name="sflag">
    <vt:lpwstr>1320804786</vt:lpwstr>
  </property>
</Properties>
</file>