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0AAB-811D-4647-A27D-DCA224EB7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141B-05D0-4E35-81D0-8F10E4E3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1C8E-0199-47D2-BBBE-659BD4DD8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C743-709D-4B6E-BDDD-E3DC5BDB2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1AAA-957B-4C85-ACBF-D12D4E14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761A-7A2E-41DC-9021-4D2D9DCE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A479-97EB-462C-B2D4-1A1F7464C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A8A1-0499-4D3A-A829-F1CEE53C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8B62-5CB7-4812-AE40-D8E5B121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E09A-7019-4910-84BC-0935701B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E5B9-52D5-41FC-B3CB-69ADBC5B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3128-D737-4727-BA07-CAAE57C8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419052-445D-416C-80C1-8061591192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IPR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4299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nges since   -01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ditorial chang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.    Clarifications to re-enforce that the primary objective is no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     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STN bypass but rather to enable enhanced services such as vid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     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etween domains.  Changed "VoIP" to "SIP" since the focus is no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     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pecifically voic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.  Added reference for new framework docume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4.  Section 5.3:  Added references to other documents as appropri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2200" spc="-1" strike="noStrike">
                <a:solidFill>
                  <a:srgbClr val="000000"/>
                </a:solidFill>
                <a:latin typeface="Calibri"/>
              </a:rPr>
              <a:t>       </a:t>
            </a:r>
            <a:r>
              <a:rPr b="0" lang="nb-NO" sz="2200" spc="-1" strike="noStrike">
                <a:solidFill>
                  <a:srgbClr val="000000"/>
                </a:solidFill>
                <a:latin typeface="Calibri"/>
              </a:rPr>
              <a:t>- e.g., -pvp, -spam,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5.  Moved validation diagrams and text (from 5.3.4) into Valid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     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d caching section (5.3.3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6.  Condensed discussion of spam in section 5.3.3 and updated SP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     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tion in security sec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Calibri"/>
              </a:rPr>
              <a:t>draft-jennings-vipr-overview-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0BA4B3-C83A-4199-92E3-F2ACDBA172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IPR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4299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y Forwar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WG re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particular, security section needs additional consideration – is it complet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opt as a WG documen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Calibri"/>
              </a:rPr>
              <a:t>draft-jennings-vipr-overview-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9399F8-8CF0-44C7-B785-37D1B70C58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04:14:18Z</dcterms:created>
  <dc:creator>Mary Barnes</dc:creator>
  <dc:description/>
  <dc:language>en-US</dc:language>
  <cp:lastModifiedBy>Mary Barnes</cp:lastModifiedBy>
  <dcterms:modified xsi:type="dcterms:W3CDTF">2011-11-15T04:28:26Z</dcterms:modified>
  <cp:revision>2</cp:revision>
  <dc:subject/>
  <dc:title>VIPR Overview</dc:title>
</cp:coreProperties>
</file>