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6BC-71B8-4C30-B9D2-BE96A5E1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3B6-B772-45BD-AFC0-DC73B7C5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12E-E1B7-4884-A385-ECEBBB66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C55-9B19-4723-8A96-AB521B72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D7B-8C48-4C17-ABD5-85E1FBFE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35E-8032-44D1-8351-4144DE8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072-C350-49BC-A406-0CAA90E0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4B3-42C6-404C-90F3-C90E7AD8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5F5-FDC0-4C98-868D-4AFFC01E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907-9A1D-45ED-82A5-05DED89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48E-CE90-4265-94C0-7CFC174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251-3A2E-4B78-BF5D-D8D73D7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47418-4A9D-404D-BF37-9A158C2FF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PR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2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since   -0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itorial chan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   Clarifications to re-enforce that the primary objective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STN bypass but rather to enable enhanced services such as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tween domains.  Changed "VoIP" to "SIP" since the focus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ally voi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 Added reference for new framework doc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 Section 5.3:  Added references to other documents as appropr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nb-NO" sz="2200" spc="-1" strike="noStrike">
                <a:solidFill>
                  <a:srgbClr val="000000"/>
                </a:solidFill>
                <a:latin typeface="Calibri"/>
              </a:rPr>
              <a:t>- e.g., -pvp, -spa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 Moved validation diagrams and text (from 5.3.4) into Valid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aching section (5.3.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 Condensed discussion of spam in section 5.3.3 and updated SP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tion in security s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draft-jennings-vipr-overview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9CE48-A1DD-4EF6-B73C-2D8FEEC84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PR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y Forwar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WG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rticular, security section needs additional consideration – is it comple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 as a WG docu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draft-jennings-vipr-overview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D332A-17DA-49E9-8B41-C863B69E8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4:14:18Z</dcterms:created>
  <dc:creator>Mary Barnes</dc:creator>
  <dc:description/>
  <dc:language>en-US</dc:language>
  <cp:lastModifiedBy>Mary Barnes</cp:lastModifiedBy>
  <dcterms:modified xsi:type="dcterms:W3CDTF">2011-11-15T04:28:26Z</dcterms:modified>
  <cp:revision>2</cp:revision>
  <dc:subject/>
  <dc:title>VIPR Overview</dc:title>
</cp:coreProperties>
</file>